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1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726-A503-4C13-984E-CCF1BE0E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FF79-6E99-4AF2-8BA3-D3C182AD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91D-868F-45C4-BD87-05033D92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A41-8B40-4215-B10E-AA5678D2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85A8-D705-4994-B77B-E72E5FE3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4E59-B7A5-4A70-9BAD-C3499F82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0A02-885B-486B-B18B-B8E9487B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91DB-2BB4-4529-85BC-47120835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EFC6-66B1-4227-8C39-530E6FC3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EFAE-4125-4A5E-81DF-A18226EC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DCE5-061D-4F3A-9576-0DA56A32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33F-AAE7-413B-AF1F-5A019951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7D3D-B1B7-4BD9-A74D-6B6E97A0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350F-54AC-4B0F-91A3-CC0FDF5D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0844-60ED-48E2-B8B9-A94D11C0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853A-6394-4D59-8FE8-0F852939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E2BE-E027-4F49-92D3-3846CE6F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F37-E073-4599-B26A-9EBFD006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353-A148-48B6-95E8-23A2E988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333-0267-4B8D-A236-6DA0E79C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DC3-E52E-4528-8489-6610AA8F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BE1-1A5E-4A9B-81E7-7E4C6C66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976-FAEA-4C2C-8195-19C825B6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56F-43B0-49D3-9530-CE282D22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1E9E-2366-4A3F-A9C3-1147AF217D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0F76-4AB3-45E3-AA84-80000F9BFF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2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4360" y="4292280"/>
            <a:ext cx="7696080" cy="23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олнил: Щербаков Ег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ени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А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: Царева Лариса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37960"/>
            <a:ext cx="8136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ОУ гимназия №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ТОГРАФИИ С ФРО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Мой дед </a:t>
            </a:r>
            <a:br>
              <a:rPr sz="3600"/>
            </a:b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Щербаков Егор Сергеевич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оставе инженерных частей в 1943 – 1945 годах в качестве техника по строительству и содержанию железнодорожных мостов участвовал в восстановлении мостов для бесперебойного обеспечения фрон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днократно находился под авиационными бомбардировк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мел правительственные награды.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30984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Мой двоюродный прадед Нестеров Василий Васильевич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04000" y="1844640"/>
            <a:ext cx="2166840" cy="244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47640" y="1773360"/>
            <a:ext cx="331164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-427320" algn="just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 мой двоюродный прадед, дядя моего дедушки, Нестеров Василий Васильевич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just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ентябре 1939 г. призван на действительную военную службу. Служил на Дальн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just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токе в авиационном батальоне (позднее – дивизии), был командиром отдел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just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аствовал в боях с Квантунской армией. Закончил воевать в июле 1946 г. в звании младшего сержанта. Служил в армии почти семь л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just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1945 г. награжден медалью «За победу над Японией»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just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85 г. – орденом «Отечественной войны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just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фотографии справа моя прабабушка – Василий Васильевич был ее родным братом - и мой дедушка, ему тогда было около трех лет. Фотография, отправленная брату в 1942 году, прошла вместе с ним японскую войну и вернулась в Барнау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948360" y="4365720"/>
            <a:ext cx="1866960" cy="2074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34592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Мой двоюродный прадед Шердаков Николай Васильевич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641680" cy="3240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59280" y="1844640"/>
            <a:ext cx="2624040" cy="3227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867280" y="1844640"/>
            <a:ext cx="2833920" cy="4302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5084640"/>
            <a:ext cx="5616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т солдатский треугольник, адресованный родной сестре, пришел в село Веселовка Челябинской области из госпиталя. Николай Васильевич отправил его 16 декабря 1941 г. из г.Иваново, где находился в госпитале на лечении после ранения под г.Яхрома. Это было его последнее письмо. После выздоровления Николай Васильевич вернулся на фрон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пал без вести в 1942 г. У него была бронь в связи с работой в пожарной части. На войну был призван по заявлению жены Раисы. Остались сиротами две его доче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6165720"/>
            <a:ext cx="316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ердаков Николай Васильевич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906 - 1942 г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Абрамов Владимир Гаврилович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24360" y="1916280"/>
            <a:ext cx="1366920" cy="1984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3405240" cy="4897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79280" y="1844640"/>
            <a:ext cx="3454560" cy="4897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635280" y="3860640"/>
            <a:ext cx="201636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брамов Владимир Гаврилови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2.06.1925 – 14.02.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гражден двенадцатью орденами и медалями, в том числ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рденом Отечественной войны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-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й степе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рденом Отечественной войны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й степе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рденом Славы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й степе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рденом Славы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й степе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едалями за оборону Москвы, за взятие Вены, за победу над Германией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Абрамов Владимир Гаврилович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58920" cy="4302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1844640"/>
            <a:ext cx="3025800" cy="4302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419640" y="191628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184464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19640" y="1844640"/>
            <a:ext cx="259236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троки автобиограф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В ноябре 1941 г. добровольцем ушел на фронт. Участвовал в обороне Москвы на Западном фронте в составе 9-й стрелковой дивизии разведчиком. В марте 1942 г. был отпущен с фронта ввиду непризывного возраста и в связи с контуз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апреля 1943 г. призван в ряды Красной Армии; служил до 29 мая 1946 г. Участвовал в боях на 2-м и 3-м Украинских фронтах в составе 14-й гвардейской воздушно-десантной бригады и 945-го стрелкового полка. В составе указанных частей воевал в Румынии, Венгрии, Австрии, Чехословак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мае 1946 г. в связи с обострением контузии (еще раз был контужен в 1945 г.) был демобилизова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6237360"/>
            <a:ext cx="882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ладимир Гаврилович – единственный из всех, о ком здесь рассказывается, не является кровным родственником – он был вторым мужем моей двоюродной бабушки Якушевой Зои Степановны (с 11.1980 г. по 14.02.1997 г.). Но не рассказать о нем было нельзя – он был нам родным, хотя и не кровным, и биография его заслуживает того, чтобы о ней рассказа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Мои двоюродные деды Максимовы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ихаил Николаевич и Павел Николаевич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2090880" cy="27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3240360" cy="2214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700360" y="1773360"/>
            <a:ext cx="2879640" cy="2171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859280" y="4653000"/>
            <a:ext cx="4114800" cy="2077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627280" y="3933720"/>
            <a:ext cx="651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ксимов Михаил Николаевич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гиб в мае 1945 г. под Берлином. Награжден орденом Слав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епени; 2 мая 1945 г. приказом Сталина за участие в завершении ликвидации группы немецких войск, окруженных юго-восточнее Берлина, объявлена благодар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92360" y="4941720"/>
            <a:ext cx="143856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акси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авел Николаеви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гиб 30.07.1943 г., похоронен в могиле села Ольховка Кур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Они вернулись с войны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236000" y="1844640"/>
            <a:ext cx="1757160" cy="2152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616120" y="4005360"/>
            <a:ext cx="1677960" cy="2663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95280" y="1844640"/>
            <a:ext cx="1581120" cy="2089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284720" y="1844640"/>
            <a:ext cx="2881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кажем детям нашим, расскажем внукам нашим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 том, как в сорок пятом убили мы войну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частникам победы сам чёрт теперь не страшен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ой боевой товарищ, забудь про седи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де мы с тобой встречались? На Первом Белорусском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 столько испытали трагедий и тревог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аким мы подвергались жестоким перегрузкам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Что, может легче к звёздам в ракете дать рыв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 раз во славу фронта гремел салют московский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южетов было много для песен и былин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Любимцем нашим общим был маршал Рокоссовский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 лично маршал Жуков повёл нас на Берли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Чего мы пожелаем сегодня молодёжи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Чтоб каждый был счастливым, чтоб каждый был герой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днако заявляем, что ветераны тоже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Ещё не устарели, ещё годятся в ст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1844640"/>
            <a:ext cx="15825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стеров Василий Васи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5.04.1916 – 18.02.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5013360"/>
            <a:ext cx="172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дведев Борис Васи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07.1918 г.- 27.12.200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4005360"/>
            <a:ext cx="154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Щербаков Егор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.02.1917 г. – 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Они вернулись с войны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1623960" cy="259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215120" y="1844640"/>
            <a:ext cx="1646280" cy="2305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1746000" cy="2054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24000" y="1844640"/>
            <a:ext cx="295272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кушев Николай Трифонови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907 – 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Николая Трифоновича с войны не было писем; он долго не возвращался и после Победы. Родные волновались, часто о нем говорили. Однажды его племянница, которая родилась в 1940 г. и не могла его помнить, рассказала свой сон, в котором дядя вернулся домой с раненой рукой. И, действительно, вскоре пришло от него письмо из госпиталя, что он был полтора года в плену и ранен в ру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2360" y="1844640"/>
            <a:ext cx="2305080" cy="25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еменов Михаил Фед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5.12.1919 – 22.05.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ыл призван в армию в 1937 г., срок службы был 4 года, поэтому сразу попал на войну, откуда был демобилизован только в 1946 г. Имел звание старшего сержанта. Воевал на «Малой земле» под г.Новороссийском. Войну закончил в Прибалт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437000"/>
            <a:ext cx="23036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Кузьмин Иван Васильевич 1923 –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 войны пришел на костылях и с многочисленными ранениями. Должны были ампутировать ногу, но ее удалось сохранить. Был он настолько изранен и слаб, что восстановление шло трудно и долго. После выздоровления женился, родилось два сына и две д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7257960" y="4292640"/>
            <a:ext cx="1616040" cy="2344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292720" y="4292640"/>
            <a:ext cx="19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16360" y="4292640"/>
            <a:ext cx="251964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Абрамов Владимир Гаврил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2.06.1925 г. - 14.02.199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шел на войну добровольцем в 1941 г., когда ему еще не было семнадцати лет. Был разведчиком, под видом собирания милостыни ходил в оккупированных немцами поселениях. Попал в плен, его пытали. Удалось спастись. Позднее воевал в десантных войсках вплоть до окончания войны. Имел много наград за боевые подви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Они погибли, защищая Родину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828800"/>
            <a:ext cx="482436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ердаков Николай Васильевич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дядя моей бабушки) – родился в 1906 г.; воевал под Москвой, ранен под г.Яхрома; пропал без вести в 1942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ксимов Василий Григорьевич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дядя моей бабушки) – родился в 1906 г.; погиб 07.08.1943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ксимов Андрей Григорьевич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дядя моей бабушки) – погиб в 1943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ксимов Павел Николаевич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двоюродный брат моей бабущки) – погиб 30.07.1943 г., похоронен в с.Ольховка Кур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ксимов Михаил Николаевич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двоюродный брат моей бабущки) – погиб в мае 1945 г. под Берлин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ердаков Андрей Иванович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двоюродный брат моей бабушки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ердакова Зоя Ивановн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двоюродная сестра моей бабушки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ердаков Иван Павлович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двоюродный брат моей бабушки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менов Николай Федорович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двоюродный брат моей бабушки) – 15.10.1915 – 1942; был моряком; погиб под г.Калин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менов Павел Федорович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двоюродный брат моей бабушки) – 1924 – 1943 (пропал без ве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ыров Иван Васильевич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двоюродный брат моей бабуш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летин Николай Иванович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брат моей бабушки по отцовской линии)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1912; воевал с начала войны, скончался от тяжелого ранения в грудь в 194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вскоре после возвращения дом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летин Федор Иванович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брат моей бабушки по отцовской линии) – родился в 1918; в составе Сибирской стрелковой дивизии участвовал в разгроме немцев под Москвой; погиб в начале 1942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052960" y="1828800"/>
            <a:ext cx="347040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Они погибли, защищая Родину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224080" cy="280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8360" y="4581360"/>
            <a:ext cx="223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ксимов Василий Григо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.12.1906 г. – 07.08.194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543720" y="1773360"/>
            <a:ext cx="2266920" cy="2735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88000" y="450864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алетин Федор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18-1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419640" y="2852640"/>
            <a:ext cx="2412720" cy="2952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564000" y="602136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ердакова Зоя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713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Герои Великой Отечественной войны </a:t>
            </a: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80000" y="4076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867564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80360" cy="5523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372360" y="465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59280" y="4508640"/>
            <a:ext cx="417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Вспомним всех поимен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Горем вспомним сво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Это нужно не мерт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Это надо живым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Они погибли, защищая Родину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041560" cy="266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564000" y="2852640"/>
            <a:ext cx="2178000" cy="2724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786720" y="1844640"/>
            <a:ext cx="1971360" cy="2521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68360" y="4437000"/>
            <a:ext cx="165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еменов Павел Фед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48360" y="4437000"/>
            <a:ext cx="1727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еменов Николай Фед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5280" y="558972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ыров Иван Васи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.04.19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Это праздник со слезами на глазах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споминания о Великой Отечественной войне и Дне победы бережно хранятся в каждой семье в нашей стране. И спустя более 60 лет мы испытываем невероятную гордость за наших дедов и прадедов, живых и мертвых, склоняя головы и храня в памяти их великий подвиг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ы все – дети Великой Победы, которую одержала наша страна и наш народ над фашистскими захватчик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067280" y="2133720"/>
            <a:ext cx="4546440" cy="34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1280" y="4508640"/>
            <a:ext cx="822960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атериал собирал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Якушева Зоя Степано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едведева Римма Степано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r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омпьютерная верстк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Щербакова Нина Валерье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Щербаков Егор Юрьевич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Я мало знаю о войне …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252720" y="1773000"/>
            <a:ext cx="4753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ло знаю о той войне, которую вели наши деды и прадеды с фашистскими захватчиками. Но я знаю, что на той войне воевали мой дед с отцовской стороны, мой прадед по материнской линии и их братья, другие родственники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ой войне погибло много наших родственников –  вернулся лишь каждый четвертый, в некоторых семьях погибло по несколько человек. У Семеновых из трех сыновей только один – Михаил Федорович -  вернулся живым; его брат Николай погиб в 1942 году, второй брат Павел в том же 42-ом пропал без вести. У Шердаковых из четверых (три сестры и брат) погибли двое – Андрей Иванович и Зоя Ивановна. У Максимовых два брата – Василий Григорьевич и Андрей Григорьевич - погибли в 1943 году, третий брат Николай по возрасту не воевал, но умер от голода в годы войны, у него погибли двое сыновей; у братьев Максимовых остались сиротами десять детей. У Лалетиных погибли оба сына, бабушкины братья Николай и Федор, и три зятя, мужья бабушкиных сесте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ьшего всего мне известно о моем прадеде по материнской линии Медведеве Борисе Васильевиче , ему и будет посвящено большинство страниц. Его я хорошо помню и могу многое о нем рассказать; сохранилось много его документов и фотографий. Он воевал под Сталинградом, где был тяжело ранен – в ногу попало большое количество осколков от авиационной бомбы. После ранения долго лежал по госпиталям. Все осколки удалить не удалось – так он с ними и прожил всю жизнь. Будучи тяжело раненным, смог вынести с поля боя бойца, который был без со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дельную страницу я посвящу своему двоюродному прадеду – дяде моего дедушки. Он служил на Дальнем Востоке, где СССР всю войну держало войска для сдерживания японских войск, воевал в боях с Квантунской армией и вернулся домой только в 194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227640" y="4913280"/>
            <a:ext cx="2916360" cy="1944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27640" y="4941720"/>
            <a:ext cx="4500360" cy="17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ritannic Bold"/>
              </a:rPr>
              <a:t>ВЕЧ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ritannic Bold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Britannic Bold"/>
              </a:rPr>
              <a:t>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ritannic Bold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Britannic Bold"/>
              </a:rPr>
              <a:t>СЛАВ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08360" y="1773360"/>
            <a:ext cx="4535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773360"/>
            <a:ext cx="446400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сскажу еще об одном двоюродном прадеде – младшем брате моей прабабушки по материнской линии. Он пропал без вести в 1942 г. Осталась его фотография и письмо – солдатский треугольник, отправленный из госпиталя.  Прабабушка до последних своих дней надеялась получить известие о не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дельную страницу я посвящу своему деду по отцовской линии, который служил в железнодорожных войсках и возводил мосты, строил, а если было необходимо, то и взрывал железнодорожные пу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перечислю поименно всех своих родных, которые погибли на войне или пропали без вести и всех тех, кто вернулся живо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расскажу о тех, кого знал сам, и о тех, кого знают и помнят мои родители, бабушки и дедушки. О ком-то мы знаем больше, о ком-то – меньше, об одних сохранились и фотографии, и документы, о других мы лишь знаем, что они погибли на той войне. Но мы в равной мере чтим их  и бережно храним память о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ой прадед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орис Васильевич Медведев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3308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ой прадед, Борис Васильевич Медведев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40 г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курсант Сталинградской авиашко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41 г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старший сержант; замполит школы (эскадриль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42 г., апр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откомандирован в 181 танковую бригаду. Участвовал в защите Воронеж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42 г., ию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отправлен в Москву для продолжения учебы в летной школе, но школа была эвакуирована. По приказу ставки командования с зенитным подразделением направлен в Сталинград в 64 армию Чуйкова, где был командиром зенитной батаре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42 г., июль – ноябр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Сталинградский фронт. Дважды ранен. После второго ранения (16 осколков в правой ноге) отправлен в госпитали: Камышин – Саратов – Уфа. Ногу хотели ампутировать, но за счет настойчивости Бориса Васильевича ногу сохранили. В Саратове полтора месяца пролежал с высокой температурой. После удаления нескольких литров гноя переведен в Уфу на четыре месяца, где удалили часть осколков. Награжден орденом «Красная звезд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43 г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 отправлен на долечивание в Новосибирск, но самовольно уехал в Барнаул, где на костылях ходил на работу. Признан негодным к строевой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44 г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награжден орденом «Знак почет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11720" y="1916280"/>
            <a:ext cx="33004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Документы военного времен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081240" cy="20750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19280" y="4797360"/>
            <a:ext cx="482436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4005360"/>
            <a:ext cx="3456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лубились яростно метели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сталинградской по земле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ымились потные шинел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шли солдаты по зо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танк в сугробе — как в болоте,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бьют снаряды по броне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нежинки таяли в полёте,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ак ветки с листьями в ог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падал в битве человек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горячий снег, в кровавый сне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527640" cy="2555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39640" y="4365720"/>
            <a:ext cx="3527640" cy="2360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393372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оенный билет Медведева В.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8000" y="6381720"/>
            <a:ext cx="35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рденская книжка Медведева В.Б. 27.04.1944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3573360"/>
            <a:ext cx="3097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правка о ранении Медведева В.Б. 04.10.1942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ы меня ждешь и у детской кроватки и не спишь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поэтому знаю - со мной ничего не случится!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16360" y="3645000"/>
            <a:ext cx="2043360" cy="302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2178000" cy="309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0" y="7163640"/>
            <a:ext cx="431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844640"/>
            <a:ext cx="410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20000"/>
                </a:solidFill>
                <a:latin typeface="Times New Roman"/>
              </a:rPr>
              <a:t>Э</a:t>
            </a:r>
            <a:r>
              <a:rPr b="0" lang="ru-RU" sz="1400" spc="-1" strike="noStrike">
                <a:solidFill>
                  <a:srgbClr val="420000"/>
                </a:solidFill>
                <a:latin typeface="Times New Roman"/>
              </a:rPr>
              <a:t>тими фотографиями обменялись мой прадед, Медведев Борис Васильевич, и моя прабабушка, Медведева Ольга Васильевна. На обороте снимка Ольга Васильевна подписала: «На память дорогому другу и отцу от жены и сына. Фотоснимок 9.12.1942 г. г.Барнаул» Рукой Бориса Васильевича сделана пометка: «Получил в гор.Уфа. В\ч 4326, госпиталь №2574. 6.2.43 года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5661000"/>
            <a:ext cx="439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2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420000"/>
                </a:solidFill>
                <a:latin typeface="Times New Roman"/>
              </a:rPr>
              <a:t>а своей фотографии Борис Васильевич написал: «На память Лелику и сыну Валерику от отца и друга Бориса. Г.Уфа, госпиталь №2574, отд.3, пал.7, 10.2.43 г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0920" y="1773360"/>
            <a:ext cx="2282760" cy="3095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804000" y="3645000"/>
            <a:ext cx="21272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Ветеран Великой отечественной войны и ветеран труд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895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орис Васильевич Медведев имеет общий трудовой стаж 54 год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37 г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бригадир на БМК; через два месяца – мастер ткацкой фабр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38, мар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зам.начальника ткацкой фабр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49 – 1952 г.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– секретарь парткома БМ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53 – 1955 г.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– зам.директора ткацкой фабрики; дирек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56 г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организация СНХ (Совет народного хозяйства); главный инженер (до 1959 г.); начальник управления легкой промышленности кр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63 -1964 г.г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реорганизация СНХ; перевод начальником управления легкой промышленности Кузбасского экономического СН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64 – 1973 г.г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директор ХБ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73 – апрель 1993 г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зам.директора БМК по экономи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3063600" cy="43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Награды за боевые и </a:t>
            </a:r>
            <a:br>
              <a:rPr sz="3600"/>
            </a:b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трудовые заслуг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779640" y="4797000"/>
            <a:ext cx="5111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орис Васильевич Медведев награжден 20 орденами и медалями, в том числ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рденом «Красная звезда» (в 1942 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рденом «Знак почета» (в 1944 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рденом «Знак почета» (в 1966 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рденом «Отечественная война» (в 1985 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94660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846600" cy="28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Участники торжественного собрания защитников Сталинграда</a:t>
            </a: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53440" cy="5138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4000" y="658332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20000"/>
                </a:solidFill>
                <a:latin typeface="Times New Roman"/>
              </a:rPr>
              <a:t>Барнаул, 22 января 1993 г.  Б.В.Медведев – шестой слева в третьем ря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3:04:08Z</dcterms:created>
  <dc:creator>Нина</dc:creator>
  <dc:description/>
  <dc:language>en-US</dc:language>
  <cp:lastModifiedBy>Admin</cp:lastModifiedBy>
  <dcterms:modified xsi:type="dcterms:W3CDTF">2012-03-08T08:14:55Z</dcterms:modified>
  <cp:revision>160</cp:revision>
  <dc:subject/>
  <dc:title>Фотография с фронта</dc:title>
</cp:coreProperties>
</file>