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1AC6-A18C-4B6B-ABDD-56AD9AA3D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9052-5F1A-4D6F-9650-8EB455AEA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541F-01F4-466E-BF9E-7AAAC352C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85D3-9509-40B8-A438-F707ACB17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48F4-3ECF-415F-BB53-F16730D58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B165-FF34-4C13-B726-59AE9393D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B161-41CC-41BF-9799-C5D3472C2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5996-D977-42A7-A1C7-B945B0B5C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B865-83A9-4C47-ADDC-42BF61C42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7BE1-4A62-480A-980E-635EFF100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C759-9141-4039-996E-450EC9FF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7A69-C4ED-4930-9C6E-6FC705C6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2D2B4-4B6F-46BC-8190-C3344CAAA7D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00720" y="4652640"/>
            <a:ext cx="39938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ВТОР: МЕЛИХОВА Ю.А., ПЕДАГОГ ДОП. ОБРАЗОВАНИЯ МОУ ЦЕНТР «ИСТОКИ» Г.ВОЛГОГРА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458200" cy="253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1000"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984807"/>
                </a:solidFill>
                <a:latin typeface="Calibri"/>
              </a:rPr>
              <a:t>Иконография Иисуса Христа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93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356760"/>
            <a:ext cx="397188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c00000"/>
                </a:solidFill>
                <a:latin typeface="Calibri"/>
              </a:rPr>
              <a:t>Первый красный ромб, в который помещен престол, символизирует собой светозарную, огненную природу мира Божественного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lnSpc>
                <a:spcPct val="80000"/>
              </a:lnSpc>
              <a:spcBef>
                <a:spcPts val="524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cc"/>
                </a:solidFill>
                <a:latin typeface="Calibri"/>
              </a:rPr>
              <a:t>Синий овал обозначает мир духовный – ангельский мир. В овале изображается множество ангелов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lnSpc>
                <a:spcPct val="80000"/>
              </a:lnSpc>
              <a:spcBef>
                <a:spcPts val="374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0000"/>
                </a:solidFill>
                <a:latin typeface="Calibri"/>
              </a:rPr>
              <a:t>Красный квадрат символизирует собой землю. По четырем его сторонам изображаются четыре животных: лев, телец, орел и ангел, обозначающих евангелистов, которые разносили Слово Божие по четырем сторонам света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F:\иллюстрации для иконовед\19. Иконография Спасителя\Спас в силах\спас в силах6.jpg"/>
          <p:cNvPicPr/>
          <p:nvPr/>
        </p:nvPicPr>
        <p:blipFill>
          <a:blip r:embed="rId1"/>
          <a:stretch/>
        </p:blipFill>
        <p:spPr>
          <a:xfrm>
            <a:off x="4932360" y="981000"/>
            <a:ext cx="367524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9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4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9" dur="1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4" dur="1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74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0" y="785520"/>
            <a:ext cx="449568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alibri"/>
              </a:rPr>
              <a:t>Спас в силах – Господь, Владыка всего мира – видимого и невидимого – в окружении своих ангельских Си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alibri"/>
              </a:rPr>
              <a:t>У самого подножия престола также помещены бесплотные ангельские силы в виде крылатых колес с оч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F:\иллюстрации для иконовед\19. Иконография Спасителя\Спас в силах\спас в силах2.jpg"/>
          <p:cNvPicPr/>
          <p:nvPr/>
        </p:nvPicPr>
        <p:blipFill>
          <a:blip r:embed="rId1"/>
          <a:stretch/>
        </p:blipFill>
        <p:spPr>
          <a:xfrm>
            <a:off x="4859280" y="981000"/>
            <a:ext cx="368784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СПАС ЭММАНУИ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0" y="1643040"/>
            <a:ext cx="4495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4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 иконах «Спас Эммануил» Христос изображается в виде младенца или юного отрока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Евангелии мы читаем, что Ангел Господень, явившись праведному Иосифу, объявил, что сбудется сказанное пророком Исайей: «се, Дево во чреве приимет и родит Сына, и нарекут имя Ему Эммануил, что значит «С нами Бог»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F:\иллюстрации для иконовед\19. Иконография Спасителя\Спас Эммануил\CПАС ЭММАНУИЛ, XII в.jpeg"/>
          <p:cNvPicPr/>
          <p:nvPr/>
        </p:nvPicPr>
        <p:blipFill>
          <a:blip r:embed="rId1"/>
          <a:stretch/>
        </p:blipFill>
        <p:spPr>
          <a:xfrm>
            <a:off x="4857840" y="1714680"/>
            <a:ext cx="3582720" cy="48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100"/>
                            </p:stCondLst>
                            <p:childTnLst>
                              <p:par>
                                <p:cTn id="10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77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77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" dur="77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77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77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4100"/>
                            </p:stCondLst>
                            <p:childTnLst>
                              <p:par>
                                <p:cTn id="12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ВНЕШНИЙ ОБЛИК ХРИС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0" y="1499760"/>
            <a:ext cx="44956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4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a50021"/>
                </a:solidFill>
                <a:latin typeface="Calibri"/>
              </a:rPr>
              <a:t>Иисус Христос, как правило, изображается в </a:t>
            </a:r>
            <a:r>
              <a:rPr b="1" lang="ru-RU" sz="2600" spc="-1" strike="noStrike">
                <a:solidFill>
                  <a:srgbClr val="640013"/>
                </a:solidFill>
                <a:latin typeface="Calibri"/>
              </a:rPr>
              <a:t>красном хитоне </a:t>
            </a:r>
            <a:r>
              <a:rPr b="1" lang="ru-RU" sz="2600" spc="-1" strike="noStrike">
                <a:solidFill>
                  <a:srgbClr val="a50021"/>
                </a:solidFill>
                <a:latin typeface="Calibri"/>
              </a:rPr>
              <a:t>(длинной рубахе) с </a:t>
            </a:r>
            <a:r>
              <a:rPr b="1" lang="ru-RU" sz="2600" spc="-1" strike="noStrike">
                <a:solidFill>
                  <a:srgbClr val="6c0015"/>
                </a:solidFill>
                <a:latin typeface="Calibri"/>
              </a:rPr>
              <a:t>синим гиматием </a:t>
            </a:r>
            <a:r>
              <a:rPr b="1" lang="ru-RU" sz="2600" spc="-1" strike="noStrike">
                <a:solidFill>
                  <a:srgbClr val="a50021"/>
                </a:solidFill>
                <a:latin typeface="Calibri"/>
              </a:rPr>
              <a:t>(верхней накидкой). Красный цвет – цвет мученичества. Синий – цвет чистоты и непорочности – символ неба. На правом плече хитона изображается вертикальная полоса – </a:t>
            </a:r>
            <a:r>
              <a:rPr b="1" lang="ru-RU" sz="2600" spc="-1" strike="noStrike">
                <a:solidFill>
                  <a:srgbClr val="6c0015"/>
                </a:solidFill>
                <a:latin typeface="Calibri"/>
              </a:rPr>
              <a:t>клав</a:t>
            </a:r>
            <a:r>
              <a:rPr b="1" lang="ru-RU" sz="2600" spc="-1" strike="noStrike">
                <a:solidFill>
                  <a:srgbClr val="a50021"/>
                </a:solidFill>
                <a:latin typeface="Calibri"/>
              </a:rPr>
              <a:t> (во времена Иисуса Христа знак знатного происхождения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F:\иллюстрации для иконовед\19. Иконография Спасителя\Спас Всержитель\Спас Вседержитель XV в.jpg"/>
          <p:cNvPicPr/>
          <p:nvPr/>
        </p:nvPicPr>
        <p:blipFill>
          <a:blip r:embed="rId1"/>
          <a:stretch/>
        </p:blipFill>
        <p:spPr>
          <a:xfrm>
            <a:off x="5062680" y="1600200"/>
            <a:ext cx="3209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100458"/>
                </a:solidFill>
                <a:latin typeface="Calibri"/>
              </a:rPr>
              <a:t>СПАС НЕРУКОТВОРЕННЫЙ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920600"/>
            <a:ext cx="4495680" cy="472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ервой иконой был  Нерукотворный образ Спасителя, чудесно запечатленный на полотне (убрусе), которым Господь утер Свое  лицо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64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На иконе «Спас Нерукотворенный» изображен только Божественный лик Спасител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F:\иллюстрации для иконовед\19. Иконография Спасителя\Спас Нерукотворный\Спас Нерукотворный, Р., XII в.jpeg"/>
          <p:cNvPicPr/>
          <p:nvPr/>
        </p:nvPicPr>
        <p:blipFill>
          <a:blip r:embed="rId1"/>
          <a:stretch/>
        </p:blipFill>
        <p:spPr>
          <a:xfrm>
            <a:off x="4648320" y="1665360"/>
            <a:ext cx="4038480" cy="43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93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642600"/>
            <a:ext cx="403848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4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Изображение лика (лица)может быть различным. Лик Господа либо вписан в нимб, либо изображается на убрусе, а иногда убрус держат Ангелы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F:\иллюстрации для иконовед\19. Иконография Спасителя\Спас Нерукотворный\Спас Нерукотворный, Р., XII в.jpeg"/>
          <p:cNvPicPr/>
          <p:nvPr/>
        </p:nvPicPr>
        <p:blipFill>
          <a:blip r:embed="rId1"/>
          <a:stretch/>
        </p:blipFill>
        <p:spPr>
          <a:xfrm>
            <a:off x="5143680" y="285840"/>
            <a:ext cx="2755800" cy="3000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F:\иллюстрации для иконовед\19. Иконография Спасителя\Спас Нерукотворный\Спас Нерукотворный, Греция.jpeg"/>
          <p:cNvPicPr/>
          <p:nvPr/>
        </p:nvPicPr>
        <p:blipFill>
          <a:blip r:embed="rId2"/>
          <a:stretch/>
        </p:blipFill>
        <p:spPr>
          <a:xfrm>
            <a:off x="4429080" y="3500280"/>
            <a:ext cx="4505400" cy="3048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F:\иллюстрации для иконовед\19. Иконография Спасителя\Спас Нерукотворный\Плат Вероники. XV века. Западная Украина.jpeg"/>
          <p:cNvPicPr/>
          <p:nvPr/>
        </p:nvPicPr>
        <p:blipFill>
          <a:blip r:embed="rId3"/>
          <a:stretch/>
        </p:blipFill>
        <p:spPr>
          <a:xfrm>
            <a:off x="0" y="3429000"/>
            <a:ext cx="432432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6250"/>
                            </p:stCondLst>
                            <p:childTnLst>
                              <p:par>
                                <p:cTn id="1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8250"/>
                            </p:stCondLst>
                            <p:childTnLst>
                              <p:par>
                                <p:cTn id="1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250"/>
                            </p:stCondLst>
                            <p:childTnLst>
                              <p:par>
                                <p:cTn id="2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СПАС ВСЕДЕРЖИТЕ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85840" y="1920960"/>
            <a:ext cx="42098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spcBef>
                <a:spcPts val="7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Другой наиболее  распространенный образ Спасителя – «</a:t>
            </a:r>
            <a:r>
              <a:rPr b="1" lang="ru-RU" sz="2800" spc="-1" strike="noStrike">
                <a:solidFill>
                  <a:srgbClr val="023746"/>
                </a:solidFill>
                <a:latin typeface="Calibri"/>
              </a:rPr>
              <a:t>Спас Вседержитель</a:t>
            </a: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 algn="ctr">
              <a:spcBef>
                <a:spcPts val="7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По традиции образ Спаса Вседержителя помещался в куполе церкви. Позже этот образ стали писать на икона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F:\иллюстрации для иконовед\19. Иконография Спасителя\Спас Всержитель\Спас Вседержитель, XIV в, Фетхие Джами..jpg"/>
          <p:cNvPicPr/>
          <p:nvPr/>
        </p:nvPicPr>
        <p:blipFill>
          <a:blip r:embed="rId1"/>
          <a:stretch/>
        </p:blipFill>
        <p:spPr>
          <a:xfrm>
            <a:off x="4826160" y="1600200"/>
            <a:ext cx="3682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25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250"/>
                            </p:stCondLst>
                            <p:childTnLst>
                              <p:par>
                                <p:cTn id="4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74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714240"/>
            <a:ext cx="4038480" cy="56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Икона Спаса Вседержителя – это поясное изображение Иисуса Христа. Правой рукой Он благословляет, а левой держит Евангел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F:\иллюстрации для иконовед\19. Иконография Спасителя\Спас Всержитель\Спас Вседержитель XV в.jpg"/>
          <p:cNvPicPr/>
          <p:nvPr/>
        </p:nvPicPr>
        <p:blipFill>
          <a:blip r:embed="rId1"/>
          <a:stretch/>
        </p:blipFill>
        <p:spPr>
          <a:xfrm>
            <a:off x="5003640" y="1052640"/>
            <a:ext cx="352116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СПАС ВСЕДЕРЖИТЕЛ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F:\иллюстрации для иконовед\19. Иконография Спасителя\Спас Всержитель\Спас Вседержитель, XIII в. Монастырь Св. Екатерины на Синае2.jpeg"/>
          <p:cNvPicPr/>
          <p:nvPr/>
        </p:nvPicPr>
        <p:blipFill>
          <a:blip r:embed="rId1"/>
          <a:stretch/>
        </p:blipFill>
        <p:spPr>
          <a:xfrm>
            <a:off x="611280" y="1700280"/>
            <a:ext cx="3238560" cy="4862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F:\иллюстрации для иконовед\19. Иконография Спасителя\Спас Всержитель\Звенигородский Спас, 1410г.jpg"/>
          <p:cNvPicPr/>
          <p:nvPr/>
        </p:nvPicPr>
        <p:blipFill>
          <a:blip r:embed="rId2"/>
          <a:stretch/>
        </p:blipFill>
        <p:spPr>
          <a:xfrm>
            <a:off x="4572000" y="2000160"/>
            <a:ext cx="4038480" cy="41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СПАС ВСЕДЕРЖИТЕ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F:\иллюстрации для иконовед\19. Иконография Спасителя\Спас Всержитель\Спас Всержитель, к. IV в, м-рь на Синае.jpg"/>
          <p:cNvPicPr/>
          <p:nvPr/>
        </p:nvPicPr>
        <p:blipFill>
          <a:blip r:embed="rId1"/>
          <a:stretch/>
        </p:blipFill>
        <p:spPr>
          <a:xfrm>
            <a:off x="1143000" y="2071800"/>
            <a:ext cx="2536920" cy="4698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F:\иллюстрации для иконовед\19. Иконография Спасителя\Спас Всержитель\Спас Вседержитель, 4 четв. XII в, София К..jpeg"/>
          <p:cNvPicPr/>
          <p:nvPr/>
        </p:nvPicPr>
        <p:blipFill>
          <a:blip r:embed="rId2"/>
          <a:stretch/>
        </p:blipFill>
        <p:spPr>
          <a:xfrm>
            <a:off x="5010120" y="2071800"/>
            <a:ext cx="3667320" cy="44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СПАС НА ПРЕСТОЛ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0" y="1642680"/>
            <a:ext cx="44956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На иконе «Спас на престоле» Иисус Христос изображается так же, как и «Спас Вседержитель», только </a:t>
            </a:r>
            <a:r>
              <a:rPr b="1" lang="ru-RU" sz="2400" spc="-1" strike="noStrike">
                <a:solidFill>
                  <a:srgbClr val="860000"/>
                </a:solidFill>
                <a:latin typeface="Calibri"/>
              </a:rPr>
              <a:t>в полный рост и сидящим на престоле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. Престол Божий – это вся вселенная, весь мир – видимый и невидимый. С этого престола смотрит Господь на нас, видит все наши дела, знает наши мыс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F:\иллюстрации для иконовед\19. Иконография Спасителя\Спас на престоле\S5KPTCA4N0DCUCAOG05RLCA8L9ZM4CA3Z1V3WCAKR0QEMCAZKY2KCCAUZIG12CA326WABCAYUVBCQCA4O4IXQCAV2UF24CASP0MHLCA4CC861CA7V0T2JCA00KLSJCAXMSZ61CAXYMYWQCASXBTVICAGHCLUB.jpg"/>
          <p:cNvPicPr/>
          <p:nvPr/>
        </p:nvPicPr>
        <p:blipFill>
          <a:blip r:embed="rId1"/>
          <a:stretch/>
        </p:blipFill>
        <p:spPr>
          <a:xfrm>
            <a:off x="6786720" y="1571760"/>
            <a:ext cx="2170080" cy="2960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F:\иллюстрации для иконовед\19. Иконография Спасителя\Спас на престоле\17P19CATB8F19CAE7YG7ICA97YNOLCA4QGGZXCAMH8WYECAM7UVJ8CA7QFANRCAKUNYNACAORAN6QCA0GVIOLCA9EOWVBCAJNGIMFCAQAESGWCAJXLM75CAGRDZ31CA49UVYNCATIPX3DCAJN14PKCAFZW0NV.jpg"/>
          <p:cNvPicPr/>
          <p:nvPr/>
        </p:nvPicPr>
        <p:blipFill>
          <a:blip r:embed="rId2"/>
          <a:stretch/>
        </p:blipFill>
        <p:spPr>
          <a:xfrm>
            <a:off x="4643280" y="3714840"/>
            <a:ext cx="187812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СПАС В СИЛА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0" y="1643040"/>
            <a:ext cx="4495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alibri"/>
              </a:rPr>
              <a:t>На иконах «Спас в силах» Спасителя, сидящего на престоле, окружают </a:t>
            </a:r>
            <a:r>
              <a:rPr b="1" lang="ru-RU" sz="2800" spc="-1" strike="noStrike">
                <a:solidFill>
                  <a:srgbClr val="005c00"/>
                </a:solidFill>
                <a:latin typeface="Calibri"/>
              </a:rPr>
              <a:t>«силы» </a:t>
            </a:r>
            <a:r>
              <a:rPr b="1" lang="ru-RU" sz="2800" spc="-1" strike="noStrike">
                <a:solidFill>
                  <a:srgbClr val="008000"/>
                </a:solidFill>
                <a:latin typeface="Calibri"/>
              </a:rPr>
              <a:t>в виде трех фигур, вписанных один в другой, которые указывают на полноту Его Божественной власти над всем миром – вещественным и духовны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F:\иллюстрации для иконовед\19. Иконография Спасителя\Спас в силах\1143118788-8[1].jpg"/>
          <p:cNvPicPr/>
          <p:nvPr/>
        </p:nvPicPr>
        <p:blipFill>
          <a:blip r:embed="rId1"/>
          <a:stretch/>
        </p:blipFill>
        <p:spPr>
          <a:xfrm>
            <a:off x="4867200" y="1666800"/>
            <a:ext cx="3600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3-07T17:51:03Z</dcterms:modified>
  <cp:revision>24</cp:revision>
  <dc:subject/>
  <dc:title>Слайд 1</dc:title>
</cp:coreProperties>
</file>