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05C23-BA4E-477B-B0F0-D9A490D6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3DE75-BC61-4E05-BDD9-2285345E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160FF-05CA-4124-905B-54E90BF7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38E53-8322-4A11-A8AE-80861EAE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6FA5-3630-4D32-A551-D82E0A13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F02B-2F57-44DE-B0D5-BFEA0665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A07A-82DC-40B6-B264-EF4274B6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166C-216B-4222-9E0A-EB069DE1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EA3B-D855-4255-B659-AB5CFD56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D568-8553-4AC9-AFED-18283D80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7E31-1CE7-43BD-BD35-FC54D899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66CC2-A2A8-452C-B4D5-2C6FCAEC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2FC4-6E9F-403A-AA71-1AAA9993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3DCE-077A-428F-AB9C-EB18942E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A68E-1B1C-4539-8CC2-433B6027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DCD4-2E6C-4633-9F8A-4B96CDC0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72C5-F40C-4978-A340-E09756E8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D7793-8DD3-480D-B32D-36B9FA64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B1E96-CCDD-4A13-875A-30669776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0312C-75B8-44DA-8E89-FA3AF9BF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0B99D-5DB4-4A37-8B29-BD68FBD0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3738D-427C-4E10-B166-FC0AE924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6A2CF-9A86-4ABE-8235-1F8B81A6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20C08-6991-44D8-87FE-5AB1602F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3812-47D4-4A67-B32C-4328200419E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3C75-B216-47E1-B1E6-319975076D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Тренинг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Коучинг. На пути к успеху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066680" y="4648320"/>
            <a:ext cx="7620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милова Екатерина Пет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ндидат исторических наук, доц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траханский филиал Московской открытой социальной акаде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сок интернет-ресурсов, рекомендованных для ознакомления по вопросу коучинга в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Коучинг. Материал взят из свободной электронной энциклопедии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ru.wikipedia.org/wiki/%D0%9A%D0%BE%D1%83%D1%87%D0%B8%D0%BD%D0%B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доступ свободны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Глеб Архангельский. Организация времени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ttp://improvement.ru/community/people/aga.s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доступ свободны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Радислав Гандапас. Лидерство, мастерство. Развитие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radislavgandapas.com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доступ свободны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уч нужен, есл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, вы хотите лучше организовать свою работу. Даже, если пока не поняли, что именно должно измен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найти выход из сложившейся ситуации, а Вы не   чувствуете, что можете сделать это самостоят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коучин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английского 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– тренер, наставник, репети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итается, что коучинг как самостоятельное направление сформировался в 80-х годах прошлого века в США. Финансовый советник Томас Дж. Леонард заметил, что многие нуждаются не только в навыках планирования. В 1992 году Леонард организовал Университет коучин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коучин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если психотерапевт, например, предложит вам глубокий анализ вашего типа личности и скрытых в подсознании препятствий, то коуч поможет определить психологические преимущества и сильные стороны характера, направить активность в нужное русло в зависимости от ваших целей и приорит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то такой коуч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человек независимый. Вот, главное условие, помогающее ему оценить ситуацию объективно, чтобы научить вас смотреть на профессиональный путь со стор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уч не решает проблему за вас, он лишь помогает найти решение. И изменения, которые будут происходить, зависят только от вас. Задача специалиста – в ходе встреч подготовить вас к эти изменен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спортсмен тренируется под руководством наставника, но на соревнованиях выступает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это работа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зачастую боимся перемен. Коучинг призван поставить нас лицом к проблеме и сделать так, чтобы достойный выход из ситуации был найден. Если обращаетесь к коучу, последний особое внимание уделяет цели, которой вы хотите доб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тать коуч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ер обязательно должен рассказать вам о том, как он будет с вами работать и какой результат вы получите. У вас с консультантом должен строиться диалог, а не монолог. Профессиональный коуч никогда не будет ставить диагноз. Психоаналитик разбирается в причинах проблемы, а коуч опирается на успехи консульта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</cp:lastModifiedBy>
  <dcterms:modified xsi:type="dcterms:W3CDTF">2012-03-08T15:49:2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