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push.wav" ContentType="audio/x-wav"/>
  <Override PartName="/ppt/media/image2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voltage.wav" ContentType="audio/x-wav"/>
  <Override PartName="/ppt/media/image8.jpeg" ContentType="image/jpeg"/>
  <Override PartName="/ppt/media/image12.jpeg" ContentType="image/jpeg"/>
  <Override PartName="/ppt/media/hammer.wav" ContentType="audio/x-wav"/>
  <Override PartName="/ppt/media/image16.jpeg" ContentType="image/jpeg"/>
  <Override PartName="/ppt/media/chimes.wav" ContentType="audio/x-wav"/>
  <Override PartName="/ppt/media/image6.jpeg" ContentType="image/jpeg"/>
  <Override PartName="/ppt/media/image10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571-EB5C-4FA2-8940-3BB9A0B5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92D-1600-4AE0-91C4-6FC7BB9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E3B-E90F-47CE-8F0C-D94EF5C9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380-46C6-403A-8619-3BA50914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F18-7F6E-4E14-B0EE-2A109F1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543-9FA6-4CD9-85F0-850A564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1BA-3B75-410C-A60A-0E8A8B45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FCB-5CF7-4BE3-B8C8-A57EC98F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A33-BDD9-4AD5-B8D9-BB69165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441-0415-4C84-BB27-B586270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FBC-7084-482B-8DB6-F80889A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2F0-1ABF-4E47-9F84-3398C67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EB5-E7FC-4D5C-A78F-65101601D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b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47040" cy="1944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8135640" cy="43657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32000" y="333360"/>
            <a:ext cx="71866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987b3"/>
                    </a:gs>
                    <a:gs pos="100000">
                      <a:srgbClr val="a50021"/>
                    </a:gs>
                  </a:gsLst>
                  <a:lin ang="0"/>
                </a:gradFill>
                <a:latin typeface="Arial"/>
              </a:rPr>
              <a:t>И.А.Крылов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987b3"/>
                  </a:gs>
                  <a:gs pos="100000">
                    <a:srgbClr val="a50021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187280" y="3068640"/>
            <a:ext cx="5334120" cy="131760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сни</a:t>
            </a:r>
            <a:endParaRPr b="1" lang="en-US" sz="4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6" descr="БАСНИ_0009"/>
          <p:cNvPicPr/>
          <p:nvPr/>
        </p:nvPicPr>
        <p:blipFill>
          <a:blip r:embed="rId1"/>
          <a:stretch/>
        </p:blipFill>
        <p:spPr>
          <a:xfrm>
            <a:off x="6659640" y="2492280"/>
            <a:ext cx="2160360" cy="30243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 spd="med" advTm="5000">
    <p:pull dir="l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Действия Вор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Взгромозд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Собра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Призадума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Держ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Вскруж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Arial"/>
              </a:rPr>
              <a:t>Каркн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vorona.i.lisica.kukushka.i.petuh.avi.image3[1].jpg"/>
          <p:cNvPicPr/>
          <p:nvPr/>
        </p:nvPicPr>
        <p:blipFill>
          <a:blip r:embed="rId2"/>
          <a:stretch/>
        </p:blipFill>
        <p:spPr>
          <a:xfrm>
            <a:off x="4786200" y="2571840"/>
            <a:ext cx="37864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3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Мораль басни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– нравоучение, совет: 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надо делать и чего не надо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16120"/>
            <a:ext cx="8229600" cy="49276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Уж сколько раз твердили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Что лесть гнусна, вред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Но только всё не вп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И в сердце льстец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                </a:t>
            </a: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отыщет угол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0" descr="vorona_and_lisa[1].jpg"/>
          <p:cNvPicPr/>
          <p:nvPr/>
        </p:nvPicPr>
        <p:blipFill>
          <a:blip r:embed="rId2"/>
          <a:stretch/>
        </p:blipFill>
        <p:spPr>
          <a:xfrm>
            <a:off x="6000840" y="292896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86880" cy="5141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ff"/>
                </a:solidFill>
                <a:latin typeface="Arial"/>
              </a:rPr>
              <a:t>Верь своим очам, а не чужим реч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ff"/>
                </a:solidFill>
                <a:latin typeface="Arial"/>
              </a:rPr>
              <a:t>На языке медок, а на сердце – лед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2[1].jpg"/>
          <p:cNvPicPr/>
          <p:nvPr/>
        </p:nvPicPr>
        <p:blipFill>
          <a:blip r:embed="rId2"/>
          <a:stretch/>
        </p:blipFill>
        <p:spPr>
          <a:xfrm>
            <a:off x="6357960" y="3857760"/>
            <a:ext cx="2571840" cy="284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1213920"/>
            <a:ext cx="8786880" cy="5456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выучить басню наизу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чтение басни по ро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инсценировать бас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ff"/>
                </a:solidFill>
                <a:latin typeface="Arial"/>
              </a:rPr>
              <a:t>выполнить иллюстрацию к ба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vorona[1].jpg"/>
          <p:cNvPicPr/>
          <p:nvPr/>
        </p:nvPicPr>
        <p:blipFill>
          <a:blip r:embed="rId2"/>
          <a:stretch/>
        </p:blipFill>
        <p:spPr>
          <a:xfrm>
            <a:off x="3214800" y="3571920"/>
            <a:ext cx="25714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200" y="1213920"/>
            <a:ext cx="8786880" cy="5456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b5[1].jpg"/>
          <p:cNvPicPr/>
          <p:nvPr/>
        </p:nvPicPr>
        <p:blipFill>
          <a:blip r:embed="rId2"/>
          <a:stretch/>
        </p:blipFill>
        <p:spPr>
          <a:xfrm>
            <a:off x="2500200" y="1357200"/>
            <a:ext cx="41436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87b3"/>
            </a:gs>
            <a:gs pos="100000">
              <a:srgbClr val="a5002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«Люблю, где случай есть, 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пороки пощипать…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krylov[1].jpg"/>
          <p:cNvPicPr/>
          <p:nvPr/>
        </p:nvPicPr>
        <p:blipFill>
          <a:blip r:embed="rId1"/>
          <a:stretch/>
        </p:blipFill>
        <p:spPr>
          <a:xfrm>
            <a:off x="2357280" y="1600200"/>
            <a:ext cx="4357800" cy="4829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Arial"/>
              </a:rPr>
              <a:t>Басня - краткий иносказательный нравоучительный рассказ, стихотв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сня - это почти живая сценка: в ней кто-то спорит, ссорится, мир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асне, даже самой короткой, помещается целый рассказ о чьей-либо удаче или неудаче, а к нему и вывод: почему вышло так, а не иначе, кто был прав, а кто вино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БАСНИ_0003"/>
          <p:cNvPicPr/>
          <p:nvPr/>
        </p:nvPicPr>
        <p:blipFill>
          <a:blip r:embed="rId1"/>
          <a:stretch/>
        </p:blipFill>
        <p:spPr>
          <a:xfrm>
            <a:off x="4500720" y="1357200"/>
            <a:ext cx="4214520" cy="521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voltag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ораль сей басни таков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1557360"/>
            <a:ext cx="2714400" cy="49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Ай, Моськ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нать она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лает на слон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9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Рисунок 4" descr="bee43d2295d0[1].jpg"/>
          <p:cNvPicPr/>
          <p:nvPr/>
        </p:nvPicPr>
        <p:blipFill>
          <a:blip r:embed="rId1"/>
          <a:stretch/>
        </p:blipFill>
        <p:spPr>
          <a:xfrm>
            <a:off x="3143160" y="1571760"/>
            <a:ext cx="557208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voltag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5000760"/>
            <a:ext cx="8572680" cy="1714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«Ты всё пела, это дело.          «Погодите!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ак, поди же, попляши…»      Как музыке идти?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                                         Ведь вы не так сидит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АСНИ_0005"/>
          <p:cNvPicPr/>
          <p:nvPr/>
        </p:nvPicPr>
        <p:blipFill>
          <a:blip r:embed="rId1"/>
          <a:stretch/>
        </p:blipFill>
        <p:spPr>
          <a:xfrm>
            <a:off x="4714920" y="285840"/>
            <a:ext cx="4159080" cy="46432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655px-Av_2009_13_img29[1].jpg"/>
          <p:cNvPicPr/>
          <p:nvPr/>
        </p:nvPicPr>
        <p:blipFill>
          <a:blip r:embed="rId2"/>
          <a:stretch/>
        </p:blipFill>
        <p:spPr>
          <a:xfrm>
            <a:off x="357120" y="357120"/>
            <a:ext cx="414360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  <p:sndAc>
      <p:stSnd>
        <p:snd r:embed="rId3" name="voltage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8b1ed"/>
          </a:solidFill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ff"/>
                </a:solidFill>
                <a:latin typeface="Arial"/>
              </a:rPr>
              <a:t>Крылатые выра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У сильного всегда бессильный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Сильнее кошки зверя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Да только воз и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инов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ын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08547-ad27[1].jpg"/>
          <p:cNvPicPr/>
          <p:nvPr/>
        </p:nvPicPr>
        <p:blipFill>
          <a:blip r:embed="rId2"/>
          <a:stretch/>
        </p:blipFill>
        <p:spPr>
          <a:xfrm>
            <a:off x="6000840" y="3500280"/>
            <a:ext cx="242892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3" name="push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54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Басня «Ворона и Лисиц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63" name="Рисунок 5" descr="559189[1].jpg"/>
          <p:cNvPicPr/>
          <p:nvPr/>
        </p:nvPicPr>
        <p:blipFill>
          <a:blip r:embed="rId1"/>
          <a:stretch/>
        </p:blipFill>
        <p:spPr>
          <a:xfrm>
            <a:off x="1928880" y="1357200"/>
            <a:ext cx="528624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бъясните значение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1557360"/>
            <a:ext cx="3714840" cy="49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ест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згромоздитьс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ленит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гельский (голосок)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ещуньина (голова)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Царь птиц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ог посла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сё не впро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9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годливое восхва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зобраться и устроиться с трудом на что-либ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корить чем-либо, очар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личающийся чрезвычайной кротостью, неж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казатель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учшая из всех пт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 раньше говорили о чём-либо, случайно добытом или получен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на поль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voltage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Басня «Ворона и Лисиц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ff"/>
                </a:solidFill>
                <a:latin typeface="Arial"/>
              </a:rPr>
              <a:t>Нахо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ff"/>
                </a:solidFill>
                <a:latin typeface="Arial"/>
              </a:rPr>
              <a:t>Льс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ff"/>
                </a:solidFill>
                <a:latin typeface="Arial"/>
              </a:rPr>
              <a:t>Простоф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nlit-305[1].jpg"/>
          <p:cNvPicPr/>
          <p:nvPr/>
        </p:nvPicPr>
        <p:blipFill>
          <a:blip r:embed="rId2"/>
          <a:stretch/>
        </p:blipFill>
        <p:spPr>
          <a:xfrm>
            <a:off x="4786200" y="1714680"/>
            <a:ext cx="37148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hammer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8:39:32Z</dcterms:created>
  <dc:creator>user</dc:creator>
  <dc:description/>
  <dc:language>en-US</dc:language>
  <cp:lastModifiedBy>Елена</cp:lastModifiedBy>
  <dcterms:modified xsi:type="dcterms:W3CDTF">2011-01-23T11:32:03Z</dcterms:modified>
  <cp:revision>50</cp:revision>
  <dc:subject/>
  <dc:title> </dc:title>
</cp:coreProperties>
</file>