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047-01DE-4540-A5A5-FCC9144DA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7371-2F4D-4A42-A245-5B3BC0560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6E2-EE94-4BF5-9741-66DB56359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FA3-4862-47D6-B8A8-0C7F73388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828-3328-4E5A-A406-609C2A356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614-7D44-4295-9412-E6FB1C385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5E8-D97A-45D1-9F02-D0285852F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9DC-5D61-491E-8D4D-E0FED6F9D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12CD-18EF-484A-B90D-E32B58ABE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7027-0E46-4261-BFD5-E70611311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FC0-ACB4-42BF-8A05-7DA23851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827-1D62-46F9-B4A9-5035FEA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FB7-0B69-4384-B60E-5306B00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5A1-AE39-4F51-85CD-6EBFBD67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052-917C-443F-9E78-65956D8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077-C1D8-4922-B838-0FB2A57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8F9-365B-4C19-8393-0E0CB8E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B24-F7C9-4469-96C7-7484B455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FAB-F1BF-49E2-854C-3A6CB2A1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EAD-B882-4F9C-9CA0-478BC64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F7C-40C0-46C7-8B63-8604AB4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1CF-7B0E-449E-AC17-AD4D576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87A7-61F6-4971-9356-1454E89C3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бедева И.В.</a:t>
            </a:r>
            <a:br>
              <a:rPr sz="3200"/>
            </a:br>
            <a:br>
              <a:rPr sz="8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– вид изобразительного искусства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ису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454920" y="654192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.Кузнецова. Дары л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536520" y="647712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990720" y="0"/>
            <a:ext cx="728028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536520" y="624852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рисунок7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6536520" y="646128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8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Рисунок9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исовк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565240" y="649116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тный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ТУ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м. Tus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ая краска (жидкая или в виде твердых плиток - т. н. сухая тушь), не теряющая со временем своего т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войства туш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быстро высыхает, не смывается, хорошо пристает к бума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ы изгото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1) из сажи, полученной при сжигании хвойной древесины, растительных масел и смол (в древности), 2) из газовой копоти, сажи, получаемой при сжигании нефти и ее продуктов (в 20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писания шрифтов в оформительских работ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р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исования (пером и кистью) с применением штриховки, заливки, отмы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разнообразных оттенков - от интенсивного черного до серебристо-серого цвета – тушь разбавляют  водой и рисуют ки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3194640" y="6553080"/>
            <a:ext cx="28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нсент Ван Гог. Звездная ноч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872400" y="6465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шь, перо, к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рисунок1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5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467400" y="64008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нсент Ван Гог. Жатва. 18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-7200" y="640080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нсент Ван Гог. Портрет молодой девуш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375000" y="-4932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шь, перо, к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рисунок2"/>
          <p:cNvPicPr/>
          <p:nvPr/>
        </p:nvPicPr>
        <p:blipFill>
          <a:blip r:embed="rId1"/>
          <a:stretch/>
        </p:blipFill>
        <p:spPr>
          <a:xfrm>
            <a:off x="3240" y="457200"/>
            <a:ext cx="4443480" cy="579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рисунок3"/>
          <p:cNvPicPr/>
          <p:nvPr/>
        </p:nvPicPr>
        <p:blipFill>
          <a:blip r:embed="rId2"/>
          <a:stretch/>
        </p:blipFill>
        <p:spPr>
          <a:xfrm>
            <a:off x="4572000" y="457200"/>
            <a:ext cx="45165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рисунок1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6446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2881800" y="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роски птиц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872240" y="5835600"/>
            <a:ext cx="42667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зова Оль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ая серия«Лес, Поле,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умага тонированная, гелевая ру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рисунок1"/>
          <p:cNvPicPr/>
          <p:nvPr/>
        </p:nvPicPr>
        <p:blipFill>
          <a:blip r:embed="rId1"/>
          <a:stretch/>
        </p:blipFill>
        <p:spPr>
          <a:xfrm>
            <a:off x="17640" y="762120"/>
            <a:ext cx="3054240" cy="495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рисунок2"/>
          <p:cNvPicPr/>
          <p:nvPr/>
        </p:nvPicPr>
        <p:blipFill>
          <a:blip r:embed="rId2"/>
          <a:stretch/>
        </p:blipFill>
        <p:spPr>
          <a:xfrm>
            <a:off x="3124080" y="762120"/>
            <a:ext cx="3021120" cy="495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рисунок3"/>
          <p:cNvPicPr/>
          <p:nvPr/>
        </p:nvPicPr>
        <p:blipFill>
          <a:blip r:embed="rId3"/>
          <a:stretch/>
        </p:blipFill>
        <p:spPr>
          <a:xfrm>
            <a:off x="6172200" y="762120"/>
            <a:ext cx="295596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1647360" y="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ая стилизованная ком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Г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художественный материал для рисования из обожженной липы, ивы и других пород деревьев. В 19в. получил распространение твердый уголь из спрессованного угольного порошка с добавлением растительного кл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уг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хатистость штрих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сочетать линию с пят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создавать тональные эфф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графика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ервоначально употреблялся применительно только к письму и каллиграфии. Искусство шрифта с давних времен было связано с граф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вое значение и понимание она получила 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конце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XIX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— начале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XX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, когда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график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определилась как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самостоятельный вид искусств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2729880" y="1555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рисунок4"/>
          <p:cNvPicPr/>
          <p:nvPr/>
        </p:nvPicPr>
        <p:blipFill>
          <a:blip r:embed="rId1"/>
          <a:stretch/>
        </p:blipFill>
        <p:spPr>
          <a:xfrm>
            <a:off x="0" y="762120"/>
            <a:ext cx="4435560" cy="541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рисунок5"/>
          <p:cNvPicPr/>
          <p:nvPr/>
        </p:nvPicPr>
        <p:blipFill>
          <a:blip r:embed="rId2"/>
          <a:stretch/>
        </p:blipFill>
        <p:spPr>
          <a:xfrm>
            <a:off x="4635360" y="762120"/>
            <a:ext cx="4491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2"/>
          <p:cNvSpPr/>
          <p:nvPr/>
        </p:nvSpPr>
        <p:spPr>
          <a:xfrm>
            <a:off x="2729880" y="1555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унок6"/>
          <p:cNvPicPr/>
          <p:nvPr/>
        </p:nvPicPr>
        <p:blipFill>
          <a:blip r:embed="rId1"/>
          <a:stretch/>
        </p:blipFill>
        <p:spPr>
          <a:xfrm>
            <a:off x="0" y="685800"/>
            <a:ext cx="464976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рисунок7"/>
          <p:cNvPicPr/>
          <p:nvPr/>
        </p:nvPicPr>
        <p:blipFill>
          <a:blip r:embed="rId2"/>
          <a:stretch/>
        </p:blipFill>
        <p:spPr>
          <a:xfrm>
            <a:off x="4975200" y="685800"/>
            <a:ext cx="4168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4"/>
          <p:cNvSpPr/>
          <p:nvPr/>
        </p:nvSpPr>
        <p:spPr>
          <a:xfrm>
            <a:off x="5826240" y="152280"/>
            <a:ext cx="3306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южетные зарис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5562720" cy="332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рисунок9"/>
          <p:cNvPicPr/>
          <p:nvPr/>
        </p:nvPicPr>
        <p:blipFill>
          <a:blip r:embed="rId2"/>
          <a:stretch/>
        </p:blipFill>
        <p:spPr>
          <a:xfrm>
            <a:off x="4267080" y="3352680"/>
            <a:ext cx="487692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ФЛОМАС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англ. flowmaster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в виде ручки для рисования и оформительских работ на бумаге, стекле, картоне, дереве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ущим узлом фломастера является волокнистый стержень из фетра, лавсана или другого пористого материала, вставленный в пластмассовый корпус. Стержень пропитывается специальными красителями (спиртовыми чернилами) разнообразных цветовых оттен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омастеры бывают разнообразной формы, толщины и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омастеры предназначены для письма и рисования на небольших лис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ст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омастеры (маркеры) хороши для оформительских работ, заполнения больших плос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е краски фломастера незаменимы при выполнении набросков, зарисовок, тематических композиций и в декоративном ри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 фломас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ет сочный штрих, красочное пя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овной, гладкой бумаге легко скользит и оставляет плавную, льющуюся, изящную линию разной толщины и фа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легко стереть, поэтому фломастер требует твердой, уверенной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2324160" y="0"/>
            <a:ext cx="44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исовки пейзажей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исунок10"/>
          <p:cNvPicPr/>
          <p:nvPr/>
        </p:nvPicPr>
        <p:blipFill>
          <a:blip r:embed="rId1"/>
          <a:stretch/>
        </p:blipFill>
        <p:spPr>
          <a:xfrm>
            <a:off x="-3240" y="457200"/>
            <a:ext cx="4560840" cy="640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рисунок11"/>
          <p:cNvPicPr/>
          <p:nvPr/>
        </p:nvPicPr>
        <p:blipFill>
          <a:blip r:embed="rId2"/>
          <a:stretch/>
        </p:blipFill>
        <p:spPr>
          <a:xfrm>
            <a:off x="4838760" y="457200"/>
            <a:ext cx="43052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рисунок12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2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7534080" y="64612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АС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ранц. pastel, итал. pastello, уменьшительное от pasta – тесто) - живопись сухими, мягкими цветными карандашами без оправы, спрессованными из растертых в порошок пигментов с добавлением камедей, молока, иногда мела, гипса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ые свойства пас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обая чистота и мягкость крас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вежесть нежной, бархатистой поверхности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штрихом, а не мазком сближает технику пастели с граф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936240" y="6200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400" y="6248520"/>
            <a:ext cx="28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ы Зинаиды Серебря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рисунок13"/>
          <p:cNvPicPr/>
          <p:nvPr/>
        </p:nvPicPr>
        <p:blipFill>
          <a:blip r:embed="rId1"/>
          <a:stretch/>
        </p:blipFill>
        <p:spPr>
          <a:xfrm>
            <a:off x="0" y="304920"/>
            <a:ext cx="448956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рисунок14"/>
          <p:cNvPicPr/>
          <p:nvPr/>
        </p:nvPicPr>
        <p:blipFill>
          <a:blip r:embed="rId2"/>
          <a:stretch/>
        </p:blipFill>
        <p:spPr>
          <a:xfrm>
            <a:off x="4572000" y="304920"/>
            <a:ext cx="453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5"/>
          <p:cNvSpPr/>
          <p:nvPr/>
        </p:nvSpPr>
        <p:spPr>
          <a:xfrm>
            <a:off x="3740760" y="30492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7235640" y="45720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ы Эдгара Де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рисунок15"/>
          <p:cNvPicPr/>
          <p:nvPr/>
        </p:nvPicPr>
        <p:blipFill>
          <a:blip r:embed="rId1"/>
          <a:stretch/>
        </p:blipFill>
        <p:spPr>
          <a:xfrm>
            <a:off x="1440" y="914400"/>
            <a:ext cx="4484880" cy="594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рисунок16"/>
          <p:cNvPicPr/>
          <p:nvPr/>
        </p:nvPicPr>
        <p:blipFill>
          <a:blip r:embed="rId2"/>
          <a:stretch/>
        </p:blipFill>
        <p:spPr>
          <a:xfrm>
            <a:off x="4572000" y="914400"/>
            <a:ext cx="4545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00200" y="0"/>
            <a:ext cx="5996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КВАР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ранц. aquarelle, итал. acquerello, лат. aqua - вода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858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ки, обычно на растительном клее с примесью меда, сахара и глице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одимые в воде и легко смываемые е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96520" y="762120"/>
            <a:ext cx="398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ь акварельными крас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293200" y="152388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ачества живописи акваре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3400" y="18288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ость красок, сквозь которые просвечивают тон и фактура осно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аще всего бумаг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ота и яркость ц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ость тональных и цветовых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исать быстро, передать кратковременные явления 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но держится на бумаге и не требует фик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33520" y="38098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ка акварели была известна еще в Древнем Египте и Китае, ее применяли средневековые миниатюристы. В 15–17вв. акварель не имела самостоятельного значения, а служила для раскрашивания гравюр, чертежей, географических карт, эскизов картин и фре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2-й половины 18в. акварель стала широко применяться, прежде всего, в пейзажной живописи, поскольку быстрота работы акварелью позволяет фиксировать непосредственные наблюдения, а воздушность её колорита облегчает передачу атмосферных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219320" y="6270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варель занимает промежуточное положение между графикой и живопис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РАФ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еч. graphike, от grapho - пишу, черчу, рисую) — вид изобразительного искусств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 связан с изображением на плоск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2590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анков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исун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бросок, зарисов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ча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ил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вюра на метал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вюра на кар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5320" y="2666880"/>
            <a:ext cx="4038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2209320" y="2209680"/>
            <a:ext cx="76212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724280" y="2209680"/>
            <a:ext cx="76320" cy="1219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969720" y="3276720"/>
            <a:ext cx="2577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лак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ла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ти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вети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атрально-зрелищ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057400" y="2895480"/>
            <a:ext cx="16765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ни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т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ал, бук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бочная кар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367000" y="16765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839560" y="259092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азетно-жур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6114960" y="3505320"/>
            <a:ext cx="30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кла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раф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нд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верты к пласти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етки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895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5410080" y="2209680"/>
            <a:ext cx="762120" cy="1371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7315200" y="2209680"/>
            <a:ext cx="53352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2585520" y="5867280"/>
            <a:ext cx="635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виды граф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ий дизайн             Компьютерная 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>
            <a:off x="3809880" y="2286000"/>
            <a:ext cx="0" cy="3581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-7200" y="3809880"/>
            <a:ext cx="390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П. Остроумова-Лебеде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лександровский дворец в Детском сел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варель. 19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7469640" y="64911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варель,ту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5257800" cy="3773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706080" y="12708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рисунок18"/>
          <p:cNvPicPr/>
          <p:nvPr/>
        </p:nvPicPr>
        <p:blipFill>
          <a:blip r:embed="rId2"/>
          <a:stretch/>
        </p:blipFill>
        <p:spPr>
          <a:xfrm>
            <a:off x="3962520" y="3314880"/>
            <a:ext cx="518148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887280" y="6491160"/>
            <a:ext cx="50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наньева Наталия </a:t>
            </a:r>
            <a:r>
              <a:rPr b="0" i="1" lang="ru-RU" sz="1800" spc="-1" strike="noStrike">
                <a:solidFill>
                  <a:srgbClr val="333333"/>
                </a:solidFill>
                <a:latin typeface="Arial"/>
              </a:rPr>
              <a:t>«Женские образы Кит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27520" y="64612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варель, ту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рисунок19"/>
          <p:cNvPicPr/>
          <p:nvPr/>
        </p:nvPicPr>
        <p:blipFill>
          <a:blip r:embed="rId1"/>
          <a:stretch/>
        </p:blipFill>
        <p:spPr>
          <a:xfrm>
            <a:off x="154080" y="0"/>
            <a:ext cx="4322520" cy="64771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29320" y="61722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рисунок20"/>
          <p:cNvPicPr/>
          <p:nvPr/>
        </p:nvPicPr>
        <p:blipFill>
          <a:blip r:embed="rId2"/>
          <a:stretch/>
        </p:blipFill>
        <p:spPr>
          <a:xfrm>
            <a:off x="4648320" y="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8003520" y="61722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ся к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никальной граф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тому, что каждый рисунок является единственным в своем 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является основой всех видов графики и других видов изобразительного искусства. Как правило, графическое изображение выполняется на листе бумаги. Художнику порой достаточно очень простых средств —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фитного карандаш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риковой руч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тобы выполнить графический рису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е материалы для рисунка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ушь, уголь, пастель, сангина, соус, аквар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52280"/>
            <a:ext cx="876312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РАНДА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тюрк. кара - черный и таш, даш - кам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жень из угля, свинца, графита или сухой спрессованной краски, обычно в деревянной или металлической оправе, предназначенный для письма, рисования, черчения, один и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х 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дновремен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го искус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атериалу, из которого сделан стержень карандаша,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лл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инцовые, серебряные) - были распространены в XIII в. Небольшие кусочки свинцовой, серебряной или даже золотой проволоки вставлялись в металлическую оправу, напоминавшую сегодняшний рейсфедер, но такие карандаши оставляли на бумаге слабый сле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альян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андаши появились в конце XIV - начале XV вв. Первоначально рисовали минералом, который получил название «черный мел», а позже карандаши изготовлялись из ламповой сажи с примесью белой глины, в настоящее время - из порошка жженой кости с растительным клеем. Разновидность этого карандаша - ретушь. Он дает глубокий черный матовый тон и напоминает уго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фи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изобретены французским химиком Конте, который в XVIII в. с помощью примеси глины и обжига придал графиту необходимую твердость; карандаш серебристо-серого то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ве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андаши имеют стержень из растертых красителей, соединенных с клеящими веществами и другими компонентами, придающими необходимые качества грифелю. Цветные карандаши, так же как и краски, можно смешивать для получения новых цветов и оттенков. Они возникают на основе механического и пространственно-оптического смешения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виды карандашей формуются в виде палочек и остаются без оправы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голь, сангина, пас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рисунок2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626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2520" y="649116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тный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010960" y="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исовки пейзажных мо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280440" y="632448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тный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рисунок3"/>
          <p:cNvPicPr/>
          <p:nvPr/>
        </p:nvPicPr>
        <p:blipFill>
          <a:blip r:embed="rId1"/>
          <a:stretch/>
        </p:blipFill>
        <p:spPr>
          <a:xfrm>
            <a:off x="2819520" y="0"/>
            <a:ext cx="5229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152280" y="2286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йзаж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217440" y="62164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рисунок4"/>
          <p:cNvPicPr/>
          <p:nvPr/>
        </p:nvPicPr>
        <p:blipFill>
          <a:blip r:embed="rId1"/>
          <a:stretch/>
        </p:blipFill>
        <p:spPr>
          <a:xfrm>
            <a:off x="1600200" y="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22860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536520" y="646128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рисунок5"/>
          <p:cNvPicPr/>
          <p:nvPr/>
        </p:nvPicPr>
        <p:blipFill>
          <a:blip r:embed="rId1"/>
          <a:stretch/>
        </p:blipFill>
        <p:spPr>
          <a:xfrm>
            <a:off x="609480" y="0"/>
            <a:ext cx="8016840" cy="649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2-03-08T09:11:42Z</dcterms:modified>
  <cp:revision>1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