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71904-7B32-4AC5-BEF0-E176A085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C6B1D-7A29-4553-95CF-8A4DD4E2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AEA8E-048D-4D85-9F23-FDFF2310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837E3-C833-47C5-B495-174016B7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8841-2E68-47CE-BFDD-150C1B10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04F6-ECD6-40B6-B83D-2E776575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C83A-B277-49DE-BA99-20BF388B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BF5C-680D-4577-A891-0555BD15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1F0D-6357-4903-9422-2D040A8D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5778-B876-49F4-A73A-70454CD9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3D7B-846F-4314-BE10-76FC0A2B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40018-E789-4386-9940-70B7BDF6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C806-45DC-4BD8-B43A-74A5E95A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BF82-691A-4E2A-BA82-E938F930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D8C8-A7C8-4372-9327-FF0BE6F0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208D-0D6F-4C34-A2E6-BCF8D71F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7B99-ED11-4175-B6FB-8FE9E700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17CC5-1316-4A41-B046-D26AE329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2BFE4-1233-4525-A11C-21313DC1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041FE-C17C-472D-9A89-5E438E5F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61170-3D7C-42F7-A208-5D763C42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343A2-56B5-482A-8426-316A3540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5F134-2378-4BFC-A7CE-BD520FC8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2A735-9CDA-4F9E-954E-D86C17A7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402C-6A5E-4C2A-A3CC-0DB0B037A4A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E2FF-580A-469E-BB08-AE3D7AD4005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5"/>
          <p:cNvSpPr txBox="1"/>
          <p:nvPr/>
        </p:nvSpPr>
        <p:spPr>
          <a:xfrm>
            <a:off x="250920" y="1484280"/>
            <a:ext cx="8353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добрым     людям     на     загляденье»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WordArt 7"/>
          <p:cNvSpPr txBox="1"/>
          <p:nvPr/>
        </p:nvSpPr>
        <p:spPr>
          <a:xfrm>
            <a:off x="1452600" y="3716280"/>
            <a:ext cx="6238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родные промыслы Росси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cc"/>
                </a:solidFill>
                <a:latin typeface="Tahoma"/>
              </a:rPr>
              <a:t>Заключ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Самым высоким видом искусства, самым талантливым, самым гениальным является народное искусство, то есть то, что запечатлено народом, сохранено, что народ пронёс через столети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М.И.Калин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Я надеюсь, что собранный мною материал помог вам познакомиться с народными промыслами Росс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озможно, кому-то захочется продолжить изучение ремёсел и коллекцию слайд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cc"/>
                </a:solidFill>
                <a:latin typeface="Tahoma"/>
              </a:rPr>
              <a:t>Содержа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crosoft Sans Serif"/>
              </a:rPr>
              <a:t>Дым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crosoft Sans Serif"/>
              </a:rPr>
              <a:t>Золотая Хохло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crosoft Sans Serif"/>
              </a:rPr>
              <a:t>Живая Гж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crosoft Sans Serif"/>
              </a:rPr>
              <a:t>Жосто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crosoft Sans Serif"/>
              </a:rPr>
              <a:t>Пале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crosoft Sans Serif"/>
              </a:rPr>
              <a:t>Проверьте себ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crosoft Sans Serif"/>
              </a:rPr>
              <a:t>Заклю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68680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Я приглашаю всех в путешествие по России в центры народных промыслов. И сегодня я хочу воспеть и восславить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3141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« Сердце добро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Щедрость да разу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Руки искусные люда русского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cc"/>
                </a:solidFill>
                <a:latin typeface="Tahoma"/>
              </a:rPr>
              <a:t>Дым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Наши руки кренделько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Щёки будто ябло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 нами издавна рядк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есь народ на ярмар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Мы игрушки распис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Хохотушки вятск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Щеголихи слободски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Кумушки посадск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10" descr="6"/>
          <p:cNvPicPr/>
          <p:nvPr/>
        </p:nvPicPr>
        <p:blipFill>
          <a:blip r:embed="rId1"/>
          <a:stretch/>
        </p:blipFill>
        <p:spPr>
          <a:xfrm>
            <a:off x="6372360" y="260280"/>
            <a:ext cx="2498760" cy="345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dymk2"/>
          <p:cNvPicPr/>
          <p:nvPr/>
        </p:nvPicPr>
        <p:blipFill>
          <a:blip r:embed="rId2"/>
          <a:stretch/>
        </p:blipFill>
        <p:spPr>
          <a:xfrm>
            <a:off x="4140360" y="2492280"/>
            <a:ext cx="2705040" cy="4033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0356"/>
          <p:cNvPicPr/>
          <p:nvPr/>
        </p:nvPicPr>
        <p:blipFill>
          <a:blip r:embed="rId3"/>
          <a:stretch/>
        </p:blipFill>
        <p:spPr>
          <a:xfrm>
            <a:off x="7164360" y="4005360"/>
            <a:ext cx="1722600" cy="2582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else_1531_32"/>
          <p:cNvPicPr/>
          <p:nvPr/>
        </p:nvPicPr>
        <p:blipFill>
          <a:blip r:embed="rId4"/>
          <a:stretch/>
        </p:blipFill>
        <p:spPr>
          <a:xfrm>
            <a:off x="7211880" y="4005360"/>
            <a:ext cx="1622520" cy="2433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cc"/>
                </a:solidFill>
                <a:latin typeface="Tahoma"/>
              </a:rPr>
              <a:t>Золотая Хохлом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Picture 6" descr="x715_big"/>
          <p:cNvPicPr/>
          <p:nvPr/>
        </p:nvPicPr>
        <p:blipFill>
          <a:blip r:embed="rId1"/>
          <a:stretch/>
        </p:blipFill>
        <p:spPr>
          <a:xfrm>
            <a:off x="1081080" y="1600200"/>
            <a:ext cx="2789280" cy="21891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 торгового села Хохлома разлетались жар-птицам чашки да ложки по всей земл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лывёт по лету Хохлом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асписанная очень ловк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Не сумрак в вазах и солонках,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Напоминает Хохл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одную милую сторонку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Где рощи словно терем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Гда резвый Керженец струится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ак солнце в небе, Хохл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Ясна, чиста и круглолиц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7" descr="H3356i"/>
          <p:cNvPicPr/>
          <p:nvPr/>
        </p:nvPicPr>
        <p:blipFill>
          <a:blip r:embed="rId2"/>
          <a:stretch/>
        </p:blipFill>
        <p:spPr>
          <a:xfrm>
            <a:off x="2411280" y="3645000"/>
            <a:ext cx="2124360" cy="237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tvor-6"/>
          <p:cNvPicPr/>
          <p:nvPr/>
        </p:nvPicPr>
        <p:blipFill>
          <a:blip r:embed="rId3"/>
          <a:stretch/>
        </p:blipFill>
        <p:spPr>
          <a:xfrm>
            <a:off x="611280" y="4005360"/>
            <a:ext cx="1298520" cy="1731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preview_1531_34"/>
          <p:cNvPicPr/>
          <p:nvPr/>
        </p:nvPicPr>
        <p:blipFill>
          <a:blip r:embed="rId4"/>
          <a:stretch/>
        </p:blipFill>
        <p:spPr>
          <a:xfrm>
            <a:off x="250920" y="3933720"/>
            <a:ext cx="2017440" cy="2160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cc"/>
                </a:solidFill>
                <a:latin typeface="Tahoma"/>
              </a:rPr>
              <a:t>Живая Гжел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Что только не делают в Гжели: чашки, кувшины, вазы, фигурки людей и животных. Только два цвета присутствуют в росписи: белый-цвет снега, голубой-цвет неб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Едва ли есть земля на свете самая чистая, какова у нас гжельская, которой нигде не видел я белизною превосходне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М.В.Ломоно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12" descr="2"/>
          <p:cNvPicPr/>
          <p:nvPr/>
        </p:nvPicPr>
        <p:blipFill>
          <a:blip r:embed="rId1"/>
          <a:stretch/>
        </p:blipFill>
        <p:spPr>
          <a:xfrm>
            <a:off x="6372360" y="1197000"/>
            <a:ext cx="2519280" cy="287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3"/>
          <p:cNvPicPr/>
          <p:nvPr/>
        </p:nvPicPr>
        <p:blipFill>
          <a:blip r:embed="rId2"/>
          <a:stretch/>
        </p:blipFill>
        <p:spPr>
          <a:xfrm>
            <a:off x="5092560" y="3941640"/>
            <a:ext cx="3148200" cy="2189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cc"/>
                </a:solidFill>
                <a:latin typeface="Tahoma"/>
              </a:rPr>
              <a:t>Жостов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7" descr="8"/>
          <p:cNvPicPr/>
          <p:nvPr/>
        </p:nvPicPr>
        <p:blipFill>
          <a:blip r:embed="rId1"/>
          <a:stretch/>
        </p:blipFill>
        <p:spPr>
          <a:xfrm>
            <a:off x="1057320" y="1600200"/>
            <a:ext cx="2838240" cy="2189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. Кто смел раскинуть на поднос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Такие яркие цвет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з под руки, как ветер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Как стая ласточек взлетел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збрасывая лепест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Кипень цветочн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8" descr="p658_big"/>
          <p:cNvPicPr/>
          <p:nvPr/>
        </p:nvPicPr>
        <p:blipFill>
          <a:blip r:embed="rId2"/>
          <a:stretch/>
        </p:blipFill>
        <p:spPr>
          <a:xfrm>
            <a:off x="250920" y="3941640"/>
            <a:ext cx="2881080" cy="2189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Пале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Икона палехского письма была изумительно нарядна, от мечты о празднике жизни её несравненное сия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усские иконные края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алеха несломленные крылья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Белый храм возносится куда-т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Мудрый, как ушедшие век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колько здесь оставлено сердец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колько тут написано шкатулок?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7" descr="pic_tit"/>
          <p:cNvPicPr/>
          <p:nvPr/>
        </p:nvPicPr>
        <p:blipFill>
          <a:blip r:embed="rId1"/>
          <a:stretch/>
        </p:blipFill>
        <p:spPr>
          <a:xfrm>
            <a:off x="4672080" y="1717560"/>
            <a:ext cx="3990960" cy="1952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lak"/>
          <p:cNvPicPr/>
          <p:nvPr/>
        </p:nvPicPr>
        <p:blipFill>
          <a:blip r:embed="rId2"/>
          <a:stretch/>
        </p:blipFill>
        <p:spPr>
          <a:xfrm>
            <a:off x="4648320" y="3952800"/>
            <a:ext cx="4038480" cy="2166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cc"/>
                </a:solidFill>
                <a:latin typeface="Tahoma"/>
              </a:rPr>
              <a:t>Проверь    себ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 промыслы представлены в рабо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народная мудрость гласит «Не то дорого, что красно, а то дорого, что мастера доброго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 промыслы вам ещё известн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5T07:43:26Z</dcterms:created>
  <dc:creator>_</dc:creator>
  <dc:description/>
  <dc:language>en-US</dc:language>
  <cp:lastModifiedBy>коллеги</cp:lastModifiedBy>
  <dcterms:modified xsi:type="dcterms:W3CDTF">2010-01-25T04:53:27Z</dcterms:modified>
  <cp:revision>36</cp:revision>
  <dc:subject/>
  <dc:title>«добрым людям на загляденье»</dc:title>
</cp:coreProperties>
</file>