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4E3-09B7-4473-B7DC-0C303D3C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EEA-6FD5-4973-8A6F-77C5C07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50F-04F0-40FE-9729-185EC45D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911-E748-4B4B-980D-B1ABE41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51A-8D48-429A-8316-6F75965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750-8C94-48F3-8A06-DDFE9C5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11A-3549-4690-B3E2-20CC9A7F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856-99A1-4835-B898-F3410398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C4B-610C-45B6-95C7-B0C5944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C50-C098-422C-9C2F-09D39D8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68D-4CE9-4606-98BF-4B5868A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FC2-D10A-4436-98DE-0F03DE9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2E0-161B-4255-8C4E-2E4836C2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ПАПОРО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логическ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50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5024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9502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01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2600"/>
            <a:ext cx="5148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ихарин</cp:lastModifiedBy>
  <dcterms:modified xsi:type="dcterms:W3CDTF">2012-03-08T09:36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