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drumroll.wav" ContentType="audio/x-wav"/>
  <Override PartName="/ppt/media/image24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4.png" ContentType="image/png"/>
  <Override PartName="/ppt/media/image11.png" ContentType="image/png"/>
  <Override PartName="/ppt/media/image13.jpeg" ContentType="image/jpeg"/>
  <Override PartName="/ppt/media/image29.png" ContentType="image/png"/>
  <Override PartName="/ppt/media/image31.png" ContentType="image/png"/>
  <Override PartName="/ppt/media/image30.png" ContentType="image/png"/>
  <Override PartName="/ppt/media/image1.jpeg" ContentType="image/jpeg"/>
  <Override PartName="/ppt/media/image1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CB9A-E585-4734-B066-3F836BC7E5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C9F7-E7A1-49B5-80ED-5D340596F8C0}" type="slidenum">
              <a:rPr b="0" lang="ru-RU" sz="1200" spc="-1" strike="noStrike">
                <a:solidFill>
                  <a:srgbClr val="fff1c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384E-8F78-43C1-B4F1-861C358BA9B1}" type="slidenum">
              <a:rPr b="0" lang="ru-RU" sz="1200" spc="-1" strike="noStrike">
                <a:solidFill>
                  <a:srgbClr val="fff1c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F82D-C24C-47D7-8FA5-5D54B9DDAA4E}" type="slidenum">
              <a:rPr b="0" lang="ru-RU" sz="1200" spc="-1" strike="noStrike">
                <a:solidFill>
                  <a:srgbClr val="fff1c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11E0-1EFF-489D-B891-5D1A2DC524D1}" type="slidenum">
              <a:rPr b="0" lang="ru-RU" sz="1200" spc="-1" strike="noStrike">
                <a:solidFill>
                  <a:srgbClr val="fff1c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07B8-5492-4AFD-8312-D2472C2ECF33}" type="slidenum">
              <a:rPr b="0" lang="ru-RU" sz="1200" spc="-1" strike="noStrike">
                <a:solidFill>
                  <a:srgbClr val="fff1c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306E-03B8-469D-AE8E-863256F65D35}" type="slidenum">
              <a:rPr b="0" lang="ru-RU" sz="1200" spc="-1" strike="noStrike">
                <a:solidFill>
                  <a:srgbClr val="fff1c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032B-66DD-42E8-9515-9B7ADA35B337}" type="slidenum">
              <a:rPr b="0" lang="ru-RU" sz="1200" spc="-1" strike="noStrike">
                <a:solidFill>
                  <a:srgbClr val="fff1c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4AB4-F794-43D1-8A95-94AF48FB30EE}" type="slidenum">
              <a:rPr b="0" lang="ru-RU" sz="1200" spc="-1" strike="noStrike">
                <a:solidFill>
                  <a:srgbClr val="fff1c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DCF8-15C2-4C57-8EBC-D27E925F7F7E}" type="slidenum">
              <a:rPr b="0" lang="ru-RU" sz="1200" spc="-1" strike="noStrike">
                <a:solidFill>
                  <a:srgbClr val="fff1c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594E-DBB4-4A08-8207-84180B42E158}" type="slidenum">
              <a:rPr b="0" lang="ru-RU" sz="1200" spc="-1" strike="noStrike">
                <a:solidFill>
                  <a:srgbClr val="fff1c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F90-AD67-4BBF-A7BC-B864C391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37B-5390-4615-8E36-160B2D6F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6C295-9BDB-4942-B81B-EDB92A08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28064-CF14-40ED-8B48-EDAD40D7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8F648-6DCE-45AE-B7A3-4197EDAF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047FB-8737-4787-8CE2-5C4CADFD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598D5-EF44-4C14-9021-D2F68183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4ACA3-DBA0-4D68-8D55-26F25E1F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CFF65-6F72-492B-81D9-659B6218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220E2-B923-4FAF-90ED-38435E33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B8E9E-95AB-4F07-AD7C-A5FD9D60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501-B143-4C2D-97ED-8745663B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24E-1D5D-4862-85C9-8AEA4C1F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2F62-A002-45EB-B282-D4D42E23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03F8-7445-482A-97C4-7C5845CD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0928-8203-4608-AA68-547A09BC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3C23-3EF5-4596-96E8-383AF74B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B0DA-7E71-49E0-AEBB-03968C9B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936F-FD77-4C03-AD40-2B1AF2E5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8DAE-7144-47B3-AD84-D7A4A0BF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88E-5033-4F87-8564-56C9216E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F3EC-A700-45CD-8254-A0BF8E92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059A-C20F-4F1B-B411-87F39273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C87D-9F4B-4ECB-92C5-2AF66E73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E7D5-4BB4-47AB-917B-3F5A6ED3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1FFB-A928-42CB-9140-9850FC44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699A3-2FCD-4255-A53F-5EE285DB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FCB5A-E410-481F-8E00-46F6CF94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D0662-8CD5-42FE-B173-AAC96641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9426B-E03B-47C6-97E9-FE6988E7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F6A15-F291-4D54-8F97-9721CE38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F1C-6B9C-44A8-96DA-BE190A92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6F82-6921-4765-BFEC-4132324A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66AF5-A7A1-4A35-BBBD-E49CD992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4E357-4228-4F99-89D7-0F540DB8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629F5-C706-477E-8C59-F31653DF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5E5FD-F877-445A-82FB-B7660274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5A557-D801-4705-8421-40F7F1E4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06218-EF07-4906-BD83-FE4F1F6F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46533-35E2-4BED-86D4-1E0CA8A0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0D63-634F-47BD-9DFA-E13C45A7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6FF11-A0F8-41B2-A488-28BF08AF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CB6A-11FB-43E1-863F-5DCA9E54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0DA8F-2130-4EEE-9981-471C3659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065AB-22B1-4F7E-9DFF-5CB080C3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D6A90-F685-4D68-9FD9-36C33DEC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C94A5-E883-414D-B58A-5EA39987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2A233-8135-4BFB-B174-9DE08EB6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5E5B6-375D-435D-A755-BD94A5A6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9D390-6CFE-457D-A270-B3C765E0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B5B5D-8A98-41FB-A2AA-41E6757E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BF97C-FA28-4398-A747-8BC69859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FE5D8-6C40-48C8-83CB-A4B0E4BE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A52-8946-418E-A276-F9DD558D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06BF2-BBEB-4F23-B22F-968064A4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BE32A-D428-4E9B-B472-B3997B5A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1ED55-504F-427A-BB01-EE1BB221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82F90-8EF9-41DB-9F02-FC3F9A9A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49370-ADC7-4071-B949-BCCFB6BC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7580B-EFA3-4E93-BB48-AC32F3EF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F3A70-777F-4ACA-9BDD-C7767C82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568AA-6927-4169-817C-DEF22D72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5FF67-CD39-4487-9720-B507D80C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4767A-9943-4E18-AFBE-DA0963D7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B24-C87B-4B86-8670-CACA1D57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13C05-F3D2-491C-BE36-551529E2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22CAF-730F-4288-8CC9-DFF764A3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11C01-0A70-4C7C-8ED7-465A65E9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2515E-DDE6-4162-A6AB-B335FD7C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D9BB5-A51C-4C21-8310-F2D9E546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6774A-C2DA-4738-A6E4-A62FF778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7DA4F-CDE6-4B75-8AD6-D6363AAB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54EB2-B347-44A1-855C-EFFE76A7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C43A9-4076-43BA-BF90-D7FA2A22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58DBA-1123-45AA-85C9-E1ED8CCE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2B3-EC0C-48EA-930C-6226AE00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6D112-0450-4127-8F45-569030F2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73151-6FEB-4A4A-9DB1-4DC9625E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995EA-934D-454D-9D68-C83BBAFD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40FAA-105E-4AA4-A9AA-DBA6AEC7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2FA1C-C514-4F44-B62A-B88E1AD5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1B746-6860-4BA9-95CA-9F07CD49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0A6B9-8901-4D76-BE04-E18B8F41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A628F-ABCE-4DFA-B8EE-B6A86314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F3729-3A88-4B5E-8CDC-8F4CB646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40F09-4DEB-4715-B7E2-E0974304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2FD-7385-4C33-B813-758CD107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FF3F0-B0A5-4453-8DBE-6FED55A5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61F5C-30A1-46C8-A91A-DD7F7CC2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E95B5-5FD9-461C-9FFF-3861EC5F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0BB29-BC8A-4A80-BEA1-65732270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C24AD-FEC7-4A57-AB77-46D04EE6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B7ABD-984E-4A85-9CA5-9D506F2E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413C3-71C5-4DDF-9406-51BD3542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2C3DA-4131-4112-B43A-E029311D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F0507-7045-48FB-8CF7-14C6836B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0AC44-79F7-4F21-A6E4-E9A61BBA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1B3-48B3-4F66-92D4-571215D8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5A42A-146F-490A-96AD-F77913B8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EA4F0-B8A6-48B2-8341-2EF87E29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A07C4-2998-490A-B58E-D19F0520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519DB-40D9-48BC-8175-6D44DF8C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1C8ED-E60E-455C-9A99-6E78CDD4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CADFD-855F-464D-8775-588FA5A6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673DE-5B71-417D-A367-F951B95C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6FD81-4D2E-4B19-97BB-44077B06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F187B-93FE-4C5A-AD67-72E01555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BB087-D6F9-485B-883B-55E38FE4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1c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1c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56B8-BD8C-44E1-B3B8-D0454416BC3E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1c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1c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2B91-A73F-40DE-9834-FD0884B7A906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1c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1c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2C40-7BC0-4EC7-B04A-9A65B1E35200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5D09-8C8F-421B-8690-3A49E21B061E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1c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1c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1628-B456-4783-B55F-0273EBAF60A0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1c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1c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995D-D90C-4000-AA03-F728B00DBA5C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1c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1c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970E-90C9-468F-AA34-EA83045A8157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1c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1c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BCF2-2CEF-4441-A6F7-339DF40E3CE8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1c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1c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AAE2-29B8-44CB-951D-A0EA98CD1E27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3.gif"/><Relationship Id="rId3" Type="http://schemas.openxmlformats.org/officeDocument/2006/relationships/image" Target="../media/image27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6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6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30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26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30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26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3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26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3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26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5.pn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slide" Target="slide12.xml"/><Relationship Id="rId11" Type="http://schemas.openxmlformats.org/officeDocument/2006/relationships/image" Target="../media/image16.pn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slide" Target="slide7.xml"/><Relationship Id="rId15" Type="http://schemas.openxmlformats.org/officeDocument/2006/relationships/image" Target="../media/image17.pn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slide" Target="slide13.xml"/><Relationship Id="rId19" Type="http://schemas.openxmlformats.org/officeDocument/2006/relationships/image" Target="../media/image18.pn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slide" Target="slide6.xml"/><Relationship Id="rId23" Type="http://schemas.openxmlformats.org/officeDocument/2006/relationships/image" Target="../media/image19.pn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slide" Target="slide11.xml"/><Relationship Id="rId27" Type="http://schemas.openxmlformats.org/officeDocument/2006/relationships/image" Target="../media/image20.png"/><Relationship Id="rId28" Type="http://schemas.openxmlformats.org/officeDocument/2006/relationships/image" Target="../media/image13.jpeg"/><Relationship Id="rId29" Type="http://schemas.openxmlformats.org/officeDocument/2006/relationships/image" Target="../media/image13.jpeg"/><Relationship Id="rId30" Type="http://schemas.openxmlformats.org/officeDocument/2006/relationships/slide" Target="slide8.xml"/><Relationship Id="rId31" Type="http://schemas.openxmlformats.org/officeDocument/2006/relationships/image" Target="../media/image21.png"/><Relationship Id="rId32" Type="http://schemas.openxmlformats.org/officeDocument/2006/relationships/image" Target="../media/image13.jpeg"/><Relationship Id="rId33" Type="http://schemas.openxmlformats.org/officeDocument/2006/relationships/image" Target="../media/image13.jpeg"/><Relationship Id="rId34" Type="http://schemas.openxmlformats.org/officeDocument/2006/relationships/slideLayout" Target="../slideLayouts/slideLayout25.xml"/><Relationship Id="rId3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7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6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1" descr="fiz4.jpg"/>
          <p:cNvPicPr/>
          <p:nvPr/>
        </p:nvPicPr>
        <p:blipFill>
          <a:blip r:embed="rId1"/>
          <a:stretch/>
        </p:blipFill>
        <p:spPr>
          <a:xfrm>
            <a:off x="785880" y="571680"/>
            <a:ext cx="4143240" cy="185724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2" descr="fiz5.jpg"/>
          <p:cNvPicPr/>
          <p:nvPr/>
        </p:nvPicPr>
        <p:blipFill>
          <a:blip r:embed="rId2"/>
          <a:stretch/>
        </p:blipFill>
        <p:spPr>
          <a:xfrm>
            <a:off x="4000680" y="2643120"/>
            <a:ext cx="4286160" cy="157176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3" descr=""/>
          <p:cNvPicPr/>
          <p:nvPr/>
        </p:nvPicPr>
        <p:blipFill>
          <a:blip r:embed="rId3"/>
          <a:stretch/>
        </p:blipFill>
        <p:spPr>
          <a:xfrm>
            <a:off x="857160" y="4429080"/>
            <a:ext cx="5940360" cy="2014560"/>
          </a:xfrm>
          <a:prstGeom prst="rect">
            <a:avLst/>
          </a:prstGeom>
          <a:ln w="76320">
            <a:solidFill>
              <a:srgbClr val="fff1c1"/>
            </a:solidFill>
            <a:miter/>
          </a:ln>
        </p:spPr>
      </p:pic>
      <p:sp>
        <p:nvSpPr>
          <p:cNvPr id="409" name="TextBox 4"/>
          <p:cNvSpPr/>
          <p:nvPr/>
        </p:nvSpPr>
        <p:spPr>
          <a:xfrm>
            <a:off x="5214960" y="18572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21e"/>
                </a:solidFill>
                <a:latin typeface="Arial"/>
              </a:rPr>
              <a:t>КОЛЕБАНИЕ</a:t>
            </a: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10" name="TextBox 5"/>
          <p:cNvSpPr/>
          <p:nvPr/>
        </p:nvSpPr>
        <p:spPr>
          <a:xfrm>
            <a:off x="928800" y="3571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21e"/>
                </a:solidFill>
                <a:latin typeface="Arial"/>
              </a:rPr>
              <a:t>РЕЗОНАНС</a:t>
            </a: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11" name="TextBox 6"/>
          <p:cNvSpPr/>
          <p:nvPr/>
        </p:nvSpPr>
        <p:spPr>
          <a:xfrm>
            <a:off x="7072200" y="5572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21e"/>
                </a:solidFill>
                <a:latin typeface="Arial"/>
              </a:rPr>
              <a:t>МАЯТНИК</a:t>
            </a: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Rectangle 2" descr=""/>
          <p:cNvPicPr/>
          <p:nvPr/>
        </p:nvPicPr>
        <p:blipFill>
          <a:blip r:embed="rId1"/>
          <a:stretch/>
        </p:blipFill>
        <p:spPr>
          <a:xfrm>
            <a:off x="3108240" y="268200"/>
            <a:ext cx="6042240" cy="115884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1403280" y="1493640"/>
            <a:ext cx="7740720" cy="22050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Franklin Gothic Book"/>
              </a:rPr>
              <a:t>При свободных колебаниях шар на нити проходит от левого крайнего положения до правого за 0,4 с. 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Какой период колебания нити?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505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07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0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0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1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1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1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13" name="Rectangle 12"/>
          <p:cNvSpPr/>
          <p:nvPr/>
        </p:nvSpPr>
        <p:spPr>
          <a:xfrm>
            <a:off x="4572000" y="405936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Calibri"/>
              </a:rPr>
              <a:t>Правильный ответ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14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pic>
        <p:nvPicPr>
          <p:cNvPr id="515" name="Picture 24" descr="C:\Documents and Settings\семья ого\Мои документы\оформление проектов\PRAV31.GIF"/>
          <p:cNvPicPr/>
          <p:nvPr/>
        </p:nvPicPr>
        <p:blipFill>
          <a:blip r:embed="rId11"/>
          <a:stretch/>
        </p:blipFill>
        <p:spPr>
          <a:xfrm>
            <a:off x="1857240" y="3714840"/>
            <a:ext cx="1333800" cy="142884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13"/>
          <p:cNvSpPr/>
          <p:nvPr/>
        </p:nvSpPr>
        <p:spPr>
          <a:xfrm rot="10800000">
            <a:off x="5920920" y="5229360"/>
            <a:ext cx="2295720" cy="712800"/>
          </a:xfrm>
          <a:prstGeom prst="wedgeRectCallout">
            <a:avLst>
              <a:gd name="adj1" fmla="val -7611"/>
              <a:gd name="adj2" fmla="val 114138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Т=0,8 с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5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Rectangle 2" descr=""/>
          <p:cNvPicPr/>
          <p:nvPr/>
        </p:nvPicPr>
        <p:blipFill>
          <a:blip r:embed="rId1"/>
          <a:stretch/>
        </p:blipFill>
        <p:spPr>
          <a:xfrm>
            <a:off x="1994040" y="268200"/>
            <a:ext cx="6040440" cy="11588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1331640" y="1989000"/>
            <a:ext cx="727236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Как изменится частота колебаний маятника, если его перенести из воздуха в воду?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519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20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21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2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2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2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2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2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Calibri"/>
              </a:rPr>
              <a:t>Правильный ответ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2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pic>
        <p:nvPicPr>
          <p:cNvPr id="529" name="Picture 24" descr="C:\Documents and Settings\семья ого\Мои документы\оформление проектов\PRAV31.GIF"/>
          <p:cNvPicPr/>
          <p:nvPr/>
        </p:nvPicPr>
        <p:blipFill>
          <a:blip r:embed="rId11"/>
          <a:stretch/>
        </p:blipFill>
        <p:spPr>
          <a:xfrm>
            <a:off x="1857240" y="3714840"/>
            <a:ext cx="1333800" cy="1428840"/>
          </a:xfrm>
          <a:prstGeom prst="rect">
            <a:avLst/>
          </a:prstGeom>
          <a:ln w="0">
            <a:noFill/>
          </a:ln>
        </p:spPr>
      </p:pic>
      <p:sp>
        <p:nvSpPr>
          <p:cNvPr id="530" name="AutoShape 13"/>
          <p:cNvSpPr/>
          <p:nvPr/>
        </p:nvSpPr>
        <p:spPr>
          <a:xfrm rot="10800000">
            <a:off x="5651280" y="4786200"/>
            <a:ext cx="3106440" cy="712800"/>
          </a:xfrm>
          <a:prstGeom prst="wedgeRectCallout">
            <a:avLst>
              <a:gd name="adj1" fmla="val 7379"/>
              <a:gd name="adj2" fmla="val 1139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уменьшится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2" descr=""/>
          <p:cNvPicPr/>
          <p:nvPr/>
        </p:nvPicPr>
        <p:blipFill>
          <a:blip r:embed="rId1"/>
          <a:stretch/>
        </p:blipFill>
        <p:spPr>
          <a:xfrm>
            <a:off x="1994040" y="268200"/>
            <a:ext cx="6040440" cy="11588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2546280" y="1267920"/>
            <a:ext cx="6166080" cy="297036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Franklin Gothic Book"/>
              </a:rPr>
              <a:t>Бушует вихрь в чистом поле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Franklin Gothic Book"/>
              </a:rPr>
              <a:t>И на краю седых небес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Franklin Gothic Book"/>
              </a:rPr>
              <a:t>Качает обнаженный лес…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Какой вид колебательного движения?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533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35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3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3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3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3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4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4572000" y="441972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Calibri"/>
              </a:rPr>
              <a:t>Правильный ответ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4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pic>
        <p:nvPicPr>
          <p:cNvPr id="543" name="Picture 24" descr="C:\Documents and Settings\семья ого\Мои документы\оформление проектов\PRAV31.GIF"/>
          <p:cNvPicPr/>
          <p:nvPr/>
        </p:nvPicPr>
        <p:blipFill>
          <a:blip r:embed="rId11"/>
          <a:stretch/>
        </p:blipFill>
        <p:spPr>
          <a:xfrm>
            <a:off x="880920" y="3699000"/>
            <a:ext cx="1333800" cy="142848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3"/>
          <p:cNvSpPr/>
          <p:nvPr/>
        </p:nvSpPr>
        <p:spPr>
          <a:xfrm rot="10800000">
            <a:off x="5516280" y="5454720"/>
            <a:ext cx="3195720" cy="674640"/>
          </a:xfrm>
          <a:prstGeom prst="wedgeRectCallout">
            <a:avLst>
              <a:gd name="adj1" fmla="val 10106"/>
              <a:gd name="adj2" fmla="val 117291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вынужденные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8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1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4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7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Rectangle 2" descr=""/>
          <p:cNvPicPr/>
          <p:nvPr/>
        </p:nvPicPr>
        <p:blipFill>
          <a:blip r:embed="rId1"/>
          <a:stretch/>
        </p:blipFill>
        <p:spPr>
          <a:xfrm>
            <a:off x="1994040" y="268200"/>
            <a:ext cx="6040440" cy="11588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1601640" y="1538280"/>
            <a:ext cx="6780240" cy="1611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Какое перемещение совершает груз, колеблющийся на нити за один период?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547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48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49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5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5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5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5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5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55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Calibri"/>
              </a:rPr>
              <a:t>Правильный ответ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5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pic>
        <p:nvPicPr>
          <p:cNvPr id="557" name="Picture 24" descr="C:\Documents and Settings\семья ого\Мои документы\оформление проектов\PRAV31.GIF"/>
          <p:cNvPicPr/>
          <p:nvPr/>
        </p:nvPicPr>
        <p:blipFill>
          <a:blip r:embed="rId11"/>
          <a:stretch/>
        </p:blipFill>
        <p:spPr>
          <a:xfrm>
            <a:off x="1857240" y="3714840"/>
            <a:ext cx="1333800" cy="1428840"/>
          </a:xfrm>
          <a:prstGeom prst="rect">
            <a:avLst/>
          </a:prstGeom>
          <a:ln w="0">
            <a:noFill/>
          </a:ln>
        </p:spPr>
      </p:pic>
      <p:sp>
        <p:nvSpPr>
          <p:cNvPr id="558" name="AutoShape 13"/>
          <p:cNvSpPr/>
          <p:nvPr/>
        </p:nvSpPr>
        <p:spPr>
          <a:xfrm rot="10800000">
            <a:off x="4976280" y="4824360"/>
            <a:ext cx="3870360" cy="1163520"/>
          </a:xfrm>
          <a:prstGeom prst="wedgeRectCallout">
            <a:avLst>
              <a:gd name="adj1" fmla="val -1685"/>
              <a:gd name="adj2" fmla="val 8901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Перемещение, равное нулю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Rectangle 2" descr=""/>
          <p:cNvPicPr/>
          <p:nvPr/>
        </p:nvPicPr>
        <p:blipFill>
          <a:blip r:embed="rId1"/>
          <a:stretch/>
        </p:blipFill>
        <p:spPr>
          <a:xfrm>
            <a:off x="1994040" y="268200"/>
            <a:ext cx="6040440" cy="11588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1285920" y="1628640"/>
            <a:ext cx="6780240" cy="20415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К каким колебаниям – свободным или вынужденным – применимо понятие резонанса?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561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62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63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6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6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6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6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69" name="Rectangle 12"/>
          <p:cNvSpPr/>
          <p:nvPr/>
        </p:nvSpPr>
        <p:spPr>
          <a:xfrm>
            <a:off x="4572000" y="401472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Calibri"/>
              </a:rPr>
              <a:t>Правильный ответ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7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pic>
        <p:nvPicPr>
          <p:cNvPr id="571" name="Picture 24" descr="C:\Documents and Settings\семья ого\Мои документы\оформление проектов\PRAV31.GIF"/>
          <p:cNvPicPr/>
          <p:nvPr/>
        </p:nvPicPr>
        <p:blipFill>
          <a:blip r:embed="rId11"/>
          <a:stretch/>
        </p:blipFill>
        <p:spPr>
          <a:xfrm>
            <a:off x="1857240" y="3714840"/>
            <a:ext cx="1333800" cy="142884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13"/>
          <p:cNvSpPr/>
          <p:nvPr/>
        </p:nvSpPr>
        <p:spPr>
          <a:xfrm rot="10800000">
            <a:off x="5381280" y="5094360"/>
            <a:ext cx="3241800" cy="668160"/>
          </a:xfrm>
          <a:prstGeom prst="wedgeRectCallout">
            <a:avLst>
              <a:gd name="adj1" fmla="val 9203"/>
              <a:gd name="adj2" fmla="val 11816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вынужденным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9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021e"/>
                </a:solidFill>
                <a:latin typeface="Franklin Gothic Book"/>
              </a:rPr>
              <a:t>Продолжить эксперимент с осциллографом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021e"/>
                </a:solidFill>
                <a:latin typeface="Franklin Gothic Book"/>
              </a:rPr>
              <a:t>Поставить цель и задачи, предложить методы их реализации, результаты эксперимента оформить в виде таблиц, графиков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Прямоугольник 1" descr=""/>
          <p:cNvPicPr/>
          <p:nvPr/>
        </p:nvPicPr>
        <p:blipFill>
          <a:blip r:embed="rId1"/>
          <a:stretch/>
        </p:blipFill>
        <p:spPr>
          <a:xfrm>
            <a:off x="433440" y="1731960"/>
            <a:ext cx="856440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"/>
          <p:cNvPicPr/>
          <p:nvPr/>
        </p:nvPicPr>
        <p:blipFill>
          <a:blip r:embed="rId1"/>
          <a:srcRect l="16846" t="28322" r="16506" b="21875"/>
          <a:stretch/>
        </p:blipFill>
        <p:spPr>
          <a:xfrm>
            <a:off x="428760" y="1143000"/>
            <a:ext cx="8285040" cy="4643280"/>
          </a:xfrm>
          <a:prstGeom prst="rect">
            <a:avLst/>
          </a:prstGeom>
          <a:ln w="0">
            <a:noFill/>
          </a:ln>
        </p:spPr>
      </p:pic>
      <p:pic>
        <p:nvPicPr>
          <p:cNvPr id="414" name="Прямоугольник 3" descr=""/>
          <p:cNvPicPr/>
          <p:nvPr/>
        </p:nvPicPr>
        <p:blipFill>
          <a:blip r:embed="rId2"/>
          <a:stretch/>
        </p:blipFill>
        <p:spPr>
          <a:xfrm>
            <a:off x="2114640" y="12600"/>
            <a:ext cx="4859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Прямоугольник 2" descr=""/>
          <p:cNvPicPr/>
          <p:nvPr/>
        </p:nvPicPr>
        <p:blipFill>
          <a:blip r:embed="rId1"/>
          <a:stretch/>
        </p:blipFill>
        <p:spPr>
          <a:xfrm>
            <a:off x="182520" y="298440"/>
            <a:ext cx="9180720" cy="1189080"/>
          </a:xfrm>
          <a:prstGeom prst="rect">
            <a:avLst/>
          </a:prstGeom>
          <a:ln w="0">
            <a:noFill/>
          </a:ln>
        </p:spPr>
      </p:pic>
      <p:sp>
        <p:nvSpPr>
          <p:cNvPr id="416" name="TextBox 3"/>
          <p:cNvSpPr/>
          <p:nvPr/>
        </p:nvSpPr>
        <p:spPr>
          <a:xfrm>
            <a:off x="714240" y="1714680"/>
            <a:ext cx="814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5e02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021e"/>
                </a:solidFill>
                <a:latin typeface="Arial"/>
              </a:rPr>
              <a:t>Изготовить осциллограф из консервной банки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  <a:p>
            <a:pPr marL="343080" indent="-343080">
              <a:buClr>
                <a:srgbClr val="5e02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021e"/>
                </a:solidFill>
                <a:latin typeface="Arial"/>
              </a:rPr>
              <a:t>Исследовать гласные и согласные звуки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  <a:p>
            <a:pPr marL="343080" indent="-343080">
              <a:buClr>
                <a:srgbClr val="5e02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021e"/>
                </a:solidFill>
                <a:latin typeface="Arial"/>
              </a:rPr>
              <a:t>Как изменится картинка, если пропеть гамму до-ре-ми-фа-соль?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  <a:p>
            <a:pPr marL="343080" indent="-343080">
              <a:buClr>
                <a:srgbClr val="5e02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021e"/>
                </a:solidFill>
                <a:latin typeface="Arial"/>
              </a:rPr>
              <a:t>Что наблюдается при свисте?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95"/>
          <p:cNvGrpSpPr/>
          <p:nvPr/>
        </p:nvGrpSpPr>
        <p:grpSpPr>
          <a:xfrm>
            <a:off x="6732720" y="549360"/>
            <a:ext cx="1709280" cy="1483920"/>
            <a:chOff x="6732720" y="549360"/>
            <a:chExt cx="1709280" cy="1483920"/>
          </a:xfrm>
        </p:grpSpPr>
        <p:sp>
          <p:nvSpPr>
            <p:cNvPr id="418" name="AutoShape 61"/>
            <p:cNvSpPr/>
            <p:nvPr/>
          </p:nvSpPr>
          <p:spPr>
            <a:xfrm>
              <a:off x="6732720" y="549360"/>
              <a:ext cx="1709280" cy="1483920"/>
            </a:xfrm>
            <a:custGeom>
              <a:avLst/>
              <a:gdLst>
                <a:gd name="textAreaLeft" fmla="*/ 96120 w 1709280"/>
                <a:gd name="textAreaRight" fmla="*/ 1613160 w 1709280"/>
                <a:gd name="textAreaTop" fmla="*/ 96120 h 1483920"/>
                <a:gd name="textAreaBottom" fmla="*/ 1387800 h 1483920"/>
              </a:gdLst>
              <a:ahLst/>
              <a:rect l="textAreaLeft" t="textAreaTop" r="textAreaRight" b="textAreaBottom"/>
              <a:pathLst>
                <a:path w="24880" h="21600">
                  <a:moveTo>
                    <a:pt x="0" y="0"/>
                  </a:moveTo>
                  <a:lnTo>
                    <a:pt x="24880" y="0"/>
                  </a:lnTo>
                  <a:lnTo>
                    <a:pt x="24880" y="21600"/>
                  </a:lnTo>
                  <a:lnTo>
                    <a:pt x="0" y="21600"/>
                  </a:lnTo>
                  <a:close/>
                </a:path>
                <a:path fill="lightenLess" w="24880" h="21600">
                  <a:moveTo>
                    <a:pt x="0" y="0"/>
                  </a:moveTo>
                  <a:lnTo>
                    <a:pt x="24880" y="0"/>
                  </a:lnTo>
                  <a:lnTo>
                    <a:pt x="23480" y="1400"/>
                  </a:lnTo>
                  <a:lnTo>
                    <a:pt x="1400" y="1400"/>
                  </a:lnTo>
                  <a:close/>
                </a:path>
                <a:path fill="darken" w="24880" h="21600">
                  <a:moveTo>
                    <a:pt x="24880" y="0"/>
                  </a:moveTo>
                  <a:lnTo>
                    <a:pt x="24880" y="21600"/>
                  </a:lnTo>
                  <a:lnTo>
                    <a:pt x="23480" y="20200"/>
                  </a:lnTo>
                  <a:lnTo>
                    <a:pt x="23480" y="1400"/>
                  </a:lnTo>
                  <a:close/>
                </a:path>
                <a:path fill="darkenLess" w="24880" h="21600">
                  <a:moveTo>
                    <a:pt x="2488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480" y="20200"/>
                  </a:lnTo>
                  <a:close/>
                </a:path>
                <a:path fill="lighten" w="2488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19080">
              <a:solidFill>
                <a:srgbClr val="fff1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  <p:sp>
          <p:nvSpPr>
            <p:cNvPr id="419" name="WordArt 85"/>
            <p:cNvSpPr txBox="1"/>
            <p:nvPr/>
          </p:nvSpPr>
          <p:spPr>
            <a:xfrm>
              <a:off x="7323120" y="856440"/>
              <a:ext cx="471240" cy="8200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Book Antiqua"/>
                </a:rPr>
                <a:t>3</a:t>
              </a:r>
              <a:endPara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  <a:ea typeface="Book Antiqua"/>
              </a:endParaRPr>
            </a:p>
          </p:txBody>
        </p:sp>
      </p:grpSp>
      <p:grpSp>
        <p:nvGrpSpPr>
          <p:cNvPr id="420" name="Group 100"/>
          <p:cNvGrpSpPr/>
          <p:nvPr/>
        </p:nvGrpSpPr>
        <p:grpSpPr>
          <a:xfrm>
            <a:off x="3887640" y="4194000"/>
            <a:ext cx="1647720" cy="1574640"/>
            <a:chOff x="3887640" y="4194000"/>
            <a:chExt cx="1647720" cy="1574640"/>
          </a:xfrm>
        </p:grpSpPr>
        <p:sp>
          <p:nvSpPr>
            <p:cNvPr id="421" name="AutoShape 16"/>
            <p:cNvSpPr/>
            <p:nvPr/>
          </p:nvSpPr>
          <p:spPr>
            <a:xfrm>
              <a:off x="3887640" y="4194000"/>
              <a:ext cx="1647720" cy="1574640"/>
            </a:xfrm>
            <a:custGeom>
              <a:avLst/>
              <a:gdLst>
                <a:gd name="textAreaLeft" fmla="*/ 101880 w 1647720"/>
                <a:gd name="textAreaRight" fmla="*/ 1545840 w 1647720"/>
                <a:gd name="textAreaTop" fmla="*/ 101880 h 1574640"/>
                <a:gd name="textAreaBottom" fmla="*/ 1472760 h 1574640"/>
              </a:gdLst>
              <a:ahLst/>
              <a:rect l="textAreaLeft" t="textAreaTop" r="textAreaRight" b="textAreaBottom"/>
              <a:pathLst>
                <a:path w="22602" h="21600">
                  <a:moveTo>
                    <a:pt x="0" y="0"/>
                  </a:moveTo>
                  <a:lnTo>
                    <a:pt x="22602" y="0"/>
                  </a:lnTo>
                  <a:lnTo>
                    <a:pt x="22602" y="21600"/>
                  </a:lnTo>
                  <a:lnTo>
                    <a:pt x="0" y="21600"/>
                  </a:lnTo>
                  <a:close/>
                </a:path>
                <a:path fill="lightenLess" w="22602" h="21600">
                  <a:moveTo>
                    <a:pt x="0" y="0"/>
                  </a:moveTo>
                  <a:lnTo>
                    <a:pt x="22602" y="0"/>
                  </a:lnTo>
                  <a:lnTo>
                    <a:pt x="21202" y="1400"/>
                  </a:lnTo>
                  <a:lnTo>
                    <a:pt x="1400" y="1400"/>
                  </a:lnTo>
                  <a:close/>
                </a:path>
                <a:path fill="darken" w="22602" h="21600">
                  <a:moveTo>
                    <a:pt x="22602" y="0"/>
                  </a:moveTo>
                  <a:lnTo>
                    <a:pt x="22602" y="21600"/>
                  </a:lnTo>
                  <a:lnTo>
                    <a:pt x="21202" y="20200"/>
                  </a:lnTo>
                  <a:lnTo>
                    <a:pt x="21202" y="1400"/>
                  </a:lnTo>
                  <a:close/>
                </a:path>
                <a:path fill="darkenLess" w="22602" h="21600">
                  <a:moveTo>
                    <a:pt x="226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202" y="20200"/>
                  </a:lnTo>
                  <a:close/>
                </a:path>
                <a:path fill="lighten" w="226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fff1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  <p:sp>
          <p:nvSpPr>
            <p:cNvPr id="422" name="WordArt 86"/>
            <p:cNvSpPr txBox="1"/>
            <p:nvPr/>
          </p:nvSpPr>
          <p:spPr>
            <a:xfrm>
              <a:off x="4456800" y="4519440"/>
              <a:ext cx="453600" cy="8701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Book Antiqua"/>
                </a:rPr>
                <a:t>8</a:t>
              </a:r>
              <a:endPara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Book Antiqua"/>
                <a:ea typeface="Book Antiqua"/>
              </a:endParaRPr>
            </a:p>
          </p:txBody>
        </p:sp>
      </p:grpSp>
      <p:grpSp>
        <p:nvGrpSpPr>
          <p:cNvPr id="423" name="Group 99"/>
          <p:cNvGrpSpPr/>
          <p:nvPr/>
        </p:nvGrpSpPr>
        <p:grpSpPr>
          <a:xfrm>
            <a:off x="1015920" y="4194000"/>
            <a:ext cx="1665000" cy="1574640"/>
            <a:chOff x="1015920" y="4194000"/>
            <a:chExt cx="1665000" cy="1574640"/>
          </a:xfrm>
        </p:grpSpPr>
        <p:sp>
          <p:nvSpPr>
            <p:cNvPr id="424" name="AutoShape 79"/>
            <p:cNvSpPr/>
            <p:nvPr/>
          </p:nvSpPr>
          <p:spPr>
            <a:xfrm>
              <a:off x="1015920" y="4194000"/>
              <a:ext cx="1665000" cy="1574640"/>
            </a:xfrm>
            <a:custGeom>
              <a:avLst/>
              <a:gdLst>
                <a:gd name="textAreaLeft" fmla="*/ 101880 w 1665000"/>
                <a:gd name="textAreaRight" fmla="*/ 1563120 w 1665000"/>
                <a:gd name="textAreaTop" fmla="*/ 101880 h 1574640"/>
                <a:gd name="textAreaBottom" fmla="*/ 1472760 h 1574640"/>
              </a:gdLst>
              <a:ahLst/>
              <a:rect l="textAreaLeft" t="textAreaTop" r="textAreaRight" b="textAreaBottom"/>
              <a:pathLst>
                <a:path w="22839" h="21600">
                  <a:moveTo>
                    <a:pt x="0" y="0"/>
                  </a:moveTo>
                  <a:lnTo>
                    <a:pt x="22839" y="0"/>
                  </a:lnTo>
                  <a:lnTo>
                    <a:pt x="22839" y="21600"/>
                  </a:lnTo>
                  <a:lnTo>
                    <a:pt x="0" y="21600"/>
                  </a:lnTo>
                  <a:close/>
                </a:path>
                <a:path fill="lightenLess" w="22839" h="21600">
                  <a:moveTo>
                    <a:pt x="0" y="0"/>
                  </a:moveTo>
                  <a:lnTo>
                    <a:pt x="22839" y="0"/>
                  </a:lnTo>
                  <a:lnTo>
                    <a:pt x="21439" y="1400"/>
                  </a:lnTo>
                  <a:lnTo>
                    <a:pt x="1400" y="1400"/>
                  </a:lnTo>
                  <a:close/>
                </a:path>
                <a:path fill="darken" w="22839" h="21600">
                  <a:moveTo>
                    <a:pt x="22839" y="0"/>
                  </a:moveTo>
                  <a:lnTo>
                    <a:pt x="22839" y="21600"/>
                  </a:lnTo>
                  <a:lnTo>
                    <a:pt x="21439" y="20200"/>
                  </a:lnTo>
                  <a:lnTo>
                    <a:pt x="21439" y="1400"/>
                  </a:lnTo>
                  <a:close/>
                </a:path>
                <a:path fill="darkenLess" w="22839" h="21600">
                  <a:moveTo>
                    <a:pt x="228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439" y="20200"/>
                  </a:lnTo>
                  <a:close/>
                </a:path>
                <a:path fill="lighten" w="228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19080">
              <a:solidFill>
                <a:srgbClr val="fff1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  <p:sp>
          <p:nvSpPr>
            <p:cNvPr id="425" name="WordArt 90"/>
            <p:cNvSpPr txBox="1"/>
            <p:nvPr/>
          </p:nvSpPr>
          <p:spPr>
            <a:xfrm>
              <a:off x="1591200" y="4520160"/>
              <a:ext cx="458640" cy="8701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Book Antiqua"/>
                </a:rPr>
                <a:t>7</a:t>
              </a:r>
              <a:endPara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Book Antiqua"/>
                <a:ea typeface="Book Antiqua"/>
              </a:endParaRPr>
            </a:p>
          </p:txBody>
        </p:sp>
      </p:grpSp>
      <p:grpSp>
        <p:nvGrpSpPr>
          <p:cNvPr id="426" name="Group 98"/>
          <p:cNvGrpSpPr/>
          <p:nvPr/>
        </p:nvGrpSpPr>
        <p:grpSpPr>
          <a:xfrm>
            <a:off x="6732720" y="2303640"/>
            <a:ext cx="1710720" cy="1537920"/>
            <a:chOff x="6732720" y="2303640"/>
            <a:chExt cx="1710720" cy="1537920"/>
          </a:xfrm>
        </p:grpSpPr>
        <p:sp>
          <p:nvSpPr>
            <p:cNvPr id="427" name="AutoShape 76">
              <a:hlinkClick r:id="rId10" action="ppaction://hlinksldjump"/>
            </p:cNvPr>
            <p:cNvSpPr/>
            <p:nvPr/>
          </p:nvSpPr>
          <p:spPr>
            <a:xfrm>
              <a:off x="6732720" y="2303640"/>
              <a:ext cx="1710720" cy="1537920"/>
            </a:xfrm>
            <a:custGeom>
              <a:avLst/>
              <a:gdLst>
                <a:gd name="textAreaLeft" fmla="*/ 99360 w 1710720"/>
                <a:gd name="textAreaRight" fmla="*/ 1611360 w 1710720"/>
                <a:gd name="textAreaTop" fmla="*/ 99360 h 1537920"/>
                <a:gd name="textAreaBottom" fmla="*/ 1438560 h 1537920"/>
              </a:gdLst>
              <a:ahLst/>
              <a:rect l="textAreaLeft" t="textAreaTop" r="textAreaRight" b="textAreaBottom"/>
              <a:pathLst>
                <a:path w="24026" h="21600">
                  <a:moveTo>
                    <a:pt x="0" y="0"/>
                  </a:moveTo>
                  <a:lnTo>
                    <a:pt x="24026" y="0"/>
                  </a:lnTo>
                  <a:lnTo>
                    <a:pt x="24026" y="21600"/>
                  </a:lnTo>
                  <a:lnTo>
                    <a:pt x="0" y="21600"/>
                  </a:lnTo>
                  <a:close/>
                </a:path>
                <a:path fill="lightenLess" w="24026" h="21600">
                  <a:moveTo>
                    <a:pt x="0" y="0"/>
                  </a:moveTo>
                  <a:lnTo>
                    <a:pt x="24026" y="0"/>
                  </a:lnTo>
                  <a:lnTo>
                    <a:pt x="22626" y="1400"/>
                  </a:lnTo>
                  <a:lnTo>
                    <a:pt x="1400" y="1400"/>
                  </a:lnTo>
                  <a:close/>
                </a:path>
                <a:path fill="darken" w="24026" h="21600">
                  <a:moveTo>
                    <a:pt x="24026" y="0"/>
                  </a:moveTo>
                  <a:lnTo>
                    <a:pt x="24026" y="21600"/>
                  </a:lnTo>
                  <a:lnTo>
                    <a:pt x="22626" y="20200"/>
                  </a:lnTo>
                  <a:lnTo>
                    <a:pt x="22626" y="1400"/>
                  </a:lnTo>
                  <a:close/>
                </a:path>
                <a:path fill="darkenLess" w="24026" h="21600">
                  <a:moveTo>
                    <a:pt x="2402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626" y="20200"/>
                  </a:lnTo>
                  <a:close/>
                </a:path>
                <a:path fill="lighten" w="2402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19080">
              <a:solidFill>
                <a:srgbClr val="fff1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  <p:sp>
          <p:nvSpPr>
            <p:cNvPr id="428" name="WordArt 91"/>
            <p:cNvSpPr txBox="1"/>
            <p:nvPr/>
          </p:nvSpPr>
          <p:spPr>
            <a:xfrm>
              <a:off x="7323840" y="2621880"/>
              <a:ext cx="471240" cy="8499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blipFill rotWithShape="0">
                    <a:blip r:embed="rId12"/>
                    <a:srcRect/>
                    <a:tile tx="0" ty="0" sx="100000" sy="100000" algn="ctr"/>
                  </a:blipFill>
                  <a:latin typeface="Book Antiqua"/>
                </a:rPr>
                <a:t>6</a:t>
              </a:r>
              <a:endPara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Book Antiqua"/>
                <a:ea typeface="Book Antiqua"/>
              </a:endParaRPr>
            </a:p>
          </p:txBody>
        </p:sp>
      </p:grpSp>
      <p:grpSp>
        <p:nvGrpSpPr>
          <p:cNvPr id="429" name="Group 97"/>
          <p:cNvGrpSpPr/>
          <p:nvPr/>
        </p:nvGrpSpPr>
        <p:grpSpPr>
          <a:xfrm>
            <a:off x="3836880" y="2322360"/>
            <a:ext cx="1647720" cy="1582560"/>
            <a:chOff x="3836880" y="2322360"/>
            <a:chExt cx="1647720" cy="1582560"/>
          </a:xfrm>
        </p:grpSpPr>
        <p:sp>
          <p:nvSpPr>
            <p:cNvPr id="430" name="AutoShape 70">
              <a:hlinkClick r:id="rId14" action="ppaction://hlinksldjump"/>
            </p:cNvPr>
            <p:cNvSpPr/>
            <p:nvPr/>
          </p:nvSpPr>
          <p:spPr>
            <a:xfrm>
              <a:off x="3836880" y="2322360"/>
              <a:ext cx="1647720" cy="1582560"/>
            </a:xfrm>
            <a:custGeom>
              <a:avLst/>
              <a:gdLst>
                <a:gd name="textAreaLeft" fmla="*/ 102240 w 1647720"/>
                <a:gd name="textAreaRight" fmla="*/ 1545480 w 1647720"/>
                <a:gd name="textAreaTop" fmla="*/ 102240 h 1582560"/>
                <a:gd name="textAreaBottom" fmla="*/ 1480320 h 1582560"/>
              </a:gdLst>
              <a:ahLst/>
              <a:rect l="textAreaLeft" t="textAreaTop" r="textAreaRight" b="textAreaBottom"/>
              <a:pathLst>
                <a:path w="22489" h="21600">
                  <a:moveTo>
                    <a:pt x="0" y="0"/>
                  </a:moveTo>
                  <a:lnTo>
                    <a:pt x="22489" y="0"/>
                  </a:lnTo>
                  <a:lnTo>
                    <a:pt x="22489" y="21600"/>
                  </a:lnTo>
                  <a:lnTo>
                    <a:pt x="0" y="21600"/>
                  </a:lnTo>
                  <a:close/>
                </a:path>
                <a:path fill="lightenLess" w="22489" h="21600">
                  <a:moveTo>
                    <a:pt x="0" y="0"/>
                  </a:moveTo>
                  <a:lnTo>
                    <a:pt x="22489" y="0"/>
                  </a:lnTo>
                  <a:lnTo>
                    <a:pt x="21089" y="1400"/>
                  </a:lnTo>
                  <a:lnTo>
                    <a:pt x="1400" y="1400"/>
                  </a:lnTo>
                  <a:close/>
                </a:path>
                <a:path fill="darken" w="22489" h="21600">
                  <a:moveTo>
                    <a:pt x="22489" y="0"/>
                  </a:moveTo>
                  <a:lnTo>
                    <a:pt x="22489" y="21600"/>
                  </a:lnTo>
                  <a:lnTo>
                    <a:pt x="21089" y="20200"/>
                  </a:lnTo>
                  <a:lnTo>
                    <a:pt x="21089" y="1400"/>
                  </a:lnTo>
                  <a:close/>
                </a:path>
                <a:path fill="darkenLess" w="22489" h="21600">
                  <a:moveTo>
                    <a:pt x="224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089" y="20200"/>
                  </a:lnTo>
                  <a:close/>
                </a:path>
                <a:path fill="lighten" w="224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19080">
              <a:solidFill>
                <a:srgbClr val="fff1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  <p:sp>
          <p:nvSpPr>
            <p:cNvPr id="431" name="WordArt 92"/>
            <p:cNvSpPr txBox="1"/>
            <p:nvPr/>
          </p:nvSpPr>
          <p:spPr>
            <a:xfrm>
              <a:off x="4406040" y="2649960"/>
              <a:ext cx="453600" cy="8744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blipFill rotWithShape="0">
                    <a:blip r:embed="rId16"/>
                    <a:srcRect/>
                    <a:tile tx="0" ty="0" sx="100000" sy="100000" algn="ctr"/>
                  </a:blipFill>
                  <a:latin typeface="Book Antiqua"/>
                </a:rPr>
                <a:t>5</a:t>
              </a:r>
              <a:endPara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Book Antiqua"/>
                <a:ea typeface="Book Antiqua"/>
              </a:endParaRPr>
            </a:p>
          </p:txBody>
        </p:sp>
      </p:grpSp>
      <p:grpSp>
        <p:nvGrpSpPr>
          <p:cNvPr id="432" name="Group 96"/>
          <p:cNvGrpSpPr/>
          <p:nvPr/>
        </p:nvGrpSpPr>
        <p:grpSpPr>
          <a:xfrm>
            <a:off x="971640" y="2367000"/>
            <a:ext cx="1665000" cy="1491840"/>
            <a:chOff x="971640" y="2367000"/>
            <a:chExt cx="1665000" cy="1491840"/>
          </a:xfrm>
        </p:grpSpPr>
        <p:sp>
          <p:nvSpPr>
            <p:cNvPr id="433" name="AutoShape 66">
              <a:hlinkClick r:id="rId18" action="ppaction://hlinksldjump"/>
            </p:cNvPr>
            <p:cNvSpPr/>
            <p:nvPr/>
          </p:nvSpPr>
          <p:spPr>
            <a:xfrm>
              <a:off x="971640" y="2367000"/>
              <a:ext cx="1665000" cy="1491840"/>
            </a:xfrm>
            <a:custGeom>
              <a:avLst/>
              <a:gdLst>
                <a:gd name="textAreaLeft" fmla="*/ 96480 w 1665000"/>
                <a:gd name="textAreaRight" fmla="*/ 1568520 w 1665000"/>
                <a:gd name="textAreaTop" fmla="*/ 96480 h 1491840"/>
                <a:gd name="textAreaBottom" fmla="*/ 1395360 h 1491840"/>
              </a:gdLst>
              <a:ahLst/>
              <a:rect l="textAreaLeft" t="textAreaTop" r="textAreaRight" b="textAreaBottom"/>
              <a:pathLst>
                <a:path w="24107" h="21600">
                  <a:moveTo>
                    <a:pt x="0" y="0"/>
                  </a:moveTo>
                  <a:lnTo>
                    <a:pt x="24107" y="0"/>
                  </a:lnTo>
                  <a:lnTo>
                    <a:pt x="24107" y="21600"/>
                  </a:lnTo>
                  <a:lnTo>
                    <a:pt x="0" y="21600"/>
                  </a:lnTo>
                  <a:close/>
                </a:path>
                <a:path fill="lightenLess" w="24107" h="21600">
                  <a:moveTo>
                    <a:pt x="0" y="0"/>
                  </a:moveTo>
                  <a:lnTo>
                    <a:pt x="24107" y="0"/>
                  </a:lnTo>
                  <a:lnTo>
                    <a:pt x="22707" y="1400"/>
                  </a:lnTo>
                  <a:lnTo>
                    <a:pt x="1400" y="1400"/>
                  </a:lnTo>
                  <a:close/>
                </a:path>
                <a:path fill="darken" w="24107" h="21600">
                  <a:moveTo>
                    <a:pt x="24107" y="0"/>
                  </a:moveTo>
                  <a:lnTo>
                    <a:pt x="24107" y="21600"/>
                  </a:lnTo>
                  <a:lnTo>
                    <a:pt x="22707" y="20200"/>
                  </a:lnTo>
                  <a:lnTo>
                    <a:pt x="22707" y="1400"/>
                  </a:lnTo>
                  <a:close/>
                </a:path>
                <a:path fill="darkenLess" w="24107" h="21600">
                  <a:moveTo>
                    <a:pt x="2410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707" y="20200"/>
                  </a:lnTo>
                  <a:close/>
                </a:path>
                <a:path fill="lighten" w="2410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19080">
              <a:solidFill>
                <a:srgbClr val="fff1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  <p:sp>
          <p:nvSpPr>
            <p:cNvPr id="434" name="WordArt 93"/>
            <p:cNvSpPr txBox="1"/>
            <p:nvPr/>
          </p:nvSpPr>
          <p:spPr>
            <a:xfrm>
              <a:off x="1546920" y="2675880"/>
              <a:ext cx="458640" cy="8244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blipFill rotWithShape="0">
                    <a:blip r:embed="rId20"/>
                    <a:srcRect/>
                    <a:tile tx="0" ty="0" sx="100000" sy="100000" algn="ctr"/>
                  </a:blipFill>
                  <a:latin typeface="Book Antiqua"/>
                </a:rPr>
                <a:t>4</a:t>
              </a:r>
              <a:endPara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latin typeface="Book Antiqua"/>
                <a:ea typeface="Book Antiqua"/>
              </a:endParaRPr>
            </a:p>
          </p:txBody>
        </p:sp>
      </p:grpSp>
      <p:grpSp>
        <p:nvGrpSpPr>
          <p:cNvPr id="435" name="Group 93"/>
          <p:cNvGrpSpPr/>
          <p:nvPr/>
        </p:nvGrpSpPr>
        <p:grpSpPr>
          <a:xfrm>
            <a:off x="971640" y="549360"/>
            <a:ext cx="1620360" cy="1530000"/>
            <a:chOff x="971640" y="549360"/>
            <a:chExt cx="1620360" cy="1530000"/>
          </a:xfrm>
        </p:grpSpPr>
        <p:sp>
          <p:nvSpPr>
            <p:cNvPr id="436" name="AutoShape 4">
              <a:hlinkClick r:id="rId22" action="ppaction://hlinksldjump"/>
            </p:cNvPr>
            <p:cNvSpPr/>
            <p:nvPr/>
          </p:nvSpPr>
          <p:spPr>
            <a:xfrm>
              <a:off x="971640" y="549360"/>
              <a:ext cx="1620360" cy="1530000"/>
            </a:xfrm>
            <a:custGeom>
              <a:avLst/>
              <a:gdLst>
                <a:gd name="textAreaLeft" fmla="*/ 99000 w 1620360"/>
                <a:gd name="textAreaRight" fmla="*/ 1521360 w 1620360"/>
                <a:gd name="textAreaTop" fmla="*/ 99000 h 1530000"/>
                <a:gd name="textAreaBottom" fmla="*/ 1431000 h 1530000"/>
              </a:gdLst>
              <a:ahLst/>
              <a:rect l="textAreaLeft" t="textAreaTop" r="textAreaRight" b="textAreaBottom"/>
              <a:pathLst>
                <a:path w="22875" h="21600">
                  <a:moveTo>
                    <a:pt x="0" y="0"/>
                  </a:moveTo>
                  <a:lnTo>
                    <a:pt x="22875" y="0"/>
                  </a:lnTo>
                  <a:lnTo>
                    <a:pt x="22875" y="21600"/>
                  </a:lnTo>
                  <a:lnTo>
                    <a:pt x="0" y="21600"/>
                  </a:lnTo>
                  <a:close/>
                </a:path>
                <a:path fill="lightenLess" w="22875" h="21600">
                  <a:moveTo>
                    <a:pt x="0" y="0"/>
                  </a:moveTo>
                  <a:lnTo>
                    <a:pt x="22875" y="0"/>
                  </a:lnTo>
                  <a:lnTo>
                    <a:pt x="21475" y="1400"/>
                  </a:lnTo>
                  <a:lnTo>
                    <a:pt x="1400" y="1400"/>
                  </a:lnTo>
                  <a:close/>
                </a:path>
                <a:path fill="darken" w="22875" h="21600">
                  <a:moveTo>
                    <a:pt x="22875" y="0"/>
                  </a:moveTo>
                  <a:lnTo>
                    <a:pt x="22875" y="21600"/>
                  </a:lnTo>
                  <a:lnTo>
                    <a:pt x="21475" y="20200"/>
                  </a:lnTo>
                  <a:lnTo>
                    <a:pt x="21475" y="1400"/>
                  </a:lnTo>
                  <a:close/>
                </a:path>
                <a:path fill="darkenLess" w="22875" h="21600">
                  <a:moveTo>
                    <a:pt x="2287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475" y="20200"/>
                  </a:lnTo>
                  <a:close/>
                </a:path>
                <a:path fill="lighten" w="2287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23"/>
              <a:srcRect/>
              <a:stretch/>
            </a:blipFill>
            <a:ln w="19080">
              <a:solidFill>
                <a:srgbClr val="fff1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  <p:sp>
          <p:nvSpPr>
            <p:cNvPr id="437" name="WordArt 94"/>
            <p:cNvSpPr txBox="1"/>
            <p:nvPr/>
          </p:nvSpPr>
          <p:spPr>
            <a:xfrm>
              <a:off x="1531440" y="866160"/>
              <a:ext cx="446040" cy="8456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blipFill rotWithShape="0">
                    <a:blip r:embed="rId24"/>
                    <a:srcRect/>
                    <a:tile tx="0" ty="0" sx="100000" sy="100000" algn="ctr"/>
                  </a:blipFill>
                  <a:latin typeface="Book Antiqua"/>
                </a:rPr>
                <a:t>1</a:t>
              </a:r>
              <a:endPara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5"/>
                  <a:srcRect/>
                  <a:tile tx="0" ty="0" sx="100000" sy="100000" algn="ctr"/>
                </a:blipFill>
                <a:latin typeface="Book Antiqua"/>
                <a:ea typeface="Book Antiqua"/>
              </a:endParaRPr>
            </a:p>
          </p:txBody>
        </p:sp>
      </p:grpSp>
      <p:grpSp>
        <p:nvGrpSpPr>
          <p:cNvPr id="438" name="Group 94"/>
          <p:cNvGrpSpPr/>
          <p:nvPr/>
        </p:nvGrpSpPr>
        <p:grpSpPr>
          <a:xfrm>
            <a:off x="3865680" y="549360"/>
            <a:ext cx="1691640" cy="1530000"/>
            <a:chOff x="3865680" y="549360"/>
            <a:chExt cx="1691640" cy="1530000"/>
          </a:xfrm>
        </p:grpSpPr>
        <p:sp>
          <p:nvSpPr>
            <p:cNvPr id="439" name="AutoShape 56">
              <a:hlinkClick r:id="rId26" action="ppaction://hlinksldjump"/>
            </p:cNvPr>
            <p:cNvSpPr/>
            <p:nvPr/>
          </p:nvSpPr>
          <p:spPr>
            <a:xfrm>
              <a:off x="3865680" y="549360"/>
              <a:ext cx="1691640" cy="1530000"/>
            </a:xfrm>
            <a:custGeom>
              <a:avLst/>
              <a:gdLst>
                <a:gd name="textAreaLeft" fmla="*/ 99000 w 1691640"/>
                <a:gd name="textAreaRight" fmla="*/ 1592640 w 1691640"/>
                <a:gd name="textAreaTop" fmla="*/ 99000 h 1530000"/>
                <a:gd name="textAreaBottom" fmla="*/ 1431000 h 1530000"/>
              </a:gdLst>
              <a:ahLst/>
              <a:rect l="textAreaLeft" t="textAreaTop" r="textAreaRight" b="textAreaBottom"/>
              <a:pathLst>
                <a:path w="23881" h="21600">
                  <a:moveTo>
                    <a:pt x="0" y="0"/>
                  </a:moveTo>
                  <a:lnTo>
                    <a:pt x="23881" y="0"/>
                  </a:lnTo>
                  <a:lnTo>
                    <a:pt x="23881" y="21600"/>
                  </a:lnTo>
                  <a:lnTo>
                    <a:pt x="0" y="21600"/>
                  </a:lnTo>
                  <a:close/>
                </a:path>
                <a:path fill="lightenLess" w="23881" h="21600">
                  <a:moveTo>
                    <a:pt x="0" y="0"/>
                  </a:moveTo>
                  <a:lnTo>
                    <a:pt x="23881" y="0"/>
                  </a:lnTo>
                  <a:lnTo>
                    <a:pt x="22482" y="1400"/>
                  </a:lnTo>
                  <a:lnTo>
                    <a:pt x="1400" y="1400"/>
                  </a:lnTo>
                  <a:close/>
                </a:path>
                <a:path fill="darken" w="23881" h="21600">
                  <a:moveTo>
                    <a:pt x="23881" y="0"/>
                  </a:moveTo>
                  <a:lnTo>
                    <a:pt x="23881" y="21600"/>
                  </a:lnTo>
                  <a:lnTo>
                    <a:pt x="22482" y="20200"/>
                  </a:lnTo>
                  <a:lnTo>
                    <a:pt x="22482" y="1400"/>
                  </a:lnTo>
                  <a:close/>
                </a:path>
                <a:path fill="darkenLess" w="23881" h="21600">
                  <a:moveTo>
                    <a:pt x="23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482" y="20200"/>
                  </a:lnTo>
                  <a:close/>
                </a:path>
                <a:path fill="lighten" w="23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27"/>
              <a:srcRect/>
              <a:stretch/>
            </a:blipFill>
            <a:ln w="19080">
              <a:solidFill>
                <a:srgbClr val="fff1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  <p:sp>
          <p:nvSpPr>
            <p:cNvPr id="440" name="WordArt 95"/>
            <p:cNvSpPr txBox="1"/>
            <p:nvPr/>
          </p:nvSpPr>
          <p:spPr>
            <a:xfrm>
              <a:off x="4449960" y="866160"/>
              <a:ext cx="466200" cy="8456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blipFill rotWithShape="0">
                    <a:blip r:embed="rId28"/>
                    <a:srcRect/>
                    <a:tile tx="0" ty="0" sx="100000" sy="100000" algn="ctr"/>
                  </a:blipFill>
                  <a:latin typeface="Book Antiqua"/>
                </a:rPr>
                <a:t>2</a:t>
              </a:r>
              <a:endPara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9"/>
                  <a:srcRect/>
                  <a:tile tx="0" ty="0" sx="100000" sy="100000" algn="ctr"/>
                </a:blipFill>
                <a:latin typeface="Book Antiqua"/>
                <a:ea typeface="Book Antiqua"/>
              </a:endParaRPr>
            </a:p>
          </p:txBody>
        </p:sp>
      </p:grpSp>
      <p:grpSp>
        <p:nvGrpSpPr>
          <p:cNvPr id="441" name="Group 101"/>
          <p:cNvGrpSpPr/>
          <p:nvPr/>
        </p:nvGrpSpPr>
        <p:grpSpPr>
          <a:xfrm>
            <a:off x="6732720" y="4194000"/>
            <a:ext cx="1709280" cy="1574640"/>
            <a:chOff x="6732720" y="4194000"/>
            <a:chExt cx="1709280" cy="1574640"/>
          </a:xfrm>
        </p:grpSpPr>
        <p:sp>
          <p:nvSpPr>
            <p:cNvPr id="442" name="AutoShape 49">
              <a:hlinkClick r:id="rId30" action="ppaction://hlinksldjump"/>
            </p:cNvPr>
            <p:cNvSpPr/>
            <p:nvPr/>
          </p:nvSpPr>
          <p:spPr>
            <a:xfrm>
              <a:off x="6732720" y="4194000"/>
              <a:ext cx="1709280" cy="1574640"/>
            </a:xfrm>
            <a:custGeom>
              <a:avLst/>
              <a:gdLst>
                <a:gd name="textAreaLeft" fmla="*/ 101880 w 1709280"/>
                <a:gd name="textAreaRight" fmla="*/ 1607400 w 1709280"/>
                <a:gd name="textAreaTop" fmla="*/ 101880 h 1574640"/>
                <a:gd name="textAreaBottom" fmla="*/ 1472760 h 1574640"/>
              </a:gdLst>
              <a:ahLst/>
              <a:rect l="textAreaLeft" t="textAreaTop" r="textAreaRight" b="textAreaBottom"/>
              <a:pathLst>
                <a:path w="23446" h="21600">
                  <a:moveTo>
                    <a:pt x="0" y="0"/>
                  </a:moveTo>
                  <a:lnTo>
                    <a:pt x="23446" y="0"/>
                  </a:lnTo>
                  <a:lnTo>
                    <a:pt x="23446" y="21600"/>
                  </a:lnTo>
                  <a:lnTo>
                    <a:pt x="0" y="21600"/>
                  </a:lnTo>
                  <a:close/>
                </a:path>
                <a:path fill="lightenLess" w="23446" h="21600">
                  <a:moveTo>
                    <a:pt x="0" y="0"/>
                  </a:moveTo>
                  <a:lnTo>
                    <a:pt x="23446" y="0"/>
                  </a:lnTo>
                  <a:lnTo>
                    <a:pt x="22047" y="1400"/>
                  </a:lnTo>
                  <a:lnTo>
                    <a:pt x="1400" y="1400"/>
                  </a:lnTo>
                  <a:close/>
                </a:path>
                <a:path fill="darken" w="23446" h="21600">
                  <a:moveTo>
                    <a:pt x="23446" y="0"/>
                  </a:moveTo>
                  <a:lnTo>
                    <a:pt x="23446" y="21600"/>
                  </a:lnTo>
                  <a:lnTo>
                    <a:pt x="22047" y="20200"/>
                  </a:lnTo>
                  <a:lnTo>
                    <a:pt x="22047" y="1400"/>
                  </a:lnTo>
                  <a:close/>
                </a:path>
                <a:path fill="darkenLess" w="23446" h="21600">
                  <a:moveTo>
                    <a:pt x="2344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047" y="20200"/>
                  </a:lnTo>
                  <a:close/>
                </a:path>
                <a:path fill="lighten" w="2344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31"/>
              <a:srcRect/>
              <a:stretch/>
            </a:blipFill>
            <a:ln w="19080">
              <a:solidFill>
                <a:srgbClr val="fff1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1c1"/>
                </a:solidFill>
                <a:latin typeface="Arial"/>
              </a:endParaRPr>
            </a:p>
          </p:txBody>
        </p:sp>
        <p:sp>
          <p:nvSpPr>
            <p:cNvPr id="443" name="WordArt 98"/>
            <p:cNvSpPr txBox="1"/>
            <p:nvPr/>
          </p:nvSpPr>
          <p:spPr>
            <a:xfrm>
              <a:off x="7323120" y="4519440"/>
              <a:ext cx="471240" cy="8701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blipFill rotWithShape="0">
                    <a:blip r:embed="rId32"/>
                    <a:srcRect/>
                    <a:tile tx="0" ty="0" sx="100000" sy="100000" algn="ctr"/>
                  </a:blipFill>
                  <a:latin typeface="Book Antiqua"/>
                </a:rPr>
                <a:t>9</a:t>
              </a:r>
              <a:endPara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3"/>
                  <a:srcRect/>
                  <a:tile tx="0" ty="0" sx="100000" sy="100000" algn="ctr"/>
                </a:blipFill>
                <a:latin typeface="Book Antiqua"/>
                <a:ea typeface="Book Antiqua"/>
              </a:endParaRPr>
            </a:p>
          </p:txBody>
        </p:sp>
      </p:grpSp>
      <p:sp>
        <p:nvSpPr>
          <p:cNvPr id="444" name="Rectangle 149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1994040" y="268200"/>
            <a:ext cx="604044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1332000" y="1672920"/>
            <a:ext cx="6780240" cy="1755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Как изменится период колебаний маятника, если его перенести из воздуха в воду?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47" name="Picture 5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48" name="AutoShape 6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49" name="WordArt 7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50" name="AutoShape 9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51" name="AutoShape 10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52" name="AutoShape 11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53" name="AutoShape 12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54" name="AutoShape 13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pic>
        <p:nvPicPr>
          <p:cNvPr id="456" name="Picture 24" descr="C:\Documents and Settings\семья ого\Мои документы\оформление проектов\PRAV31.GIF"/>
          <p:cNvPicPr/>
          <p:nvPr/>
        </p:nvPicPr>
        <p:blipFill>
          <a:blip r:embed="rId11"/>
          <a:stretch/>
        </p:blipFill>
        <p:spPr>
          <a:xfrm>
            <a:off x="1857240" y="3714840"/>
            <a:ext cx="1333800" cy="142884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5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Calibri"/>
              </a:rPr>
              <a:t>Правильный ответ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4572000" y="369900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Calibri"/>
              </a:rPr>
              <a:t>Правильный ответ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59" name="AutoShape 13"/>
          <p:cNvSpPr/>
          <p:nvPr/>
        </p:nvSpPr>
        <p:spPr>
          <a:xfrm rot="10800000">
            <a:off x="5643720" y="4786200"/>
            <a:ext cx="2565360" cy="757440"/>
          </a:xfrm>
          <a:prstGeom prst="wedgeRectCallout">
            <a:avLst>
              <a:gd name="adj1" fmla="val 7379"/>
              <a:gd name="adj2" fmla="val 11016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увеличится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Rectangle 2" descr=""/>
          <p:cNvPicPr/>
          <p:nvPr/>
        </p:nvPicPr>
        <p:blipFill>
          <a:blip r:embed="rId1"/>
          <a:stretch/>
        </p:blipFill>
        <p:spPr>
          <a:xfrm>
            <a:off x="1994040" y="268200"/>
            <a:ext cx="6040440" cy="11588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1332000" y="1628280"/>
            <a:ext cx="6780240" cy="157500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Какой основной отличительный признак колебательного движения?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62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63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64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6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6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6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6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Calibri"/>
              </a:rPr>
              <a:t>Правильный ответ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7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pic>
        <p:nvPicPr>
          <p:cNvPr id="472" name="Picture 24" descr="C:\Documents and Settings\семья ого\Мои документы\оформление проектов\PRAV31.GIF"/>
          <p:cNvPicPr/>
          <p:nvPr/>
        </p:nvPicPr>
        <p:blipFill>
          <a:blip r:embed="rId11"/>
          <a:stretch/>
        </p:blipFill>
        <p:spPr>
          <a:xfrm>
            <a:off x="1857240" y="3714840"/>
            <a:ext cx="1333800" cy="142884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23"/>
          <p:cNvSpPr/>
          <p:nvPr/>
        </p:nvSpPr>
        <p:spPr>
          <a:xfrm>
            <a:off x="5832360" y="5003640"/>
            <a:ext cx="220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74" name="AutoShape 13"/>
          <p:cNvSpPr/>
          <p:nvPr/>
        </p:nvSpPr>
        <p:spPr>
          <a:xfrm rot="10800000">
            <a:off x="5111640" y="4786200"/>
            <a:ext cx="3600720" cy="757440"/>
          </a:xfrm>
          <a:prstGeom prst="wedgeRectCallout">
            <a:avLst>
              <a:gd name="adj1" fmla="val -1722"/>
              <a:gd name="adj2" fmla="val 10995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периодичность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Rectangle 2" descr=""/>
          <p:cNvPicPr/>
          <p:nvPr/>
        </p:nvPicPr>
        <p:blipFill>
          <a:blip r:embed="rId1"/>
          <a:stretch/>
        </p:blipFill>
        <p:spPr>
          <a:xfrm>
            <a:off x="1994040" y="268200"/>
            <a:ext cx="604044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1428480" y="1928520"/>
            <a:ext cx="6994440" cy="122868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Голландский ученый, который изобрел первые часы с маятником?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77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79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8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8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8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85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Calibri"/>
              </a:rPr>
              <a:t>Правильный ответ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86" name="AutoShape 13"/>
          <p:cNvSpPr/>
          <p:nvPr/>
        </p:nvSpPr>
        <p:spPr>
          <a:xfrm rot="10800000">
            <a:off x="5651640" y="4785840"/>
            <a:ext cx="2295360" cy="1163880"/>
          </a:xfrm>
          <a:prstGeom prst="wedgeRectCallout">
            <a:avLst>
              <a:gd name="adj1" fmla="val -7611"/>
              <a:gd name="adj2" fmla="val 8942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Христиан Гюйгенс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87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pic>
        <p:nvPicPr>
          <p:cNvPr id="488" name="Picture 24" descr="C:\Documents and Settings\семья ого\Мои документы\оформление проектов\PRAV31.GIF"/>
          <p:cNvPicPr/>
          <p:nvPr/>
        </p:nvPicPr>
        <p:blipFill>
          <a:blip r:embed="rId11"/>
          <a:stretch/>
        </p:blipFill>
        <p:spPr>
          <a:xfrm>
            <a:off x="1857240" y="371484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1994040" y="268200"/>
            <a:ext cx="6040440" cy="11588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566280" y="1538280"/>
            <a:ext cx="8101080" cy="161136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Как изменится период колебаний математического маятника, если увеличить длину нити?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91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92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93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9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9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9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9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9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fff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499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Calibri"/>
              </a:rPr>
              <a:t>Правильный ответ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  <p:sp>
        <p:nvSpPr>
          <p:cNvPr id="500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1c1"/>
              </a:solidFill>
              <a:latin typeface="Arial"/>
            </a:endParaRPr>
          </a:p>
        </p:txBody>
      </p:sp>
      <p:pic>
        <p:nvPicPr>
          <p:cNvPr id="501" name="Picture 24" descr="C:\Documents and Settings\семья ого\Мои документы\оформление проектов\PRAV31.GIF"/>
          <p:cNvPicPr/>
          <p:nvPr/>
        </p:nvPicPr>
        <p:blipFill>
          <a:blip r:embed="rId11"/>
          <a:stretch/>
        </p:blipFill>
        <p:spPr>
          <a:xfrm>
            <a:off x="1857240" y="3714840"/>
            <a:ext cx="1333800" cy="1428840"/>
          </a:xfrm>
          <a:prstGeom prst="rect">
            <a:avLst/>
          </a:prstGeom>
          <a:ln w="0">
            <a:noFill/>
          </a:ln>
        </p:spPr>
      </p:pic>
      <p:sp>
        <p:nvSpPr>
          <p:cNvPr id="502" name="AutoShape 13"/>
          <p:cNvSpPr/>
          <p:nvPr/>
        </p:nvSpPr>
        <p:spPr>
          <a:xfrm rot="10800000">
            <a:off x="5651280" y="4786200"/>
            <a:ext cx="3106440" cy="803520"/>
          </a:xfrm>
          <a:prstGeom prst="wedgeRectCallout">
            <a:avLst>
              <a:gd name="adj1" fmla="val 7379"/>
              <a:gd name="adj2" fmla="val 106717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увеличится</a:t>
            </a:r>
            <a:endParaRPr b="0" lang="en-US" sz="3200" spc="-1" strike="noStrike">
              <a:solidFill>
                <a:srgbClr val="fff1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9:37:56Z</dcterms:created>
  <dc:creator>Анна</dc:creator>
  <dc:description/>
  <dc:language>en-US</dc:language>
  <cp:lastModifiedBy>дом</cp:lastModifiedBy>
  <dcterms:modified xsi:type="dcterms:W3CDTF">2012-03-07T20:46:48Z</dcterms:modified>
  <cp:revision>130</cp:revision>
  <dc:subject/>
  <dc:title>Слайд 1</dc:title>
</cp:coreProperties>
</file>