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C67-3A77-4DB2-9240-DDF80151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40B-8B26-44CD-84E6-A32CAD51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92F-3831-4947-99E7-D8116AFE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C40-F594-4E0B-8317-1DC52865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1768-196C-4D29-870F-23B7ABD2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E44B-33CD-47BC-A2BF-5A05C236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D775-ECCD-4C62-94EF-7A4AE41B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6A22-7E52-495A-8091-EC4C60F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4ED4-0B21-4902-AB8B-DA2ACEC9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09FC-0407-4EB7-9ED0-E726DD8A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7415-F120-4B55-9489-40BD6CE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31C-C0C8-493C-9E88-E8F5B878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CD09-960C-4074-B16A-884442A5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9C12-5AF0-4347-AFEC-17B84D1F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AA1A-CCBC-432D-B239-7F172E2D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B9A6-9F08-41EE-B9BC-B31E8666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0352-63F7-4302-B109-EB0676C3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5A9-F552-4FB6-9719-62F98E1E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AC1-BC6E-4AC9-B15C-A8A1969D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425-A7B9-46CE-9184-D186B54B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272-A425-4F0F-86A4-F5745F7D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030-C63D-4FC7-810A-007FE623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2F5-87FC-47B4-94AB-AAEA06F6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892-ADC6-494E-A76E-FB415D9C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3041-9FE4-4D3E-9320-C0816A5141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08F5-386D-4A5F-B7F2-6DCC1A34EB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зеро Ильмен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2560" y="1557360"/>
            <a:ext cx="7772400" cy="4538520"/>
            <a:chOff x="682560" y="1557360"/>
            <a:chExt cx="7772400" cy="45385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682560" y="1557360"/>
              <a:ext cx="7772400" cy="45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682560" y="1557360"/>
              <a:ext cx="7772400" cy="453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82520" rIns="182520" tIns="46080" bIns="4608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зеро Шайтан-Куль   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(“Чертово озеро”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2560" y="1981080"/>
            <a:ext cx="7772400" cy="4114800"/>
            <a:chOff x="682560" y="1981080"/>
            <a:chExt cx="7772400" cy="41148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8256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68256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82520" rIns="182520" tIns="46080" bIns="4608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    “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малиновое” озеро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82560" y="1981080"/>
            <a:ext cx="7772400" cy="4114800"/>
            <a:chOff x="682560" y="1981080"/>
            <a:chExt cx="7772400" cy="411480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68256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68256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82520" rIns="182520" tIns="46080" bIns="4608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6:12:39Z</dcterms:created>
  <dc:creator>Admin</dc:creator>
  <dc:description/>
  <dc:language>en-US</dc:language>
  <cp:lastModifiedBy>Admin</cp:lastModifiedBy>
  <dcterms:modified xsi:type="dcterms:W3CDTF">2012-03-07T21:34:2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