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0.gif" ContentType="image/gif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906E-6712-4B09-A61A-487CE8B8F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6C57-2ACE-4877-86F1-D7654343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B4FA-F3E9-437A-8FD9-FE98E49D9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C0A7-9413-4B21-8CC5-5B3D41C7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29A7-D4D4-4F29-810C-FEEB86F31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7EB5-1618-428E-902C-CC6A88F2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3CE8-40E3-4301-AC5C-0E74F663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31FC-38FA-4F93-B3FE-E5587314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DDF9-8C34-4491-925D-04B51AF2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8727-8298-41AD-9888-77EFB938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D985-E498-4D82-8D95-341DF080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83FC-5586-43D0-8B56-F3F454D6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3E24-DC47-4BF3-9478-4B84541C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CB96-9306-470E-80A5-68738FFD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3D39-ECF9-48B9-AE76-4740245C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0744-5946-4616-9637-E2BABB13F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465E-CB63-4CF2-969F-5182FD45C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D874-85D3-4081-9D28-017D3EFC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6D8D-B70C-44D6-8FA1-0CFF2BE6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DDAF-BC3A-4ABD-8673-F8925835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760E-8164-47C2-8902-FFD24141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00EB-6811-4DC1-99F6-46D3209B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AB26-7AE9-4EA6-89A5-6B6DA167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C114-4FF3-46A6-A2A0-D9094C29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1911-0A03-4289-A76A-827E38405D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94BA-4AC5-4DD3-B589-8DBB597C13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258920" y="404640"/>
            <a:ext cx="70581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ирода в опасност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71640" y="2421000"/>
            <a:ext cx="2952720" cy="424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932360" y="4869000"/>
            <a:ext cx="38894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Презентация к уро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по окружающему мир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по теме «Охрана животных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76500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Garamond"/>
              </a:rPr>
              <a:t>    </a:t>
            </a:r>
            <a:r>
              <a:rPr b="1" i="1" lang="en-US" sz="2800" spc="-1" strike="noStrike">
                <a:solidFill>
                  <a:srgbClr val="ff0066"/>
                </a:solidFill>
                <a:latin typeface="Garamond"/>
              </a:rPr>
              <a:t>Многообразие растительного и животного мир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50920" y="4508640"/>
            <a:ext cx="1584360" cy="2135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020000" y="4508640"/>
            <a:ext cx="1736640" cy="2135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50920" y="1916280"/>
            <a:ext cx="2017440" cy="1728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6300720" y="1844640"/>
            <a:ext cx="2435400" cy="1800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2700360" y="4508640"/>
            <a:ext cx="3095640" cy="2160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411280" y="1341360"/>
            <a:ext cx="3673440" cy="32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 Unicode MS"/>
              </a:rPr>
              <a:t>НА ЗЕМЛ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 Unicode MS"/>
              </a:rPr>
              <a:t>РАСТЕНИЙ   ок. 350 ТЫС.  ВИД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 Unicode MS"/>
              </a:rPr>
              <a:t>ЖИВОТНЫХ   ок. 1,5 МЛН. ВИД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 Unicode MS"/>
              </a:rPr>
              <a:t>ИЗ НИХ ЗАНЕСЕНО В </a:t>
            </a:r>
            <a:r>
              <a:rPr b="1" i="1" lang="ru-RU" sz="1800" spc="-1" strike="noStrike">
                <a:solidFill>
                  <a:srgbClr val="ff0000"/>
                </a:solidFill>
                <a:latin typeface="Arial Unicode MS"/>
              </a:rPr>
              <a:t>КРАСНУЮ КНИГУ</a:t>
            </a:r>
            <a:r>
              <a:rPr b="1" i="1" lang="ru-RU" sz="1600" spc="-1" strike="noStrike">
                <a:solidFill>
                  <a:srgbClr val="ff0000"/>
                </a:solidFill>
                <a:latin typeface="Arial Unicode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 Unicode MS"/>
              </a:rPr>
              <a:t>РАСТЕНИЙ   И    ЖИВОТНЫХ    около 15.589   ВИДОВ  </a:t>
            </a:r>
            <a:r>
              <a:rPr b="0" i="1" lang="ru-RU" sz="1600" spc="-1" strike="noStrike">
                <a:solidFill>
                  <a:srgbClr val="ffffff"/>
                </a:solidFill>
                <a:latin typeface="Arial Unicode MS"/>
              </a:rPr>
              <a:t> (ДАННЫЕ ВЗЯТЫ  ИЗ ИНТЕРНЕТА, 2008 ГОД)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50" autoRev="1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animClr clrSpc="rgb">
                                      <p:cBhvr>
                                        <p:cTn id="13" dur="250" autoRev="1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set>
                                      <p:cBhvr>
                                        <p:cTn id="14" dur="250" autoRev="1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50" autoRev="1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animClr clrSpc="rgb">
                                      <p:cBhvr>
                                        <p:cTn id="19" dur="250" autoRev="1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set>
                                      <p:cBhvr>
                                        <p:cTn id="20" dur="250" autoRev="1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50" autoRev="1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animClr clrSpc="rgb">
                                      <p:cBhvr>
                                        <p:cTn id="25" dur="250" autoRev="1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set>
                                      <p:cBhvr>
                                        <p:cTn id="26" dur="250" autoRev="1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39640" y="476280"/>
            <a:ext cx="7777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асоты природы</a:t>
            </a:r>
            <a:endParaRPr b="0" i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79280" y="1557360"/>
            <a:ext cx="2737080" cy="2135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796000" y="1700280"/>
            <a:ext cx="3024000" cy="2135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79280" y="3860640"/>
            <a:ext cx="2737080" cy="2135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5796000" y="3933720"/>
            <a:ext cx="3075120" cy="2135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059280" y="1700280"/>
            <a:ext cx="27367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ff33"/>
                </a:solidFill>
                <a:latin typeface="Arial"/>
              </a:rPr>
              <a:t>ЛЕСА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с его обитателя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ff33"/>
                </a:solidFill>
                <a:latin typeface="Arial"/>
              </a:rPr>
              <a:t>РЕКИ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i="1" lang="en-US" sz="2000" spc="-1" strike="noStrike">
                <a:solidFill>
                  <a:srgbClr val="66ff33"/>
                </a:solidFill>
                <a:latin typeface="Arial"/>
              </a:rPr>
              <a:t>МОРЯ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с их обитателя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ff33"/>
                </a:solidFill>
                <a:latin typeface="Arial"/>
              </a:rPr>
              <a:t>ГОР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3640" y="3933720"/>
            <a:ext cx="2305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7e7ff"/>
                </a:solidFill>
                <a:latin typeface="Microsoft Sans Serif"/>
              </a:rPr>
              <a:t>     </a:t>
            </a:r>
            <a:r>
              <a:rPr b="1" i="1" lang="en-US" sz="2000" spc="-1" strike="noStrike">
                <a:solidFill>
                  <a:srgbClr val="b7e7ff"/>
                </a:solidFill>
                <a:latin typeface="Microsoft Sans Serif"/>
              </a:rPr>
              <a:t>Человек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7e7ff"/>
                </a:solidFill>
                <a:latin typeface="Microsoft Sans Serif"/>
              </a:rPr>
              <a:t>доверено ж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7e7ff"/>
                </a:solidFill>
                <a:latin typeface="Microsoft Sans Serif"/>
              </a:rPr>
              <a:t>   </a:t>
            </a:r>
            <a:r>
              <a:rPr b="1" i="1" lang="en-US" sz="2000" spc="-1" strike="noStrike">
                <a:solidFill>
                  <a:srgbClr val="b7e7ff"/>
                </a:solidFill>
                <a:latin typeface="Microsoft Sans Serif"/>
              </a:rPr>
              <a:t>в природе и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7e7ff"/>
                </a:solidFill>
                <a:latin typeface="Microsoft Sans Serif"/>
              </a:rPr>
              <a:t>наслажда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7e7ff"/>
                </a:solidFill>
                <a:latin typeface="Microsoft Sans Serif"/>
              </a:rPr>
              <a:t>  </a:t>
            </a:r>
            <a:r>
              <a:rPr b="1" i="1" lang="en-US" sz="2000" spc="-1" strike="noStrike">
                <a:solidFill>
                  <a:srgbClr val="b7e7ff"/>
                </a:solidFill>
                <a:latin typeface="Microsoft Sans Serif"/>
              </a:rPr>
              <a:t>её красотой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Но в один день произойдёт следующее…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2881080" cy="3240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924360" y="1413000"/>
            <a:ext cx="45352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Исчезнут с лица Земли растения, животные и сам челове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аша планета станет безжизненным небесным тел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99ff"/>
                </a:solidFill>
                <a:latin typeface="Arial"/>
              </a:rPr>
              <a:t>Нам грозит экологическая катастроф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26920" y="4797360"/>
            <a:ext cx="79218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виноват в этом сам человек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ff33"/>
                </a:solidFill>
                <a:latin typeface="Book Antiqua"/>
              </a:rPr>
              <a:t>Уничтожение животных и растений 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3168360" cy="2160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135400" y="1268280"/>
            <a:ext cx="3218040" cy="2160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5002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Человек губит животных, чтобы получить ценный мех, шкуру, кожу, мяс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250920" y="4365720"/>
            <a:ext cx="3171600" cy="2135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635280" y="4437000"/>
            <a:ext cx="489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Человек  губит растения природы, когда срывает цветы огромными охапками, а затем их выбрасывает; много лесов  уничтожается из-за костров, которые люди развели и забыли потуши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33"/>
                </a:solidFill>
                <a:latin typeface="Book Antiqua"/>
              </a:rPr>
              <a:t>Кто может помочь природе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2808360" cy="2233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492360" y="2924280"/>
            <a:ext cx="1871640" cy="2376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0920" y="2924280"/>
            <a:ext cx="223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2349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чё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114000" y="3068640"/>
            <a:ext cx="188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35280" y="2349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зросл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910560" y="234936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900760" y="2997360"/>
            <a:ext cx="306396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ff33"/>
                </a:solidFill>
                <a:latin typeface="Book Antiqua"/>
              </a:rPr>
              <a:t>Как помочь природе</a:t>
            </a:r>
            <a:r>
              <a:rPr b="1" i="1" lang="en-US" sz="4400" spc="-1" strike="noStrike">
                <a:solidFill>
                  <a:srgbClr val="66ff33"/>
                </a:solidFill>
                <a:latin typeface="Book Antiqua"/>
              </a:rPr>
              <a:t>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еречь растения и животных, которые занесены в Красную книг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счезающих животных помещать в заповедники для развед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ничтожать сухие деревья, заменяя их новыми зелёными насаждения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нимать участие в конкурсах, акциях, проектах, посвящённых защите и охране природ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9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рода неслышно уходит от нас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ходит, как девочка с праздника взрослы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ходит, никто ей в дорогу не послан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ечально и тихо уходит от нас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ужно сделать всё, чтобы не произошло экологической катастрофы!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076720" y="1628640"/>
            <a:ext cx="3456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6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8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0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13:00:40Z</dcterms:created>
  <dc:creator>_</dc:creator>
  <dc:description/>
  <dc:language>en-US</dc:language>
  <cp:lastModifiedBy>111</cp:lastModifiedBy>
  <dcterms:modified xsi:type="dcterms:W3CDTF">2008-11-29T16:19:38Z</dcterms:modified>
  <cp:revision>11</cp:revision>
  <dc:subject/>
  <dc:title>Природа в опасности</dc:title>
</cp:coreProperties>
</file>