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17D9-2A81-487D-BFEA-7ABA400FB8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9DE9-55BB-46F7-A0EB-9616C100BFF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A569-588E-411E-9303-027C15BEB7B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3E6-3381-45D3-97DA-BF20A5E6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EBA-DD41-4214-8D27-D8CFDFBB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342-2BC4-4D28-8026-91A5B6F3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70F-7A2D-4B9A-9AFE-41876D23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8F65-5E7D-49F3-BCC6-91FEA44B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540C-1384-49BF-A5E9-384895F8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AA91-333A-49F8-9209-347E82F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DC66-09F8-4CB1-9EAD-BFA8306F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F49A-2455-49EE-ACD0-5A74C0A3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FA3A-CFEF-4D5F-8446-282F79D9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7DF9-AD75-49F9-89E1-4762E1C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367-7BB6-4117-9E0A-31B573EF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9926-3875-4247-AB9C-01966911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B00F-813F-4942-9049-42537FE6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8312-9147-4664-887A-64BF6B36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40F1-87BD-4ABD-ABA9-AC7E4E3C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2B48-57A4-49AD-9C1D-8A89FAD3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2EA-2449-4468-87FE-D624B62C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0EC-3B1C-4597-BF8A-AD8C64DD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FF4-1C81-4017-A027-8B184E27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671-9159-4DBB-B321-1D6713E1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8F3-1DEA-4EFA-A2ED-24652DE3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1A2-1DB7-4A9C-B2AF-8C144D83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7B6-AC48-4787-8D6F-BA7946F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9A7B-A62B-481D-8311-3E78213BF0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82FA-374F-4B2D-B5DA-EC32F33042C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Admin\Рабочий стол\i-284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3840" cy="357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                      </a:t>
            </a: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ворческая проектная работа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Природоохранительные технологии»</a:t>
            </a:r>
            <a:br>
              <a:rPr sz="57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14200" y="4000320"/>
            <a:ext cx="8715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b8ffff"/>
                </a:solidFill>
                <a:latin typeface="Verdana"/>
              </a:rPr>
              <a:t>Выполнила ученица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b8ffff"/>
                </a:solidFill>
                <a:latin typeface="Verdana"/>
              </a:rPr>
              <a:t>8 «б» класса МБУО СОШ № 43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ffff"/>
                </a:solidFill>
                <a:latin typeface="Verdana"/>
              </a:rPr>
              <a:t>Шалякина Внастас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8ffff"/>
                </a:solidFill>
                <a:latin typeface="Verdana"/>
              </a:rPr>
              <a:t>                                   </a:t>
            </a:r>
            <a:r>
              <a:rPr b="0" lang="ru-RU" sz="1600" spc="-1" strike="noStrike">
                <a:solidFill>
                  <a:srgbClr val="b8ffff"/>
                </a:solidFill>
                <a:latin typeface="Verdana"/>
              </a:rPr>
              <a:t>Руководитель: </a:t>
            </a:r>
            <a:r>
              <a:rPr b="0" i="1" lang="ru-RU" sz="2400" spc="-1" strike="noStrike">
                <a:solidFill>
                  <a:srgbClr val="b8ffff"/>
                </a:solidFill>
                <a:latin typeface="Verdana"/>
              </a:rPr>
              <a:t>Медведева В.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Verdana"/>
              </a:rPr>
              <a:t>       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Documents and Settings\Admin\Рабочий стол\anap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f0"/>
                </a:solidFill>
                <a:latin typeface="Arial"/>
              </a:rPr>
              <a:t>Безотходная технология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70ffff"/>
                </a:solidFill>
                <a:latin typeface="Verdana"/>
              </a:rPr>
              <a:t>Это такой способ производства продукции, при котором наиболее рационально и комплексно используются сырье и энергия в цикле: сырьевые ресурсы – производство – потребление – вторичные сырьевые ресурсы. Это позволяет сделать минимальным  воздействие на окружающую среду и не нарушат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ffff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70ffff"/>
                </a:solidFill>
                <a:latin typeface="Verdana"/>
              </a:rPr>
              <a:t>ее нормального функционировани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ffff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70ffff"/>
                </a:solidFill>
                <a:latin typeface="Verdana"/>
              </a:rPr>
              <a:t>Большинство современных производств загрязняют окружающую среду выбросами в воздух и в воду своих отходов. Однако эти отходы содержат в себе нужные для хозяйствования вещества: металлы, стекло, бумагу и др. Задача заключается лишь в том, чтобы разработать механизмы выделения этих компонентов из отходов. Наиболее перспективным проектом является создание таких производственных  технологий, когда отходы одного процесса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70ffff"/>
                </a:solidFill>
                <a:latin typeface="Verdana"/>
              </a:rPr>
              <a:t>используются в  качестве сырья для другого. В результате объем твердых, жидких и газообразных отходов, сбросов и выбросов будет минимальны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ffff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70ffff"/>
                </a:solidFill>
                <a:latin typeface="Verdana"/>
              </a:rPr>
              <a:t>Ученые считают, что уже сейчас имеется достаточно технических знаний оборудования, чтобы повторно  использовать 2/3 образующихся отходов. Главный  тормоз – неправильная организация производства,   отсутствие у производителей экологических знаний культуры природопользования, низкие цены на природные ресурсы и незначительные штрафы с предприятий, загрязняющих окружающую среду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e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C:\Documents and Settings\Admin\Рабочий стол\6305_1_musor_zavod.jpg"/>
          <p:cNvPicPr/>
          <p:nvPr/>
        </p:nvPicPr>
        <p:blipFill>
          <a:blip r:embed="rId1"/>
          <a:stretch/>
        </p:blipFill>
        <p:spPr>
          <a:xfrm>
            <a:off x="0" y="0"/>
            <a:ext cx="9174240" cy="7000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0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9999"/>
                </a:solidFill>
                <a:latin typeface="Verdana"/>
              </a:rPr>
              <a:t>           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Наиболее широко из безотходных технологий в нашей стране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используются  замкнутые системы промышленног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водоснабже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Создаются установки для получения из отходов биогаз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Небольшие установки  (объемом от 1 куб.м до 500 куб.м) используются на фермах, более крупные – на сахарных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спиртовых и других заводах, а также на свалках бытовы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и промышленных отходов. Конструкции установок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одинакового объема могут сильно отличаться в зависимости от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вида сырья, занимаемой площади, необходимой степен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очистки газ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Проблемами технологий производства биогаза занимается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новая  область науки и промышленного производства –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биотехнолог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В мире эксплуатируется более 8 млн. установок для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производства биогаз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:\Documents and Settings\Admin\Рабочий стол\0_11d57_6aa2fd1_XL.jpe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Экологически устойчивое развитие человече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стойчивое развитие – это улучшение жизни людей в условиях устойчивой биосферы, т.е. в условиях, когда хозяйственная деятельность не влечет превышения допустимого порога возмущения биосфер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Если бы человечество вернулось в пределы допустимой хозяйственной емкости биосферы, то экологические проблемы исчезли бы автоматически, прекратились бы антропогенные изменения окружающей среды. Когда все человечество примет стратегию сохранения и наращивания нетронутой части природы, то проблема сокращения населения и мощности хозяйственной деятельности будет отодвинута на более поздние сроки. Для стабилизации окружающей среды необходимо сократить площадь нарушенных человеком земель  с 61% в настоящее время до 20%. Таким образом, человек должен сократить площадь, освоенную хозяйственной деятельностью на суше, до 30 млн.кв.км. Параллельно усилиям по сокращению нарушенных хозяйственной деятельностью земель следует прилагать усилия по стабилизации населения и постепенному сокращению энергетической мощности хозяйственной деятельности за счет энергосберегающих и ресурсосберегающих технологи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C:\Documents and Settings\Admin\Рабочий стол\voyag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300" spc="-1" strike="noStrike">
                <a:solidFill>
                  <a:srgbClr val="29ffff"/>
                </a:solidFill>
                <a:latin typeface="Verdana"/>
              </a:rPr>
              <a:t>История биосферы показывает, что почти 4 млрд. лет она преодолевала все потрясения: гасила последствия мощнейших вулканических извержений и падений крупных небесных тел, переходила на новые уровни устойчивости при оледеневшей или обезледной  Земле, а также при объединении и распаде материков, всегда стабилизируя окружающую среду и удерживая ее в диапазоне, приемлемом для жизни. Возможно, что в прошлом в природе  возникали виды – разрушители, но она отсекала их, а исчезнувший вид, как показывает палеонтология, уже никогда не появлялся вновь.</a:t>
            </a:r>
            <a:endParaRPr b="0" lang="en-US" sz="23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9ffff"/>
                </a:solidFill>
                <a:latin typeface="Verdana"/>
              </a:rPr>
              <a:t>   </a:t>
            </a:r>
            <a:r>
              <a:rPr b="0" lang="ru-RU" sz="2300" spc="-1" strike="noStrike">
                <a:solidFill>
                  <a:srgbClr val="29ffff"/>
                </a:solidFill>
                <a:latin typeface="Verdana"/>
              </a:rPr>
              <a:t>Нет никаких оснований полагать, что законы                                                       существования и развития биосферы отменены                                                             для человека.                                                </a:t>
            </a:r>
            <a:r>
              <a:rPr b="0" lang="ru-RU" sz="23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                                         </a:t>
            </a:r>
            <a:endParaRPr b="0" lang="en-US" sz="2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C:\Documents and Settings\Admin\Рабочий стол\2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3600" spc="-1" strike="noStrike">
                <a:solidFill>
                  <a:srgbClr val="ff9900"/>
                </a:solidFill>
                <a:latin typeface="Arial"/>
              </a:rPr>
              <a:t>Экологическая проблем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285840" y="1571760"/>
            <a:ext cx="84009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Unicode MS"/>
              </a:rPr>
              <a:t>Важнейшей глобальной общечеловеческой проблемой современности стала экологическая проблема. Она порождена ухудшением качества окружающей среды, обусловленной индустриализацией и урбанизацией, негативными последствиями научно – технического</a:t>
            </a:r>
            <a:r>
              <a:rPr b="0" lang="en-US" sz="1800" spc="-1" strike="noStrike">
                <a:solidFill>
                  <a:srgbClr val="ffffcc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Arial Unicode MS"/>
              </a:rPr>
              <a:t>прогресса, постоянным возрастанием демографической «нагрузки» на природу, нарушением естественного экологического баланса – внутреннего механизма саморегуляции биосфер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Unicode MS"/>
              </a:rPr>
              <a:t>           </a:t>
            </a:r>
            <a:r>
              <a:rPr b="0" lang="ru-RU" sz="1800" spc="-1" strike="noStrike">
                <a:solidFill>
                  <a:srgbClr val="ffffcc"/>
                </a:solidFill>
                <a:latin typeface="Arial Unicode MS"/>
              </a:rPr>
              <a:t>В этой тревожной, а подчас угрожающей экологической ситуации первостепенной образовательно – воспитательной целью базовой школы должно быть формирование у подрастающих поколений высокого уровня экологической культуры. Экологическая культура, экологическое мышление должны стать приоритетными ценностями каждой личности, каждого учащегос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Unicode MS"/>
              </a:rPr>
              <a:t>           </a:t>
            </a:r>
            <a:r>
              <a:rPr b="0" lang="ru-RU" sz="1800" spc="-1" strike="noStrike">
                <a:solidFill>
                  <a:srgbClr val="ffffcc"/>
                </a:solidFill>
                <a:latin typeface="Arial Unicode MS"/>
              </a:rPr>
              <a:t>В связи с этим необходимо с первых школьных лет систематически и постоянно формировать экологические знания, знания о закономерностях взаимоотношений природы и общества, природы и человека, учить школьников быть знающими, бережливыми, рачительными хозяевами своей страны, своей Родины – Росси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Unicode MS"/>
              </a:rPr>
              <a:t>            </a:t>
            </a:r>
            <a:r>
              <a:rPr b="0" lang="ru-RU" sz="1800" spc="-1" strike="noStrike">
                <a:solidFill>
                  <a:srgbClr val="ffffcc"/>
                </a:solidFill>
                <a:latin typeface="Arial Unicode MS"/>
              </a:rPr>
              <a:t>Не случайно решением коллегии Министерства образования России в программы школ введен новый учебный предмет «Экология» (от 24.03.93г. № 51 Мин. Образования РФ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7120" y="642960"/>
            <a:ext cx="78724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4" descr="C:\Documents and Settings\Admin\Рабочий стол\0_610c_c4ee4c6a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5"/>
          <p:cNvSpPr/>
          <p:nvPr/>
        </p:nvSpPr>
        <p:spPr>
          <a:xfrm>
            <a:off x="357120" y="1285920"/>
            <a:ext cx="807264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ffff"/>
                </a:solidFill>
                <a:latin typeface="Arial Unicode MS"/>
              </a:rPr>
              <a:t>В новой программе «Технология» в курсе «Культура дома» большое внимание уделяется экологическому образованию детей, выработке у них активной жизненной позиции в вопросах сохранения окружающей среды, где на реальных примерах есть возможность показать и рационально использовать отходы швейной, текстильной и обувной промышленности, учить их как изготавливать из отходов полезные и нужные вещи в жизни и быт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ffff"/>
                </a:solidFill>
                <a:latin typeface="Arial Unicode MS"/>
              </a:rPr>
              <a:t>Это могут быть различные отделочные детали к одежде (воротники, манжеты, вставки, пояса), кошельки, прихватки, футляры для ключей или очков, игрушки, сувениры, декоративные цветы и многое друго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ffff"/>
                </a:solidFill>
                <a:latin typeface="Arial Unicode MS"/>
              </a:rPr>
              <a:t> </a:t>
            </a:r>
            <a:r>
              <a:rPr b="0" lang="ru-RU" sz="2000" spc="-1" strike="noStrike">
                <a:solidFill>
                  <a:srgbClr val="b8ffff"/>
                </a:solidFill>
                <a:latin typeface="Arial Unicode MS"/>
              </a:rPr>
              <a:t>Работая с отходами, дети должны учиться  сортировать их, знакомиться с образцами отдельных изделий из них, предлагать свои варианты, выполнять эскизы и готовые вещи для вторичного использования</a:t>
            </a:r>
            <a:r>
              <a:rPr b="0" lang="ru-RU" sz="1800" spc="-1" strike="noStrike">
                <a:solidFill>
                  <a:srgbClr val="b8ffff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C:\Documents and Settings\Admin\Рабочий стол\404515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Если «человек разумный» и дальше будет руководствоваться мифами и иллюзиями о своей главенствующей роли в природе и не предпримет мер для своего спасения в условиях приближающейся его усилиями экологической катастрофы, то природа найдет способ избавиться от этого вида – разрушителя. Подобной перспективы можно избежать, если встать на путь разумных, сбалансированных действий в рамках биосферной концепции развития, которая основана на законах физики, химии и  биолог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C:\Documents and Settings\Admin\Рабочий стол\0_1d2e9_81aca555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Природа – источник красоты и основа жизни для люде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ffc000"/>
                </a:solidFill>
                <a:latin typeface="Verdana"/>
              </a:rPr>
              <a:t>Беречь землю, воду, воздух – священная обязанность каждого человек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ffc000"/>
                </a:solidFill>
                <a:latin typeface="Verdana"/>
              </a:rPr>
              <a:t>Создавая новый мотор для автомобиля, самолета, корабля, конструктор обязан подумать о чистоте воздуха. Технолог, разрабатывая поточную линию, должен точно представить, куда пойдут отходы, отбросы – не загрязнят ли они воду. Агроном должен очень осторожно применять ядохимикаты, и, помня о живой природе, стараться использовать «альтернативное» земледели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c000"/>
                </a:solidFill>
                <a:latin typeface="Verdana"/>
              </a:rPr>
              <a:t>Природа едина, в ней все взаимосвязано. Мир зеленых растений, взятый в целом, - это и «легкие» нашей планеты, и вечно работающая огромная фабрика по производству пищи для многочисленных обитателей Земли. Но огромной ценностью обладает и каждый представитель зеленого царства. Всегда надо внимательно и осмотрительно оценивать последствия любого вмешательства в жизнь природы, потому что оно может привести к нарушению ее незримых взаимосвязе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C:\Documents and Settings\Admin\Рабочий стол\0_25278_3eda4613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71424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59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f9e"/>
                </a:solidFill>
                <a:latin typeface="Verdana"/>
              </a:rPr>
              <a:t>И все-таки необходимость активной охраны природы обусловлена не только ощутимой полезностью. Природа имеет для человека и другое, не менее важное значение: она облагораживает его, воспитывает в нем добрые чувства, высоки моральные качества, в том числе и сердечную любовь к Родине. Глубоко прав был один из самых лиричных певцов земли нашей – писатель К.Г Паустовский, утверждая, что «надо охранять природу во всех ее видах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e"/>
                </a:solidFill>
                <a:latin typeface="Verdana"/>
              </a:rPr>
              <a:t>Охранять саму  землю, почву, растительность, воды и воздух. Охранять прекрасный русский пейзаж – тот пейзаж, что сыграл и играет огромную роль в формировании характера русского народа». А вот что говорил об этом другой выдающийся писатель – философ  природы М.М. Пришвин: «Для рыбы нужна чистая вода – будем охранять наши водоемы. В лесах, степях, горах разные ценные животные – будем охранять  наши леса, степь, горы... А человеку нужна родина. И охранять природу – значит охранять родину, жизнь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C:\Documents and Settings\Admin\Рабочий стол\010.jpg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57168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e"/>
                </a:solidFill>
                <a:latin typeface="Verdana"/>
              </a:rPr>
              <a:t>Еще 20 – 30 лет назад экологические проблемы обсуждали только специалисты, то сейчас о том, что «экология» везде, знают даже и дети. Человек должен изменить свое эгоцентрическое отношение к окружающей среде.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e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ffff9e"/>
                </a:solidFill>
                <a:latin typeface="Verdana"/>
              </a:rPr>
              <a:t>Все активнее у человечества начинает формироваться неэгоцентрическое экологическое сознание и экологическая мораль, т.е. система представлений о мире и отношений к природе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e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ffff9e"/>
                </a:solidFill>
                <a:latin typeface="Verdana"/>
              </a:rPr>
              <a:t>Помните о том, что мусор не только опасен с экологической точки зрения, но и доставляет своим видом неприятные ощущения. Он сильно ухудшает восприятие природы, памятников архитектуры, культуры населения. Недаром с давних времен во всех странах в почете были люди аккуратные, хозяйственные, рачительные. Только у нерях было в домах и возле них грязно, не прибрано. Чистота на рабочем месте, дома, в школе и вокруг  является показателем нашей культуры, поэтому нужно делать лучше и красивее все, что нас окружает. Необходимо вовлекать в заботу о чистоте друзей, соседей и родственников. Самую большую ошибку совершает тот, кто не делает ничего, считает, что может сделать мало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e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9e"/>
                </a:solidFill>
                <a:latin typeface="Verdana"/>
              </a:rPr>
              <a:t>В США каждый год 23 сентября на 3 часа все население выходит на уборку пляжей, собирая при этом 2млн. фунтов отходов. В нашей стране проводятся субботники по уборке территории, в том числе и среди школьни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C:\Documents and Settings\Admin\Рабочий стол\o-00008845-a-00001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 rot="21132000">
            <a:off x="0" y="555120"/>
            <a:ext cx="7013520" cy="1698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b050"/>
                </a:solidFill>
                <a:latin typeface="Arial"/>
              </a:rPr>
              <a:t>Гипотеза: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3071880"/>
            <a:ext cx="88581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1" i="1" lang="ru-RU" sz="4000" spc="-1" strike="noStrike">
                <a:solidFill>
                  <a:srgbClr val="75d1a3"/>
                </a:solidFill>
                <a:latin typeface="Verdana"/>
              </a:rPr>
              <a:t>«Разруха не в окружающем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5d1a3"/>
                </a:solidFill>
                <a:latin typeface="Verdana"/>
              </a:rPr>
              <a:t> </a:t>
            </a:r>
            <a:r>
              <a:rPr b="1" i="1" lang="ru-RU" sz="4000" spc="-1" strike="noStrike">
                <a:solidFill>
                  <a:srgbClr val="75d1a3"/>
                </a:solidFill>
                <a:latin typeface="Verdana"/>
              </a:rPr>
              <a:t>мире, разруха в головах!» -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d1a3"/>
                </a:solidFill>
                <a:latin typeface="Verdana"/>
              </a:rPr>
              <a:t>говорил профессор Преображенский из повести М.А. Булгакова «Собачье сердце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C:\Documents and Settings\Admin\Рабочий стол\49888877_konku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Литература</a:t>
            </a: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5688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Джонс Дж. Методы проектирования.- М.: Мир, 1986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Лук А.Н.. Психология творчества. – М.: Наука, 1978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Симоненко В.Д.. Технология, учебное пособие для уч-ся        9- 11 кл., Москва, издательский центр «Вентана – Граф»,   2005 - 07 г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Журналы «Школа и производство», 2005-09г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Documents and Settings\Admin\Рабочий стол\a906d9a890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726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провести исследование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природоохранительных технолог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60400"/>
            <a:ext cx="829152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000"/>
                </a:solidFill>
                <a:uFillTx/>
                <a:latin typeface="Verdana"/>
              </a:rPr>
              <a:t>Задач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Verdana"/>
              </a:rPr>
              <a:t>раскрыть понятие экологического мониторинг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Verdana"/>
              </a:rPr>
              <a:t>выявить способы утилизации отходов и мусор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Verdana"/>
              </a:rPr>
              <a:t>раскрыть смысл безотходной технологи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Verdana"/>
              </a:rPr>
              <a:t>указать перспективы экологически устойчивого развития человечеств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Verdana"/>
              </a:rPr>
              <a:t>значение природы в жизни челове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Documents and Settings\Admin\Рабочий стол\1232109383_cirkli-su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Экологический мониторинг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417320"/>
            <a:ext cx="91440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8fff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b8ffff"/>
                </a:solidFill>
                <a:latin typeface="Verdana"/>
              </a:rPr>
              <a:t>Особое значение в современных экономических условиях приобретает использование достижений научно-технического прогресса для решения природоохранных задач. Это в первую очередь касается оптимизации и совершенствования экологически безвредных и ресурсосберегающих технологических процессов, создания комплексных безотходных производств, широкого применения водооборотных схем, систем контроля за выбросами загрязняющих веществ в окружающую среду и состоянием природных объектов и всей биосферы с целью ранней диагностики начавшихся изменен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8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b8ffff"/>
                </a:solidFill>
                <a:latin typeface="Verdana"/>
              </a:rPr>
              <a:t>Все возрастающая опасность отрицательного воздействия интенсификации промышленного и сельскохозяйственного производства на здоровье людей требует надежной оценки состояния природной сред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8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b8ffff"/>
                </a:solidFill>
                <a:latin typeface="Verdana"/>
              </a:rPr>
              <a:t>Информационная система наблюдения и анализа состояния природной среды, в первую очередь уровней загрязнений и эффектов, вызываемых ими в биосфере, получила название </a:t>
            </a:r>
            <a:r>
              <a:rPr b="0" lang="ru-RU" sz="1800" spc="-1" strike="noStrike" u="sng">
                <a:solidFill>
                  <a:srgbClr val="b8ffff"/>
                </a:solidFill>
                <a:uFillTx/>
                <a:latin typeface="Verdana"/>
              </a:rPr>
              <a:t>мониторинг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5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4760" y="-142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формационная система (мониторинг).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ониторинг включает три основных процедуры: наблюдение, оценку состояния и прогноз возможных изменений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04840" y="3500280"/>
          <a:ext cx="2081160" cy="500400"/>
        </p:xfrm>
        <a:graphic>
          <a:graphicData uri="http://schemas.openxmlformats.org/drawingml/2006/table">
            <a:tbl>
              <a:tblPr/>
              <a:tblGrid>
                <a:gridCol w="2081160"/>
              </a:tblGrid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Наблюде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4840" y="1302840"/>
            <a:ext cx="87343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916360" y="3284640"/>
          <a:ext cx="2879640" cy="96984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Оценка фактическог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состоя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39640" y="5084640"/>
          <a:ext cx="1935360" cy="731880"/>
        </p:xfrm>
        <a:graphic>
          <a:graphicData uri="http://schemas.openxmlformats.org/drawingml/2006/table">
            <a:tbl>
              <a:tblPr/>
              <a:tblGrid>
                <a:gridCol w="1935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состояния</a:t>
                      </a:r>
                      <a:r>
                        <a:rPr b="1" i="1" lang="ru-RU" sz="20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580000" y="2349360"/>
          <a:ext cx="2305080" cy="43200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Управле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059280" y="5084640"/>
          <a:ext cx="2952720" cy="62892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Оценка прогнозируем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состоя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516720" y="4149720"/>
          <a:ext cx="2087640" cy="71928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Регулирование качества сред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Line 114"/>
          <p:cNvSpPr/>
          <p:nvPr/>
        </p:nvSpPr>
        <p:spPr>
          <a:xfrm flipH="1">
            <a:off x="1619280" y="2565360"/>
            <a:ext cx="3960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Line 115"/>
          <p:cNvSpPr/>
          <p:nvPr/>
        </p:nvSpPr>
        <p:spPr>
          <a:xfrm>
            <a:off x="1619280" y="2565360"/>
            <a:ext cx="0" cy="93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Line 116"/>
          <p:cNvSpPr/>
          <p:nvPr/>
        </p:nvSpPr>
        <p:spPr>
          <a:xfrm>
            <a:off x="1619280" y="3860640"/>
            <a:ext cx="0" cy="1224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Line 117"/>
          <p:cNvSpPr/>
          <p:nvPr/>
        </p:nvSpPr>
        <p:spPr>
          <a:xfrm>
            <a:off x="2475000" y="5373720"/>
            <a:ext cx="57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Line 118"/>
          <p:cNvSpPr/>
          <p:nvPr/>
        </p:nvSpPr>
        <p:spPr>
          <a:xfrm>
            <a:off x="6012000" y="537372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Line 119"/>
          <p:cNvSpPr/>
          <p:nvPr/>
        </p:nvSpPr>
        <p:spPr>
          <a:xfrm flipV="1">
            <a:off x="7596360" y="486900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Line 120"/>
          <p:cNvSpPr/>
          <p:nvPr/>
        </p:nvSpPr>
        <p:spPr>
          <a:xfrm>
            <a:off x="5796000" y="3716280"/>
            <a:ext cx="1800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Line 121"/>
          <p:cNvSpPr/>
          <p:nvPr/>
        </p:nvSpPr>
        <p:spPr>
          <a:xfrm>
            <a:off x="7596360" y="3716280"/>
            <a:ext cx="0" cy="41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Line 123"/>
          <p:cNvSpPr/>
          <p:nvPr/>
        </p:nvSpPr>
        <p:spPr>
          <a:xfrm>
            <a:off x="2050920" y="2997360"/>
            <a:ext cx="252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Line 124"/>
          <p:cNvSpPr/>
          <p:nvPr/>
        </p:nvSpPr>
        <p:spPr>
          <a:xfrm>
            <a:off x="2050920" y="2997360"/>
            <a:ext cx="0" cy="50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Line 125"/>
          <p:cNvSpPr/>
          <p:nvPr/>
        </p:nvSpPr>
        <p:spPr>
          <a:xfrm>
            <a:off x="4572000" y="2997360"/>
            <a:ext cx="0" cy="50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Line 126"/>
          <p:cNvSpPr/>
          <p:nvPr/>
        </p:nvSpPr>
        <p:spPr>
          <a:xfrm>
            <a:off x="2050920" y="386064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Line 127"/>
          <p:cNvSpPr/>
          <p:nvPr/>
        </p:nvSpPr>
        <p:spPr>
          <a:xfrm>
            <a:off x="2050920" y="3860640"/>
            <a:ext cx="0" cy="648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Line 128"/>
          <p:cNvSpPr/>
          <p:nvPr/>
        </p:nvSpPr>
        <p:spPr>
          <a:xfrm>
            <a:off x="2050920" y="4508640"/>
            <a:ext cx="252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Line 129"/>
          <p:cNvSpPr/>
          <p:nvPr/>
        </p:nvSpPr>
        <p:spPr>
          <a:xfrm flipV="1">
            <a:off x="4572000" y="4149360"/>
            <a:ext cx="0" cy="358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C:\Documents and Settings\Admin\Рабочий стол\05-18.jpg"/>
          <p:cNvPicPr/>
          <p:nvPr/>
        </p:nvPicPr>
        <p:blipFill>
          <a:blip r:embed="rId1"/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6439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Мониторинг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457200" y="1714680"/>
            <a:ext cx="840096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Verdana"/>
              </a:rPr>
              <a:t>Важнейший элемент мониторинга – оценка состояния природной среды. Этапами этой оценки являются выбор показателей и характеристик объектов окружающей среды и их непосредственное изменение. Набор параметров должен</a:t>
            </a:r>
            <a:r>
              <a:rPr b="0" lang="en-US" sz="2000" spc="-1" strike="noStrike">
                <a:solidFill>
                  <a:srgbClr val="ffff9e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e"/>
                </a:solidFill>
                <a:latin typeface="Verdana"/>
              </a:rPr>
              <a:t>отвечать на вопрос «Каково состояние объекта (природной среды)?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Verdana"/>
              </a:rPr>
              <a:t>Новая промышленная технология непременно должна</a:t>
            </a:r>
            <a:r>
              <a:rPr b="0" lang="en-US" sz="2000" spc="-1" strike="noStrike">
                <a:solidFill>
                  <a:srgbClr val="ffff9e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e"/>
                </a:solidFill>
                <a:latin typeface="Verdana"/>
              </a:rPr>
              <a:t>проходить экологическую экспертизу, т.е. оценку по всем параметрам мониторинга. И только в том случае, если эта</a:t>
            </a:r>
            <a:r>
              <a:rPr b="0" lang="en-US" sz="2000" spc="-1" strike="noStrike">
                <a:solidFill>
                  <a:srgbClr val="ffff9e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e"/>
                </a:solidFill>
                <a:latin typeface="Verdana"/>
              </a:rPr>
              <a:t>технология кроме технических достоинств отвечает  природосберегающим требованиям, она имеет право на внедрение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C:\Documents and Settings\Admin\Рабочий стол\dsc_03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089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6464"/>
                </a:solidFill>
                <a:latin typeface="Arial"/>
              </a:rPr>
              <a:t>Переработка бытового мусора и промышленных отходов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Кроме того, на территории России накоплено 1,1 млрд, т опасных отходов. К ним относятся радиоактивные отходы, пестициды, запрещенные к употреблению и пришедшие в негодность запасы химического оружия, диоксины, которые содержатся в отходах  хлорного производства и целлюлозно – бумажных комбинатов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69696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Большую проблему с точки зрения экологии представляет утилизация бытовых и промышленных отходов. В России на санкционированных и несанкционированных свалках, хранилищах, полигонах скопилось около 86 млрд. т твердых отходов производства и потребления, или более 530 т на каждого жителя страны. Коммунальные отходы от этого числа составляют примерно третью часть. Из этой массы на мусоросжигательные заводы поступает приблизительно 5%, остальное идет на полигоны и свалк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Сельскохозяйственные отходы в России значительно меньше промышленных. Наиболее опасные из них навозные стоки крупных животноводческих комплексов, которые ежегодно выбрасывают 140-150 млн. т разжиженного навоза и помета. Только 67% из них используется в виде удобрений, а остальная часть сбрасывается и становится источником загрязнения поверхностных, подземных и, как следствие, питьевых вод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Admin\Рабочий стол\2_m7a5efb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Ежегодное накопление различных видов твердых отходов в России – 10-15т на человека, в том числе токсичных 0,8т и разжиженного навоза 1т. Степень утилизации отходов невелика: для инертных веществ ( зола, строительный мусор) она не превышает 20 -30%, для опасных 10 – 25%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ельскохозяйственные отходы утилизируются примерно на 70%, а радиоактивные в основном хранятся или подвергаются захоронению. В Европе приходится 10-11 т отходов на душу населения; доля бытовых -6%, в России – 3%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ногие виды отходов в странах Европы успешно утилизируются.    Так, в ФРГ сельскохозяйственные отходы утилизируются на 90%, корпуса автомобилей -  на 98%, отработанные масла – более  чем на 90%, покрышки автомобилей почти полностью. Вместе с тем такие виды отходов, как строительный мусор, отходы горнодобывающей промышленности, в основном складируется, как и 50% промышленных шламов. Размещение 1т бытового мусора на свалках обходится Германии примерно в 1000 долларов, поэтому развивается нелегальный вывоз опасных отходов в страны Африки и Азии, а также размещение там предприятий по его сжиганию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собую угрозу для экологии представляют «дикие» свалки, откуда ядовитые вещества и микроорганизмы, попадая в подземные воды, распространяются на многие километры. На таких свалках сильно размножаются крысы, являющиеся переносчиками ящура, лихорадки, сыпного тифа, чумы, гельминт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C:\Documents and Settings\Admin\Рабочий стол\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13840" y="50004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В то же время в бытовом мусоре содержится много ценных веществ: органические  соединения, годные для удобрения, бумага и картон, стекло, пластмасса, кожа, дерево, металлы. Поэтому разрабатываются проекты и строятся специальные заводы по переработке мусора. Они более безопасны для окружающей среды и одновременно более экономичны, чем мусоросжигательные установки. Сократить накопление отходов позволяет многоразовое использование стеклянных бутылок, сбор пластмассовых бутылок и полиэтиленовых пакетов для переплавки и т.д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Нет нужды доказывать, что техника все больше совершенствуетс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Все больше производится сложных машин и механизмов, которые состоят из самых разнообразных материалов: черных и цветных металлов, пластмасс, дерева, резины, стекловолокна и композит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Срок службы таких изделий определяется не их физическим износом, а моральным устареванием. Все чаще технически «здоровые» изделия и материалы оказываются на свалке. Но ведь можно их использовать как сырье для новых механизмов, т.е. рециклировать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Цикличность материальных потоков – перспективное направление создания промышленных производств с безотходной технологие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1:18:34Z</dcterms:created>
  <dc:creator>Мария Васильевна</dc:creator>
  <dc:description/>
  <dc:language>en-US</dc:language>
  <cp:lastModifiedBy>Admin</cp:lastModifiedBy>
  <dcterms:modified xsi:type="dcterms:W3CDTF">2012-03-08T14:52:12Z</dcterms:modified>
  <cp:revision>52</cp:revision>
  <dc:subject/>
  <dc:title>Природоохранительные технологии</dc:title>
</cp:coreProperties>
</file>