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DCF-6D9F-44E0-8EFD-E5392DDE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378-9857-4D61-9ECF-34DA627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23A-50CC-4E00-9BAA-23CA237B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AEB-4BDC-460C-A492-8A674A9E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CFA-7E99-4477-8C62-6200DEA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081-09FA-4DFE-AFE4-DA43FA5D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E3C-5241-4538-809B-DA44201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157-036D-43B2-9353-ADB88FDE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85A-6FF4-4749-9455-7DBC2D4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7AB-7B3F-4C2C-A27F-702F392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AC9-C69B-467C-B5D9-5939715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420-DB77-4BE1-B1CA-D04CDBE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B440-826F-4654-84B3-9C79F1065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ьфан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311040"/>
            <a:ext cx="7980480" cy="18417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286000" y="3322800"/>
            <a:ext cx="549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-1504800" y="103320"/>
            <a:ext cx="10314000" cy="2085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94320" cy="592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7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-1579680" y="201600"/>
            <a:ext cx="1031580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Прямоугольник 6" descr=""/>
          <p:cNvPicPr/>
          <p:nvPr/>
        </p:nvPicPr>
        <p:blipFill>
          <a:blip r:embed="rId1"/>
          <a:stretch/>
        </p:blipFill>
        <p:spPr>
          <a:xfrm>
            <a:off x="401760" y="-244440"/>
            <a:ext cx="5962680" cy="110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8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-208080"/>
            <a:ext cx="6096240" cy="1592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4" descr=""/>
          <p:cNvPicPr/>
          <p:nvPr/>
        </p:nvPicPr>
        <p:blipFill>
          <a:blip r:embed="rId1"/>
          <a:stretch/>
        </p:blipFill>
        <p:spPr>
          <a:xfrm>
            <a:off x="-291960" y="-19080"/>
            <a:ext cx="7583400" cy="68436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-146160"/>
            <a:ext cx="7072200" cy="1596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4" descr=""/>
          <p:cNvPicPr/>
          <p:nvPr/>
        </p:nvPicPr>
        <p:blipFill>
          <a:blip r:embed="rId1"/>
          <a:stretch/>
        </p:blipFill>
        <p:spPr>
          <a:xfrm>
            <a:off x="2157480" y="-171360"/>
            <a:ext cx="4938480" cy="174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6" descr=""/>
          <p:cNvPicPr/>
          <p:nvPr/>
        </p:nvPicPr>
        <p:blipFill>
          <a:blip r:embed="rId3"/>
          <a:stretch/>
        </p:blipFill>
        <p:spPr>
          <a:xfrm>
            <a:off x="133200" y="1609560"/>
            <a:ext cx="6877080" cy="3542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-324000" y="201600"/>
            <a:ext cx="7974000" cy="1803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-208080"/>
            <a:ext cx="6918480" cy="14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57480" cy="64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8520"/>
            <a:ext cx="6919920" cy="84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-165240"/>
            <a:ext cx="4945320" cy="1397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115920"/>
            <a:ext cx="588960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6931080" cy="77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-579600" y="182520"/>
            <a:ext cx="7980480" cy="1249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-669960" y="-579600"/>
            <a:ext cx="8369280" cy="1895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-542880" y="212760"/>
            <a:ext cx="7980480" cy="12920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Гильфанова Елена</dc:creator>
  <dc:description/>
  <cp:keywords>Физ. воспитание</cp:keywords>
  <dc:language>en-US</dc:language>
  <cp:lastModifiedBy>Work</cp:lastModifiedBy>
  <dcterms:modified xsi:type="dcterms:W3CDTF">2012-03-07T20:47:50Z</dcterms:modified>
  <cp:revision>204</cp:revision>
  <dc:subject/>
  <dc:title>Слайд 1</dc:title>
</cp:coreProperties>
</file>