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7A2-3CA2-4BA7-B529-50D63067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CAF-A9E2-475F-A73D-4AE64AB8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090-616A-4DC9-A900-B8ED567C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5D3-071C-441E-8534-DE7E44CC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33E9-CC34-4EB9-A757-41D0F58D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C2CC-8E81-46F4-829B-4EBEF011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A220-5197-4E32-971C-392C7D1D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EBCB-002B-420F-B5C0-397FDB92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FB12-4C2A-40BC-AC9B-EA060CBD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8B7A-AF26-46E8-B5E0-00B65D76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7C68-A56F-46D9-AC30-1B7AC98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986-8B23-4CFC-A836-6793FD2C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185A-0BC8-4DF4-8911-3C09167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6A2E-BB03-403C-89DE-54AB281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402A-FA1D-4348-8FAD-40B15E92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F811-09ED-48A3-BF05-F2786458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FF23-DA6A-4E11-BFF2-32266212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0E3-6670-489D-8E58-66706F55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978-E2A7-473F-8F09-DB3F97B8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661-20FF-4E6E-BCE9-8F897EC9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64D-BF45-4CDB-96E4-F9CA802B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91E-8DD2-406C-B76C-7C93A97A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2FE-3C7F-42D2-9FEA-C548F7F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0B0-8745-4382-85DE-48520B0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D7C9-30A7-4B8D-8139-91603CB9C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179E-366E-4069-8CED-70F86598B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milchin/article/mil/mil-1289.ht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Функциональная схема компьютер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348000" y="3500280"/>
            <a:ext cx="3456000" cy="3171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3500280"/>
            <a:ext cx="273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яшешник А.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СОШ №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Ржева Тве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гистрально – модульный принцип построения 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жон фон Нейман изучив конструкцию первых ЭВМ, пришёл к идее нового типа логической организации ЭВМ, а имен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устройства ввода – вывода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ресуемая пам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ор, состоящий из устройства управления и арифметико – логического устрой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и программы хранятся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гистрально – модульный принцип построения 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вязи основных устройств компьютера между собой используется специальная информационная магистраль, обычно называемая инженерам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Ш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кабель, состоящий из множества пров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8223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гистрально – модульное устройство 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06864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645000"/>
            <a:ext cx="36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414972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47242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700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на состоит из трёх ча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3141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716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Шина ад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4221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Шина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350028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магистр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Шина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ередаёт данные между различными устройст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зрядность шины данных определяется разрядностью процессора. Может быть 8,16,32, 64 б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Шина адрес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аёт адрес устройства к которому обращается процессор. Сигналы передаются в одном направлении (однонаправленная ши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рядность шины адреса определяется объёмом адресуемой памяти. Может быть 16, 20, 24, 32, 36 би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Шина управ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аются сигналы, определяющие характер обмена информацией по магистрали. Сигналы управления показывают, какую операцию – считывание или запись информации из памяти – нужно производить. Синхронизируют обмен информацией между устройствами и так да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РФЕЙС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Система связей и взаимодействия устройств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Средства взаимодействия пользователей с 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операционной систем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омпьютера, или пользовательской програм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огласования интерфейсов все внешние устройства подключаются к шине через св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т устройства - микросхема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одержащая один или несколько регистров ввода-вывода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озволяющая подключать периферийные устройства компьютера к внешним шинам процесс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77080" y="2781360"/>
            <a:ext cx="16556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ты быв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ледовате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алле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последовательным портам подсоединяются медленно действующие или удалённые устройства(мышь, моде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к параллельным  - более «быстрые» (сканер, принт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Функциональное устройство компьютер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844640"/>
            <a:ext cx="4679640" cy="374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98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2565360"/>
            <a:ext cx="1152720" cy="576360"/>
          </a:xfrm>
          <a:prstGeom prst="rect">
            <a:avLst/>
          </a:prstGeom>
          <a:solidFill>
            <a:srgbClr val="99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2565360"/>
            <a:ext cx="1366920" cy="647640"/>
          </a:xfrm>
          <a:prstGeom prst="rect">
            <a:avLst/>
          </a:prstGeom>
          <a:solidFill>
            <a:srgbClr val="99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3889440" cy="4334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онная 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4437000"/>
            <a:ext cx="122400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4581360"/>
            <a:ext cx="1440000" cy="720720"/>
          </a:xfrm>
          <a:prstGeom prst="rect">
            <a:avLst/>
          </a:prstGeom>
          <a:solidFill>
            <a:srgbClr val="99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3141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63640" y="3141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76720" y="3213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3203640" y="4149720"/>
            <a:ext cx="288720" cy="2160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822560" y="3609720"/>
            <a:ext cx="289080" cy="2160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37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50072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0072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3933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4653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822920" y="4545000"/>
            <a:ext cx="288720" cy="2160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822560" y="2601720"/>
            <a:ext cx="289080" cy="21600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2349360"/>
            <a:ext cx="187308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3429000"/>
            <a:ext cx="194472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виа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4292640"/>
            <a:ext cx="1944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042920" cy="1484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91480" y="115920"/>
            <a:ext cx="2144520" cy="2179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зобретение компьютер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9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давних времен люди стремились облегчить свой труд. С этой целью создавались различные машины и механизмы, усиливающие физические возможности человека. Компьютер был изобретен в середине XX века для усиления возможностей интеллектуальной работы человека, т.е. работы с информа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912080" y="5869080"/>
            <a:ext cx="126828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ий учебник - П. 1.1, 1.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 учебник –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23022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5040" cy="427680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cc"/>
                          </a:solidFill>
                          <a:latin typeface="Arial"/>
                        </a:rPr>
                        <a:t>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6666"/>
                          </a:solidFill>
                          <a:latin typeface="Arial"/>
                        </a:rPr>
                        <a:t>компью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ём (ввод)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а в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ми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мышления (обработки информац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 обработки (процессо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а вы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flipV="1">
            <a:off x="2050920" y="3573000"/>
            <a:ext cx="649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393372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«го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93372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писи в тетради, на кассете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867280" y="3573000"/>
            <a:ext cx="649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386064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328464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утренняя (оперативная) пам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400536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нешняя (долговременная) 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383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личие компьютера от челове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 компьютера»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личие в том, что работа компьютера строго подчинена заложенной в него программой, человек же сам управляет своими действ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ью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 от англ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ычислитель) – это программируемое электронное устройство, предназначенное для накопления, обработки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64000" y="4221000"/>
            <a:ext cx="2087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Архитектура ЭВ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рхитектурой ЭВ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нимают описание устройства и принципов работы компьютера, достаточное для пользователя и программ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итектура не включает в себя конструктивных подробностей устройства машины, электронных схем. Эти сведения нужны конструкторам, специалистам по наладке и ремонту ЭВ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снову архитектуры современных компьютеров положен магистрально – модульный принцип и принцип Джона фон Нейм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261792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гистрально – модульный принцип построения 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 не является неделимым, цельным объектом. Он состоит из некоторого количества устройств – модулей. Связаны все модули компьютера между собой через набор электронных линий – магистраль. Магистраль обеспечивает обмен данными между устройствами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нципы фон Нейма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14360" y="1599840"/>
            <a:ext cx="5419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хема устройств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ьютера впервы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а предложена в 1946 году американским ученым Джоном фон Нейманом. Дж. фон Нейман сформулировал основные принципы работы ЭВМ, которые во многом сохранились и в современных компьюте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498680" cy="2158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04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9:38:26Z</dcterms:created>
  <dc:creator>Алла</dc:creator>
  <dc:description/>
  <dc:language>en-US</dc:language>
  <cp:lastModifiedBy>Алла</cp:lastModifiedBy>
  <dcterms:modified xsi:type="dcterms:W3CDTF">2009-09-14T16:52:08Z</dcterms:modified>
  <cp:revision>9</cp:revision>
  <dc:subject/>
  <dc:title>Функциональная схема компьютера</dc:title>
</cp:coreProperties>
</file>