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2FB-395B-4560-A85F-0E1606F6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C15-1821-4D8D-935A-A852AED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B04-9368-4C19-A56A-E966F87D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F45-8AA1-49B1-BCE8-8FCCD658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6941-3B20-43C2-B3B8-8B7C6A4D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B957-8B68-46D6-83C2-C2B2C603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A007-FBCF-4F66-AE3B-3F9641B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896B-6E1F-45D4-981E-524DBD58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8F0C-8E34-4780-A585-B5B05590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13DF-35B0-4EA5-92A7-F66750E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5F45-FA42-41E7-B776-D22995B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D92-1012-493E-9A48-CD8EC5F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1D5-F65C-4EC6-87D8-3CFAD64D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913F-67AB-428B-BC38-B6BC14B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771B-8C4A-49CC-8551-FEA1CF37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6FBD-93B3-473F-ADA2-110DFD25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D4F7-DDC8-4783-BA3E-24EBDC28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F5B-F82E-4D91-8998-9A943C9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56C-D6EF-4017-A5F8-A5C39750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ABD-7B80-44C1-BBDE-39AD3752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ABD-0257-452D-BDC4-72D778BC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499-C263-4ACE-932A-DE284DF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593-C49C-41F3-A4EC-B26EFF0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FB5-65C0-45A0-8274-A28AECB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206-D1D3-4407-B2DB-91CDA01C87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B1AE-6ECE-497C-A7A0-23F66154BBE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center.ru/fc-articles/Technical/20010407/palomino-mobil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Устройство обработки информаци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СОШ №5 г. Рж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 ускорить работу процессор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тактовый частот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разрядности процессо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эширование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истема прерываний процессор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ществует 256 видов прерываний, по которым процессор определяет от какого устройства пришёл сигна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рывания прерывают работу процессора над текущим заданием и направляют его на выполнение другой программ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ектор прерываний- область памяти, где хранятся инструкции по работе с каждым устройством. Каждая  инструкция имеет свой номер (адрес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Что было бы, если бы процессор работал не со скоростью сотни миллионов байтов в секунду, а в привычном для человека ритм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игналы от клавиатуры он получал бы один раз в десять ле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анные от мыши – один раз в год. Перемещение указателя мыши из одного угла экрана в другой заняло бы тысячелет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анные, поступившие по телефонным проводам через модем, - один раз в сутк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. 1.2.1 учебни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апис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Arial"/>
              </a:rPr>
              <a:t>Процессор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– основная микросхема компьюте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5" descr="palomino-mobile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924280"/>
            <a:ext cx="4751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икропроцессор – сверхбольшая интегральная схема, реализованная в едином полупроводниковом кристалле (кремния или германия) площадью меньше 0,1 см</a:t>
            </a:r>
            <a:r>
              <a:rPr b="0" lang="ru-RU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На таком кристалле может размещаться до 5,5 млн транзистор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4" descr="Процессор"/>
          <p:cNvPicPr/>
          <p:nvPr/>
        </p:nvPicPr>
        <p:blipFill>
          <a:blip r:embed="rId1"/>
          <a:stretch/>
        </p:blipFill>
        <p:spPr>
          <a:xfrm>
            <a:off x="5724360" y="4581360"/>
            <a:ext cx="259272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начение микропроцессор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полнять команды программы, находящейся в оператив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ординировать работу всех устройств компьюте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j0205582"/>
          <p:cNvPicPr/>
          <p:nvPr/>
        </p:nvPicPr>
        <p:blipFill>
          <a:blip r:embed="rId1"/>
          <a:stretch/>
        </p:blipFill>
        <p:spPr>
          <a:xfrm>
            <a:off x="5867280" y="407664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процессор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состав процессора обязательно входят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стройство управлен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( координирует работу всех устройств компьютера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Арифметико - логическое устройство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( выполняет команды программы, находящейся в оперативной памяти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егистры памяти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(ячейки, в которые по очереди помещаются команды программы, по которой работает процессор и вся необходимая информация для их выполнения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Шина данных, команд и адресов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( по этим магистралям происходит обмен данными между внутренними устройствами процессора и внешними по отношению к нему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хема устройства процессор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11280" y="1773360"/>
            <a:ext cx="8137440" cy="47512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332000" y="2637000"/>
            <a:ext cx="3240000" cy="1152360"/>
          </a:xfrm>
          <a:prstGeom prst="rect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Устройство управл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971640" y="4221000"/>
            <a:ext cx="2952720" cy="1079640"/>
          </a:xfrm>
          <a:prstGeom prst="rect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рифметико - логическо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11280" y="5877000"/>
            <a:ext cx="813744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611280" y="5877000"/>
            <a:ext cx="8137440" cy="647640"/>
          </a:xfrm>
          <a:prstGeom prst="rect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Шин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5364000" y="22050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егистры памя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5219640" y="2708280"/>
            <a:ext cx="2737080" cy="4334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5219640" y="3357720"/>
            <a:ext cx="2737080" cy="43308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5219640" y="3933720"/>
            <a:ext cx="2737080" cy="4334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5219640" y="5013360"/>
            <a:ext cx="2737080" cy="4334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292720" y="45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- - - - - - - - - - - - - - - - 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2484360" y="5300640"/>
            <a:ext cx="0" cy="576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4356000" y="3789360"/>
            <a:ext cx="0" cy="2087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6659640" y="5445000"/>
            <a:ext cx="0" cy="432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зрядность процессора – это число одновременно обрабатываемых процессором бит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Picture 4" descr="j0195384"/>
          <p:cNvPicPr/>
          <p:nvPr/>
        </p:nvPicPr>
        <p:blipFill>
          <a:blip r:embed="rId1"/>
          <a:stretch/>
        </p:blipFill>
        <p:spPr>
          <a:xfrm>
            <a:off x="5219640" y="378936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актовая частот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ктовый генератор вырабатывает электрические импульсы, которые «несут» информацию от одного устройства к другом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ктовый генератор задаёт режим работы процессо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ктовая частота измеряется в мегагерцах – Мгц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астота в 1 Мгц соответствует миллиону тактов в секунд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4" descr="j0195812"/>
          <p:cNvPicPr/>
          <p:nvPr/>
        </p:nvPicPr>
        <p:blipFill>
          <a:blip r:embed="rId1"/>
          <a:stretch/>
        </p:blipFill>
        <p:spPr>
          <a:xfrm>
            <a:off x="7164360" y="5516640"/>
            <a:ext cx="13032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дресное пространство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личина 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бъём адресного пространства процессора, т.е. объём оперативной памяти, физически адресуемой процессоро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пример, если адресная шина 24-разрядная, следовательно, адресное пространство равно 2</a:t>
            </a:r>
            <a:r>
              <a:rPr b="0" lang="ru-RU" sz="3200" spc="-1" strike="noStrike" baseline="30000">
                <a:solidFill>
                  <a:srgbClr val="eaeaea"/>
                </a:solidFill>
                <a:latin typeface="Arial"/>
              </a:rPr>
              <a:t>24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= 16 Мбайт, т.е. процессор имеет адресуемый доступ к 16 Мбайтам оператив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39:18Z</dcterms:created>
  <dc:creator>Алла</dc:creator>
  <dc:description/>
  <dc:language>en-US</dc:language>
  <cp:lastModifiedBy>Алла</cp:lastModifiedBy>
  <dcterms:modified xsi:type="dcterms:W3CDTF">2011-09-08T17:04:08Z</dcterms:modified>
  <cp:revision>7</cp:revision>
  <dc:subject/>
  <dc:title>Устройство обработки информации.</dc:title>
</cp:coreProperties>
</file>