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EDB6C-0913-4929-8B3D-A9AFB3E1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E87E1-8EBA-4FE1-8A7E-B79F9146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701A5-5C92-42B4-8855-6CC9DD2B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7A8FF-737D-47A5-8E18-1764CB45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949D-062B-4D9C-AA66-0A22C341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340E-458A-4FB5-B73C-8709F0D8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22B9-B07C-4A8C-B1B3-9208865A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4BD7-9F07-490B-B372-97392597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E810-3F29-4436-8B1E-0024FD32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2177-10A9-4763-9AC5-F9C5F0CB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9654-BA73-4E47-A5BC-627A4CCE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E9B4E-F6A3-4107-A254-B46B0CF7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AA6E-2695-4E6F-9CCD-38A61A80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B223-AC8E-434F-AD35-9420A24B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844C-5959-4560-BE75-C1E1524F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864B-703F-4D7B-B485-5054D8CB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8563-6D6E-459F-9EFF-827F9DF0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2408C-7D1F-44D1-A15E-D2977355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7BF66-F20D-4AE1-B388-3D8DC9D1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300EA-EBD6-42AF-AACE-0EA1FC2A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E7D0-D5F3-4D5F-A40B-A537D2C2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DE9A0-B111-4EDE-BB0A-D313C417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E55E1-8980-4AF1-A57C-40458AF4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14CE3-160A-47BE-8EE0-E195A9E8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5541-6C21-42D0-91DD-EFC06B9FC43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CD83-A302-418B-9E8B-DE13DE8BB31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РАБО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IMG65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CIMG65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547280" y="1699920"/>
            <a:ext cx="71391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спомним их поимённ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орем вспомним свои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то нужно не мёртвы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то нужно – живым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общая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11:36:52Z</dcterms:created>
  <dc:creator>Customer</dc:creator>
  <dc:description/>
  <dc:language>en-US</dc:language>
  <cp:lastModifiedBy>учитель информатики</cp:lastModifiedBy>
  <dcterms:modified xsi:type="dcterms:W3CDTF">2012-03-09T10:51:53Z</dcterms:modified>
  <cp:revision>12</cp:revision>
  <dc:subject/>
  <dc:title>Слайд 1</dc:title>
</cp:coreProperties>
</file>