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4BE-3CAE-4181-827D-4E2F1316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8FF-FB3E-4225-87C5-E17925CD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F48-EBBA-4393-BBD4-69620991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52E-FAD9-4BA8-A52A-542AB539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F5E-E7C5-4359-92CA-DCA4B81A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CA7-CFD0-4440-8520-AC21DF47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6DA-5CC5-413A-9468-A869E542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BB3-A9A9-4A12-9FB2-F5EA779B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46E-D898-4AA1-9620-50A37A79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EB0-7FA5-4858-81D6-C741EEB1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298-266E-496D-8AF2-FA269CDE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C58-A676-412E-A442-B733E127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EA22-B6EF-4B89-B34B-BEFDBF3F2C03}" type="slidenum">
              <a:rPr b="0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eorgia"/>
              </a:rPr>
              <a:t>Работу выполнила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Georgia"/>
              </a:rPr>
              <a:t>ученица 6 «В» класса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Georgia"/>
              </a:rPr>
              <a:t>Маслёнкова Елена 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8"/>
          <p:cNvSpPr/>
          <p:nvPr/>
        </p:nvSpPr>
        <p:spPr>
          <a:xfrm flipH="1">
            <a:off x="8526600" y="547560"/>
            <a:ext cx="14112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86" name="Группа 17"/>
          <p:cNvGrpSpPr/>
          <p:nvPr/>
        </p:nvGrpSpPr>
        <p:grpSpPr>
          <a:xfrm>
            <a:off x="-68400" y="333360"/>
            <a:ext cx="9455760" cy="4840920"/>
            <a:chOff x="-68400" y="333360"/>
            <a:chExt cx="9455760" cy="4840920"/>
          </a:xfrm>
        </p:grpSpPr>
        <p:sp>
          <p:nvSpPr>
            <p:cNvPr id="87" name="Прямоугольник 3"/>
            <p:cNvSpPr/>
            <p:nvPr/>
          </p:nvSpPr>
          <p:spPr>
            <a:xfrm>
              <a:off x="-68400" y="333360"/>
              <a:ext cx="945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1.В соседнем доме перегорели (без  ) </a:t>
              </a:r>
              <a:endParaRPr b="0" lang="en-US" sz="4000" spc="-1" strike="noStrike">
                <a:solidFill>
                  <a:srgbClr val="ffffff"/>
                </a:solidFill>
                <a:latin typeface="Georg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пробки.</a:t>
              </a:r>
              <a:endParaRPr b="0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8" name="Прямоугольник 4"/>
            <p:cNvSpPr/>
            <p:nvPr/>
          </p:nvSpPr>
          <p:spPr>
            <a:xfrm>
              <a:off x="362520" y="2010960"/>
              <a:ext cx="878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2.У девочки ровный загар (под   ).</a:t>
              </a:r>
              <a:endParaRPr b="0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9" name="Прямая соединительная линия 6"/>
            <p:cNvSpPr/>
            <p:nvPr/>
          </p:nvSpPr>
          <p:spPr>
            <a:xfrm flipH="1">
              <a:off x="6159600" y="1982880"/>
              <a:ext cx="141120" cy="228600"/>
            </a:xfrm>
            <a:prstGeom prst="line">
              <a:avLst/>
            </a:prstGeom>
            <a:ln w="2556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0" name="Прямая соединительная линия 7"/>
            <p:cNvSpPr/>
            <p:nvPr/>
          </p:nvSpPr>
          <p:spPr>
            <a:xfrm flipH="1">
              <a:off x="7923240" y="2162160"/>
              <a:ext cx="14112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1" name="Прямая соединительная линия 9"/>
            <p:cNvSpPr/>
            <p:nvPr/>
          </p:nvSpPr>
          <p:spPr>
            <a:xfrm flipH="1">
              <a:off x="6653160" y="333360"/>
              <a:ext cx="141120" cy="228600"/>
            </a:xfrm>
            <a:prstGeom prst="line">
              <a:avLst/>
            </a:prstGeom>
            <a:ln w="2556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2" name="Дуга 10"/>
            <p:cNvSpPr/>
            <p:nvPr/>
          </p:nvSpPr>
          <p:spPr>
            <a:xfrm>
              <a:off x="5719680" y="447480"/>
              <a:ext cx="750600" cy="403200"/>
            </a:xfrm>
            <a:custGeom>
              <a:avLst/>
              <a:gdLst/>
              <a:ahLst/>
              <a:rect l="l" t="t" r="r" b="b"/>
              <a:pathLst>
                <a:path stroke="0" w="750846" h="403261">
                  <a:moveTo>
                    <a:pt x="6746" y="163580"/>
                  </a:moveTo>
                  <a:cubicBezTo>
                    <a:pt x="41458" y="66566"/>
                    <a:pt x="201929" y="-2653"/>
                    <a:pt x="385797" y="77"/>
                  </a:cubicBezTo>
                  <a:cubicBezTo>
                    <a:pt x="589020" y="3094"/>
                    <a:pt x="750847" y="92443"/>
                    <a:pt x="750847" y="201631"/>
                  </a:cubicBezTo>
                  <a:lnTo>
                    <a:pt x="375423" y="201631"/>
                  </a:lnTo>
                  <a:lnTo>
                    <a:pt x="6746" y="163580"/>
                  </a:lnTo>
                  <a:close/>
                </a:path>
                <a:path fill="none" w="750846" h="403261">
                  <a:moveTo>
                    <a:pt x="6746" y="163580"/>
                  </a:moveTo>
                  <a:cubicBezTo>
                    <a:pt x="41458" y="66566"/>
                    <a:pt x="201929" y="-2653"/>
                    <a:pt x="385797" y="77"/>
                  </a:cubicBezTo>
                  <a:cubicBezTo>
                    <a:pt x="589020" y="3094"/>
                    <a:pt x="750847" y="92443"/>
                    <a:pt x="750847" y="201631"/>
                  </a:cubicBezTo>
                </a:path>
              </a:pathLst>
            </a:custGeom>
            <a:noFill/>
            <a:ln w="25560">
              <a:solidFill>
                <a:srgbClr val="aa2b1e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3" name="Дуга 11"/>
            <p:cNvSpPr/>
            <p:nvPr/>
          </p:nvSpPr>
          <p:spPr>
            <a:xfrm>
              <a:off x="5788080" y="2124000"/>
              <a:ext cx="750600" cy="403200"/>
            </a:xfrm>
            <a:custGeom>
              <a:avLst/>
              <a:gdLst/>
              <a:ahLst/>
              <a:rect l="l" t="t" r="r" b="b"/>
              <a:pathLst>
                <a:path stroke="0" w="750847" h="403261">
                  <a:moveTo>
                    <a:pt x="6746" y="163580"/>
                  </a:moveTo>
                  <a:cubicBezTo>
                    <a:pt x="41458" y="66566"/>
                    <a:pt x="201930" y="-2653"/>
                    <a:pt x="385798" y="77"/>
                  </a:cubicBezTo>
                  <a:cubicBezTo>
                    <a:pt x="589021" y="3094"/>
                    <a:pt x="750849" y="92443"/>
                    <a:pt x="750849" y="201631"/>
                  </a:cubicBezTo>
                  <a:lnTo>
                    <a:pt x="375424" y="201631"/>
                  </a:lnTo>
                  <a:lnTo>
                    <a:pt x="6746" y="163580"/>
                  </a:lnTo>
                  <a:close/>
                </a:path>
                <a:path fill="none" w="750847" h="403261">
                  <a:moveTo>
                    <a:pt x="6746" y="163580"/>
                  </a:moveTo>
                  <a:cubicBezTo>
                    <a:pt x="41458" y="66566"/>
                    <a:pt x="201930" y="-2653"/>
                    <a:pt x="385798" y="77"/>
                  </a:cubicBezTo>
                  <a:cubicBezTo>
                    <a:pt x="589021" y="3094"/>
                    <a:pt x="750849" y="92443"/>
                    <a:pt x="750849" y="201631"/>
                  </a:cubicBezTo>
                </a:path>
              </a:pathLst>
            </a:custGeom>
            <a:noFill/>
            <a:ln w="25560">
              <a:solidFill>
                <a:srgbClr val="aa2b1e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4" name="Прямоугольник 12"/>
            <p:cNvSpPr/>
            <p:nvPr/>
          </p:nvSpPr>
          <p:spPr>
            <a:xfrm>
              <a:off x="488160" y="3861360"/>
              <a:ext cx="741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3.Он любит загорать (без  ) </a:t>
              </a:r>
              <a:endParaRPr b="0" lang="en-US" sz="4000" spc="-1" strike="noStrike">
                <a:solidFill>
                  <a:srgbClr val="ffffff"/>
                </a:solidFill>
                <a:latin typeface="Georg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на пляже.</a:t>
              </a:r>
              <a:endParaRPr b="0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5" name="Дуга 13"/>
            <p:cNvSpPr/>
            <p:nvPr/>
          </p:nvSpPr>
          <p:spPr>
            <a:xfrm>
              <a:off x="4283280" y="4005360"/>
              <a:ext cx="752400" cy="404640"/>
            </a:xfrm>
            <a:custGeom>
              <a:avLst/>
              <a:gdLst/>
              <a:ahLst/>
              <a:rect l="l" t="t" r="r" b="b"/>
              <a:pathLst>
                <a:path stroke="0" w="752434" h="404848">
                  <a:moveTo>
                    <a:pt x="6736" y="164291"/>
                  </a:moveTo>
                  <a:cubicBezTo>
                    <a:pt x="41471" y="66860"/>
                    <a:pt x="202320" y="-2668"/>
                    <a:pt x="386631" y="78"/>
                  </a:cubicBezTo>
                  <a:cubicBezTo>
                    <a:pt x="590276" y="3112"/>
                    <a:pt x="752434" y="92811"/>
                    <a:pt x="752434" y="202424"/>
                  </a:cubicBezTo>
                  <a:lnTo>
                    <a:pt x="376217" y="202424"/>
                  </a:lnTo>
                  <a:lnTo>
                    <a:pt x="6736" y="164291"/>
                  </a:lnTo>
                  <a:close/>
                </a:path>
                <a:path fill="none" w="752434" h="404848">
                  <a:moveTo>
                    <a:pt x="6736" y="164291"/>
                  </a:moveTo>
                  <a:cubicBezTo>
                    <a:pt x="41471" y="66860"/>
                    <a:pt x="202320" y="-2668"/>
                    <a:pt x="386631" y="78"/>
                  </a:cubicBezTo>
                  <a:cubicBezTo>
                    <a:pt x="590276" y="3112"/>
                    <a:pt x="752434" y="92811"/>
                    <a:pt x="752434" y="202424"/>
                  </a:cubicBezTo>
                </a:path>
              </a:pathLst>
            </a:custGeom>
            <a:noFill/>
            <a:ln w="25560">
              <a:solidFill>
                <a:srgbClr val="aa2b1e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6" name="Прямая соединительная линия 14"/>
            <p:cNvSpPr/>
            <p:nvPr/>
          </p:nvSpPr>
          <p:spPr>
            <a:xfrm flipH="1">
              <a:off x="5219640" y="3861000"/>
              <a:ext cx="141120" cy="228600"/>
            </a:xfrm>
            <a:prstGeom prst="line">
              <a:avLst/>
            </a:prstGeom>
            <a:ln w="2556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Прямая соединительная линия 15"/>
            <p:cNvSpPr/>
            <p:nvPr/>
          </p:nvSpPr>
          <p:spPr>
            <a:xfrm flipH="1">
              <a:off x="7236000" y="4089600"/>
              <a:ext cx="14112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pic>
        <p:nvPicPr>
          <p:cNvPr id="98" name="Рисунок 16" descr=""/>
          <p:cNvPicPr/>
          <p:nvPr/>
        </p:nvPicPr>
        <p:blipFill>
          <a:blip r:embed="rId1"/>
          <a:stretch/>
        </p:blipFill>
        <p:spPr>
          <a:xfrm>
            <a:off x="6400800" y="4495680"/>
            <a:ext cx="274320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1027080" y="907920"/>
            <a:ext cx="7074000" cy="65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гореть на работе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вигатель внутреннего сгорания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загорать на пляже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загорелый мальчик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разгоревшийся костёр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перегорели пробки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пирог подгорел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разгорелась заря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ровный загар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самопроизвольное возгорание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сильный угар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угарный газ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черная гарь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74640" y="31896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eorgia"/>
              </a:rPr>
              <a:t>Примеры словосочетаний.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539640" y="1557360"/>
            <a:ext cx="8136000" cy="3170160"/>
          </a:xfrm>
          <a:prstGeom prst="rect">
            <a:avLst/>
          </a:prstGeom>
          <a:gradFill rotWithShape="0">
            <a:gsLst>
              <a:gs pos="0">
                <a:srgbClr val="ffc87c"/>
              </a:gs>
              <a:gs pos="100000">
                <a:srgbClr val="ffeed8"/>
              </a:gs>
            </a:gsLst>
            <a:lin ang="16200000"/>
          </a:gradFill>
          <a:ln w="9360">
            <a:solidFill>
              <a:srgbClr val="fd9d1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Буквы </a:t>
            </a:r>
            <a:r>
              <a:rPr b="0" i="1" lang="ru-RU" sz="72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ru-RU" sz="72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 в корне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-зор -, -зар-</a:t>
            </a:r>
            <a:endParaRPr b="0" lang="en-US" sz="7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В корне с чередованием     -зор- -зар- под ударением пишется буква </a:t>
            </a: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Georgia"/>
              </a:rPr>
              <a:t>о</a:t>
            </a: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.            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В безударном положении пишется буква </a:t>
            </a: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Georgia"/>
              </a:rPr>
              <a:t>а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Дуга 4"/>
          <p:cNvSpPr/>
          <p:nvPr/>
        </p:nvSpPr>
        <p:spPr>
          <a:xfrm>
            <a:off x="2771640" y="2454120"/>
            <a:ext cx="1020960" cy="573120"/>
          </a:xfrm>
          <a:custGeom>
            <a:avLst/>
            <a:gdLst/>
            <a:ahLst/>
            <a:rect l="l" t="t" r="r" b="b"/>
            <a:pathLst>
              <a:path stroke="0" w="1020763" h="573088">
                <a:moveTo>
                  <a:pt x="8411" y="234737"/>
                </a:moveTo>
                <a:cubicBezTo>
                  <a:pt x="53947" y="95666"/>
                  <a:pt x="273370" y="-3964"/>
                  <a:pt x="525123" y="120"/>
                </a:cubicBezTo>
                <a:cubicBezTo>
                  <a:pt x="801143" y="4598"/>
                  <a:pt x="1020763" y="131514"/>
                  <a:pt x="1020763" y="286544"/>
                </a:cubicBezTo>
                <a:lnTo>
                  <a:pt x="510382" y="286544"/>
                </a:lnTo>
                <a:lnTo>
                  <a:pt x="8411" y="234737"/>
                </a:lnTo>
                <a:close/>
              </a:path>
              <a:path fill="none" w="1020763" h="573088">
                <a:moveTo>
                  <a:pt x="8411" y="234737"/>
                </a:moveTo>
                <a:cubicBezTo>
                  <a:pt x="53947" y="95666"/>
                  <a:pt x="273370" y="-3964"/>
                  <a:pt x="525123" y="120"/>
                </a:cubicBezTo>
                <a:cubicBezTo>
                  <a:pt x="801143" y="4598"/>
                  <a:pt x="1020763" y="131514"/>
                  <a:pt x="1020763" y="286544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Дуга 5"/>
          <p:cNvSpPr/>
          <p:nvPr/>
        </p:nvSpPr>
        <p:spPr>
          <a:xfrm>
            <a:off x="1258920" y="2421000"/>
            <a:ext cx="936720" cy="496800"/>
          </a:xfrm>
          <a:custGeom>
            <a:avLst/>
            <a:gdLst/>
            <a:ahLst/>
            <a:rect l="l" t="t" r="r" b="b"/>
            <a:pathLst>
              <a:path stroke="0" w="936625" h="496887">
                <a:moveTo>
                  <a:pt x="8618" y="200999"/>
                </a:moveTo>
                <a:cubicBezTo>
                  <a:pt x="52346" y="81757"/>
                  <a:pt x="252197" y="-3224"/>
                  <a:pt x="481095" y="92"/>
                </a:cubicBezTo>
                <a:cubicBezTo>
                  <a:pt x="734664" y="3765"/>
                  <a:pt x="936626" y="113873"/>
                  <a:pt x="936626" y="248443"/>
                </a:cubicBezTo>
                <a:lnTo>
                  <a:pt x="468313" y="248444"/>
                </a:lnTo>
                <a:lnTo>
                  <a:pt x="8618" y="200999"/>
                </a:lnTo>
                <a:close/>
              </a:path>
              <a:path fill="none" w="936625" h="496887">
                <a:moveTo>
                  <a:pt x="8618" y="200999"/>
                </a:moveTo>
                <a:cubicBezTo>
                  <a:pt x="52346" y="81757"/>
                  <a:pt x="252197" y="-3224"/>
                  <a:pt x="481095" y="92"/>
                </a:cubicBezTo>
                <a:cubicBezTo>
                  <a:pt x="734664" y="3765"/>
                  <a:pt x="936626" y="113873"/>
                  <a:pt x="936626" y="248443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25092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Образец рассуждения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Объект 2"/>
          <p:cNvSpPr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Зар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: в этом слове есть вариант корня –зор –зар-; гласная в корне безударная, поэтому в нём нужно писать букву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Зори: в этом слове есть вариант корня -зор-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-зар-; гласная в корне ударная, поэтому в нём нужно писать букву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Дуга 5"/>
          <p:cNvSpPr/>
          <p:nvPr/>
        </p:nvSpPr>
        <p:spPr>
          <a:xfrm>
            <a:off x="539640" y="2565360"/>
            <a:ext cx="505080" cy="271440"/>
          </a:xfrm>
          <a:custGeom>
            <a:avLst/>
            <a:gdLst/>
            <a:ahLst/>
            <a:rect l="l" t="t" r="r" b="b"/>
            <a:pathLst>
              <a:path stroke="0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  <a:lnTo>
                  <a:pt x="252413" y="135732"/>
                </a:lnTo>
                <a:lnTo>
                  <a:pt x="4524" y="110147"/>
                </a:lnTo>
                <a:close/>
              </a:path>
              <a:path fill="none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Дуга 6"/>
          <p:cNvSpPr/>
          <p:nvPr/>
        </p:nvSpPr>
        <p:spPr>
          <a:xfrm>
            <a:off x="7149960" y="2133720"/>
            <a:ext cx="505080" cy="271440"/>
          </a:xfrm>
          <a:custGeom>
            <a:avLst/>
            <a:gdLst/>
            <a:ahLst/>
            <a:rect l="l" t="t" r="r" b="b"/>
            <a:pathLst>
              <a:path stroke="0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  <a:lnTo>
                  <a:pt x="252413" y="135732"/>
                </a:lnTo>
                <a:lnTo>
                  <a:pt x="4524" y="110147"/>
                </a:lnTo>
                <a:close/>
              </a:path>
              <a:path fill="none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Дуга 7"/>
          <p:cNvSpPr/>
          <p:nvPr/>
        </p:nvSpPr>
        <p:spPr>
          <a:xfrm>
            <a:off x="7093080" y="4005360"/>
            <a:ext cx="504720" cy="271440"/>
          </a:xfrm>
          <a:custGeom>
            <a:avLst/>
            <a:gdLst/>
            <a:ahLst/>
            <a:rect l="l" t="t" r="r" b="b"/>
            <a:pathLst>
              <a:path stroke="0" w="504825" h="271462">
                <a:moveTo>
                  <a:pt x="4525" y="110147"/>
                </a:moveTo>
                <a:cubicBezTo>
                  <a:pt x="27840" y="44825"/>
                  <a:pt x="135750" y="-1788"/>
                  <a:pt x="259397" y="52"/>
                </a:cubicBezTo>
                <a:cubicBezTo>
                  <a:pt x="396029" y="2085"/>
                  <a:pt x="504827" y="62231"/>
                  <a:pt x="504827" y="135731"/>
                </a:cubicBezTo>
                <a:lnTo>
                  <a:pt x="252413" y="135731"/>
                </a:lnTo>
                <a:lnTo>
                  <a:pt x="4525" y="110147"/>
                </a:lnTo>
                <a:close/>
              </a:path>
              <a:path fill="none" w="504825" h="271462">
                <a:moveTo>
                  <a:pt x="4525" y="110147"/>
                </a:moveTo>
                <a:cubicBezTo>
                  <a:pt x="27840" y="44825"/>
                  <a:pt x="135750" y="-1788"/>
                  <a:pt x="259397" y="52"/>
                </a:cubicBezTo>
                <a:cubicBezTo>
                  <a:pt x="396029" y="2085"/>
                  <a:pt x="504827" y="62231"/>
                  <a:pt x="504827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Дуга 8"/>
          <p:cNvSpPr/>
          <p:nvPr/>
        </p:nvSpPr>
        <p:spPr>
          <a:xfrm>
            <a:off x="684360" y="4508640"/>
            <a:ext cx="504720" cy="271440"/>
          </a:xfrm>
          <a:custGeom>
            <a:avLst/>
            <a:gdLst/>
            <a:ahLst/>
            <a:rect l="l" t="t" r="r" b="b"/>
            <a:pathLst>
              <a:path stroke="0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  <a:lnTo>
                  <a:pt x="252413" y="135732"/>
                </a:lnTo>
                <a:lnTo>
                  <a:pt x="4524" y="110147"/>
                </a:lnTo>
                <a:close/>
              </a:path>
              <a:path fill="none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684360" y="1341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Я проснулся на заре (без  )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Прямая соединительная линия 4"/>
          <p:cNvSpPr/>
          <p:nvPr/>
        </p:nvSpPr>
        <p:spPr>
          <a:xfrm flipH="1">
            <a:off x="5435640" y="1284120"/>
            <a:ext cx="141120" cy="228600"/>
          </a:xfrm>
          <a:prstGeom prst="line">
            <a:avLst/>
          </a:prstGeom>
          <a:ln w="255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Дуга 5"/>
          <p:cNvSpPr/>
          <p:nvPr/>
        </p:nvSpPr>
        <p:spPr>
          <a:xfrm>
            <a:off x="4500720" y="1455840"/>
            <a:ext cx="718920" cy="353880"/>
          </a:xfrm>
          <a:custGeom>
            <a:avLst/>
            <a:gdLst/>
            <a:ahLst/>
            <a:rect l="l" t="t" r="r" b="b"/>
            <a:pathLst>
              <a:path stroke="0" w="719137" h="354012">
                <a:moveTo>
                  <a:pt x="7651" y="140685"/>
                </a:moveTo>
                <a:cubicBezTo>
                  <a:pt x="43268" y="57057"/>
                  <a:pt x="195157" y="-2108"/>
                  <a:pt x="368676" y="57"/>
                </a:cubicBezTo>
                <a:cubicBezTo>
                  <a:pt x="563650" y="2489"/>
                  <a:pt x="719138" y="80995"/>
                  <a:pt x="719138" y="177006"/>
                </a:cubicBezTo>
                <a:lnTo>
                  <a:pt x="359569" y="177006"/>
                </a:lnTo>
                <a:lnTo>
                  <a:pt x="7651" y="140685"/>
                </a:lnTo>
                <a:close/>
              </a:path>
              <a:path fill="none" w="719137" h="354012">
                <a:moveTo>
                  <a:pt x="7651" y="140685"/>
                </a:moveTo>
                <a:cubicBezTo>
                  <a:pt x="43268" y="57057"/>
                  <a:pt x="195157" y="-2108"/>
                  <a:pt x="368676" y="57"/>
                </a:cubicBezTo>
                <a:cubicBezTo>
                  <a:pt x="563650" y="2489"/>
                  <a:pt x="719138" y="80995"/>
                  <a:pt x="719138" y="177006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354240" y="2708280"/>
            <a:ext cx="63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В нашей деревне тихие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зори (под  )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Прямая соединительная линия 11"/>
          <p:cNvSpPr/>
          <p:nvPr/>
        </p:nvSpPr>
        <p:spPr>
          <a:xfrm flipH="1">
            <a:off x="3131640" y="3573360"/>
            <a:ext cx="141480" cy="228600"/>
          </a:xfrm>
          <a:prstGeom prst="line">
            <a:avLst/>
          </a:prstGeom>
          <a:ln w="255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Прямая соединительная линия 12"/>
          <p:cNvSpPr/>
          <p:nvPr/>
        </p:nvSpPr>
        <p:spPr>
          <a:xfrm flipH="1">
            <a:off x="1042560" y="3344760"/>
            <a:ext cx="141480" cy="228600"/>
          </a:xfrm>
          <a:prstGeom prst="line">
            <a:avLst/>
          </a:prstGeom>
          <a:ln w="255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Дуга 13"/>
          <p:cNvSpPr/>
          <p:nvPr/>
        </p:nvSpPr>
        <p:spPr>
          <a:xfrm>
            <a:off x="754200" y="3459240"/>
            <a:ext cx="720720" cy="353880"/>
          </a:xfrm>
          <a:custGeom>
            <a:avLst/>
            <a:gdLst/>
            <a:ahLst/>
            <a:rect l="l" t="t" r="r" b="b"/>
            <a:pathLst>
              <a:path stroke="0" w="720725" h="354012">
                <a:moveTo>
                  <a:pt x="7701" y="140608"/>
                </a:moveTo>
                <a:cubicBezTo>
                  <a:pt x="43458" y="57021"/>
                  <a:pt x="195636" y="-2102"/>
                  <a:pt x="369470" y="56"/>
                </a:cubicBezTo>
                <a:cubicBezTo>
                  <a:pt x="564883" y="2483"/>
                  <a:pt x="720726" y="80990"/>
                  <a:pt x="720726" y="177005"/>
                </a:cubicBezTo>
                <a:lnTo>
                  <a:pt x="360363" y="177006"/>
                </a:lnTo>
                <a:lnTo>
                  <a:pt x="7701" y="140608"/>
                </a:lnTo>
                <a:close/>
              </a:path>
              <a:path fill="none" w="720725" h="354012">
                <a:moveTo>
                  <a:pt x="7701" y="140608"/>
                </a:moveTo>
                <a:cubicBezTo>
                  <a:pt x="43458" y="57021"/>
                  <a:pt x="195636" y="-2102"/>
                  <a:pt x="369470" y="56"/>
                </a:cubicBezTo>
                <a:cubicBezTo>
                  <a:pt x="564883" y="2483"/>
                  <a:pt x="720726" y="80990"/>
                  <a:pt x="720726" y="177005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19" name="Picture 2" descr="C:\Documents and Settings\Admin\Рабочий стол\elt26i.bmp"/>
          <p:cNvPicPr/>
          <p:nvPr/>
        </p:nvPicPr>
        <p:blipFill>
          <a:blip r:embed="rId1"/>
          <a:stretch/>
        </p:blipFill>
        <p:spPr>
          <a:xfrm>
            <a:off x="5410080" y="3278160"/>
            <a:ext cx="3733920" cy="34988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ая соединительная линия 15"/>
          <p:cNvSpPr/>
          <p:nvPr/>
        </p:nvSpPr>
        <p:spPr>
          <a:xfrm flipH="1">
            <a:off x="6732720" y="1581120"/>
            <a:ext cx="141120" cy="228600"/>
          </a:xfrm>
          <a:prstGeom prst="line">
            <a:avLst/>
          </a:prstGeom>
          <a:ln w="255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755640" y="1066680"/>
            <a:ext cx="5111640" cy="61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ечерняя заря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далекие зарницы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ждать озарения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зарево пожара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на утренней заре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озарять все вокруг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озаренный солнцем луг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отправиться зоревать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есня зорянки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роснуться на заре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олнце озарило поля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тихие зори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ясная зоренька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674640" y="31896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eorgia"/>
              </a:rPr>
              <a:t>Примеры словосочетаний.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136000" cy="3170160"/>
          </a:xfrm>
          <a:prstGeom prst="rect">
            <a:avLst/>
          </a:prstGeom>
          <a:gradFill rotWithShape="0">
            <a:gsLst>
              <a:gs pos="0">
                <a:srgbClr val="ffc87c"/>
              </a:gs>
              <a:gs pos="100000">
                <a:srgbClr val="ffeed8"/>
              </a:gs>
            </a:gsLst>
            <a:lin ang="16200000"/>
          </a:gradFill>
          <a:ln w="9360">
            <a:solidFill>
              <a:srgbClr val="fd9d1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Буквы </a:t>
            </a:r>
            <a:r>
              <a:rPr b="0" i="1" lang="ru-RU" sz="72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ru-RU" sz="72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 в корне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-кос -, -кас-</a:t>
            </a:r>
            <a:endParaRPr b="0" lang="en-US" sz="7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Дуга 3"/>
          <p:cNvSpPr/>
          <p:nvPr/>
        </p:nvSpPr>
        <p:spPr>
          <a:xfrm>
            <a:off x="2411280" y="3213000"/>
            <a:ext cx="1729080" cy="1008000"/>
          </a:xfrm>
          <a:custGeom>
            <a:avLst/>
            <a:gdLst/>
            <a:ahLst/>
            <a:rect l="l" t="t" r="r" b="b"/>
            <a:pathLst>
              <a:path stroke="0" w="1728787" h="1008063">
                <a:moveTo>
                  <a:pt x="6681" y="441487"/>
                </a:moveTo>
                <a:cubicBezTo>
                  <a:pt x="61642" y="185213"/>
                  <a:pt x="439920" y="-5369"/>
                  <a:pt x="882743" y="113"/>
                </a:cubicBezTo>
                <a:cubicBezTo>
                  <a:pt x="1352878" y="5933"/>
                  <a:pt x="1728789" y="229832"/>
                  <a:pt x="1728788" y="504032"/>
                </a:cubicBezTo>
                <a:lnTo>
                  <a:pt x="864394" y="504032"/>
                </a:lnTo>
                <a:lnTo>
                  <a:pt x="6681" y="441487"/>
                </a:lnTo>
                <a:close/>
              </a:path>
              <a:path fill="none" w="1728787" h="1008063">
                <a:moveTo>
                  <a:pt x="6681" y="441487"/>
                </a:moveTo>
                <a:cubicBezTo>
                  <a:pt x="61642" y="185213"/>
                  <a:pt x="439920" y="-5369"/>
                  <a:pt x="882743" y="113"/>
                </a:cubicBezTo>
                <a:cubicBezTo>
                  <a:pt x="1352878" y="5933"/>
                  <a:pt x="1728789" y="229832"/>
                  <a:pt x="1728788" y="504032"/>
                </a:cubicBezTo>
              </a:path>
            </a:pathLst>
          </a:custGeom>
          <a:noFill/>
          <a:ln w="38160">
            <a:solidFill>
              <a:srgbClr val="aa2b1e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Дуга 4"/>
          <p:cNvSpPr/>
          <p:nvPr/>
        </p:nvSpPr>
        <p:spPr>
          <a:xfrm>
            <a:off x="5076720" y="3198960"/>
            <a:ext cx="1727280" cy="1008000"/>
          </a:xfrm>
          <a:custGeom>
            <a:avLst/>
            <a:gdLst/>
            <a:ahLst/>
            <a:rect l="l" t="t" r="r" b="b"/>
            <a:pathLst>
              <a:path stroke="0" w="1727200" h="1008062">
                <a:moveTo>
                  <a:pt x="6662" y="441543"/>
                </a:moveTo>
                <a:cubicBezTo>
                  <a:pt x="61529" y="185241"/>
                  <a:pt x="439489" y="-5374"/>
                  <a:pt x="881948" y="114"/>
                </a:cubicBezTo>
                <a:cubicBezTo>
                  <a:pt x="1351645" y="5940"/>
                  <a:pt x="1727200" y="229836"/>
                  <a:pt x="1727200" y="504031"/>
                </a:cubicBezTo>
                <a:lnTo>
                  <a:pt x="863600" y="504031"/>
                </a:lnTo>
                <a:lnTo>
                  <a:pt x="6662" y="441543"/>
                </a:lnTo>
                <a:close/>
              </a:path>
              <a:path fill="none" w="1727200" h="1008062">
                <a:moveTo>
                  <a:pt x="6662" y="441543"/>
                </a:moveTo>
                <a:cubicBezTo>
                  <a:pt x="61529" y="185241"/>
                  <a:pt x="439489" y="-5374"/>
                  <a:pt x="881948" y="114"/>
                </a:cubicBezTo>
                <a:cubicBezTo>
                  <a:pt x="1351645" y="5940"/>
                  <a:pt x="1727200" y="229836"/>
                  <a:pt x="1727200" y="504031"/>
                </a:cubicBezTo>
              </a:path>
            </a:pathLst>
          </a:custGeom>
          <a:noFill/>
          <a:ln w="38160">
            <a:solidFill>
              <a:srgbClr val="aa2b1e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30040" y="1268280"/>
            <a:ext cx="837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В корне -кос-, -кас- в безударном положении пишется буква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, если после корня стоит суффикс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. Если суффикса а нет то пишется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! 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Дуга 3"/>
          <p:cNvSpPr/>
          <p:nvPr/>
        </p:nvSpPr>
        <p:spPr>
          <a:xfrm>
            <a:off x="5796000" y="1319040"/>
            <a:ext cx="863640" cy="573120"/>
          </a:xfrm>
          <a:custGeom>
            <a:avLst/>
            <a:gdLst/>
            <a:ahLst/>
            <a:rect l="l" t="t" r="r" b="b"/>
            <a:pathLst>
              <a:path stroke="0" w="863600" h="573087">
                <a:moveTo>
                  <a:pt x="5129" y="242508"/>
                </a:moveTo>
                <a:cubicBezTo>
                  <a:pt x="38702" y="99260"/>
                  <a:pt x="228207" y="-4782"/>
                  <a:pt x="446539" y="167"/>
                </a:cubicBezTo>
                <a:cubicBezTo>
                  <a:pt x="679143" y="5439"/>
                  <a:pt x="863600" y="132097"/>
                  <a:pt x="863600" y="286544"/>
                </a:cubicBezTo>
                <a:lnTo>
                  <a:pt x="431800" y="286544"/>
                </a:lnTo>
                <a:lnTo>
                  <a:pt x="5129" y="242508"/>
                </a:lnTo>
                <a:close/>
              </a:path>
              <a:path fill="none" w="863600" h="573087">
                <a:moveTo>
                  <a:pt x="5129" y="242508"/>
                </a:moveTo>
                <a:cubicBezTo>
                  <a:pt x="38702" y="99260"/>
                  <a:pt x="228207" y="-4782"/>
                  <a:pt x="446539" y="167"/>
                </a:cubicBezTo>
                <a:cubicBezTo>
                  <a:pt x="679143" y="5439"/>
                  <a:pt x="863600" y="132097"/>
                  <a:pt x="863600" y="286544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Дуга 4"/>
          <p:cNvSpPr/>
          <p:nvPr/>
        </p:nvSpPr>
        <p:spPr>
          <a:xfrm>
            <a:off x="4284720" y="1308240"/>
            <a:ext cx="792000" cy="496800"/>
          </a:xfrm>
          <a:custGeom>
            <a:avLst/>
            <a:gdLst/>
            <a:ahLst/>
            <a:rect l="l" t="t" r="r" b="b"/>
            <a:pathLst>
              <a:path stroke="0" w="792162" h="496888">
                <a:moveTo>
                  <a:pt x="5255" y="208108"/>
                </a:moveTo>
                <a:cubicBezTo>
                  <a:pt x="37528" y="85077"/>
                  <a:pt x="210185" y="-3893"/>
                  <a:pt x="408861" y="130"/>
                </a:cubicBezTo>
                <a:cubicBezTo>
                  <a:pt x="622524" y="4457"/>
                  <a:pt x="792162" y="114354"/>
                  <a:pt x="792162" y="248445"/>
                </a:cubicBezTo>
                <a:lnTo>
                  <a:pt x="396081" y="248444"/>
                </a:lnTo>
                <a:lnTo>
                  <a:pt x="5255" y="208108"/>
                </a:lnTo>
                <a:close/>
              </a:path>
              <a:path fill="none" w="792162" h="496888">
                <a:moveTo>
                  <a:pt x="5255" y="208108"/>
                </a:moveTo>
                <a:cubicBezTo>
                  <a:pt x="37528" y="85077"/>
                  <a:pt x="210185" y="-3893"/>
                  <a:pt x="408861" y="130"/>
                </a:cubicBezTo>
                <a:cubicBezTo>
                  <a:pt x="622524" y="4457"/>
                  <a:pt x="792162" y="114354"/>
                  <a:pt x="792162" y="248445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 flipV="1">
            <a:off x="6516720" y="3321000"/>
            <a:ext cx="142920" cy="216000"/>
          </a:xfrm>
          <a:prstGeom prst="line">
            <a:avLst/>
          </a:prstGeom>
          <a:ln w="381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Прямая соединительная линия 7"/>
          <p:cNvSpPr/>
          <p:nvPr/>
        </p:nvSpPr>
        <p:spPr>
          <a:xfrm flipH="1" flipV="1">
            <a:off x="6659280" y="3321000"/>
            <a:ext cx="144360" cy="216000"/>
          </a:xfrm>
          <a:prstGeom prst="line">
            <a:avLst/>
          </a:prstGeom>
          <a:ln w="381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17600" y="977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Образец рассуждения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531000" y="2492280"/>
            <a:ext cx="783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Коснутьс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: в этом слове есть вариант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рня кос-кас. За корнем нет суффикса -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-,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этому в корне нужно писать букву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16600" y="4581360"/>
            <a:ext cx="778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Касатьс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: в этом слове есть вариант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рня кос-кас. За корнем есть суффикс -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-,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этому в корне нужно писать букву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3" name="Группа 4"/>
          <p:cNvGrpSpPr/>
          <p:nvPr/>
        </p:nvGrpSpPr>
        <p:grpSpPr>
          <a:xfrm>
            <a:off x="7597800" y="2852640"/>
            <a:ext cx="286920" cy="216000"/>
            <a:chOff x="7597800" y="2852640"/>
            <a:chExt cx="286920" cy="216000"/>
          </a:xfrm>
        </p:grpSpPr>
        <p:sp>
          <p:nvSpPr>
            <p:cNvPr id="54" name="Прямая соединительная линия 6"/>
            <p:cNvSpPr/>
            <p:nvPr/>
          </p:nvSpPr>
          <p:spPr>
            <a:xfrm flipV="1">
              <a:off x="7597800" y="2852640"/>
              <a:ext cx="142920" cy="216000"/>
            </a:xfrm>
            <a:prstGeom prst="line">
              <a:avLst/>
            </a:prstGeom>
            <a:ln w="3816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55" name="Прямая соединительная линия 7"/>
            <p:cNvSpPr/>
            <p:nvPr/>
          </p:nvSpPr>
          <p:spPr>
            <a:xfrm flipH="1" flipV="1">
              <a:off x="7740360" y="2852640"/>
              <a:ext cx="144360" cy="216000"/>
            </a:xfrm>
            <a:prstGeom prst="line">
              <a:avLst/>
            </a:prstGeom>
            <a:ln w="3816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56" name="Прямая соединительная линия 8"/>
          <p:cNvSpPr/>
          <p:nvPr/>
        </p:nvSpPr>
        <p:spPr>
          <a:xfrm flipV="1">
            <a:off x="7515360" y="5027400"/>
            <a:ext cx="142920" cy="215640"/>
          </a:xfrm>
          <a:prstGeom prst="line">
            <a:avLst/>
          </a:prstGeom>
          <a:ln w="381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Прямая соединительная линия 9"/>
          <p:cNvSpPr/>
          <p:nvPr/>
        </p:nvSpPr>
        <p:spPr>
          <a:xfrm flipH="1" flipV="1">
            <a:off x="7657920" y="5027400"/>
            <a:ext cx="144360" cy="215640"/>
          </a:xfrm>
          <a:prstGeom prst="line">
            <a:avLst/>
          </a:prstGeom>
          <a:ln w="381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Дуга 10"/>
          <p:cNvSpPr/>
          <p:nvPr/>
        </p:nvSpPr>
        <p:spPr>
          <a:xfrm>
            <a:off x="1979640" y="2968560"/>
            <a:ext cx="504720" cy="271440"/>
          </a:xfrm>
          <a:custGeom>
            <a:avLst/>
            <a:gdLst/>
            <a:ahLst/>
            <a:rect l="l" t="t" r="r" b="b"/>
            <a:pathLst>
              <a:path stroke="0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  <a:lnTo>
                  <a:pt x="252413" y="135732"/>
                </a:lnTo>
                <a:lnTo>
                  <a:pt x="4524" y="110147"/>
                </a:lnTo>
                <a:close/>
              </a:path>
              <a:path fill="none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Дуга 11"/>
          <p:cNvSpPr/>
          <p:nvPr/>
        </p:nvSpPr>
        <p:spPr>
          <a:xfrm>
            <a:off x="2627280" y="2968560"/>
            <a:ext cx="504720" cy="271440"/>
          </a:xfrm>
          <a:custGeom>
            <a:avLst/>
            <a:gdLst/>
            <a:ahLst/>
            <a:rect l="l" t="t" r="r" b="b"/>
            <a:pathLst>
              <a:path stroke="0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  <a:lnTo>
                  <a:pt x="252413" y="135732"/>
                </a:lnTo>
                <a:lnTo>
                  <a:pt x="4524" y="110147"/>
                </a:lnTo>
                <a:close/>
              </a:path>
              <a:path fill="none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Дуга 12"/>
          <p:cNvSpPr/>
          <p:nvPr/>
        </p:nvSpPr>
        <p:spPr>
          <a:xfrm>
            <a:off x="1908000" y="5030640"/>
            <a:ext cx="503280" cy="271440"/>
          </a:xfrm>
          <a:custGeom>
            <a:avLst/>
            <a:gdLst/>
            <a:ahLst/>
            <a:rect l="l" t="t" r="r" b="b"/>
            <a:pathLst>
              <a:path stroke="0" w="503238" h="271462">
                <a:moveTo>
                  <a:pt x="4483" y="110225"/>
                </a:moveTo>
                <a:cubicBezTo>
                  <a:pt x="27666" y="44862"/>
                  <a:pt x="135281" y="-1794"/>
                  <a:pt x="258602" y="53"/>
                </a:cubicBezTo>
                <a:cubicBezTo>
                  <a:pt x="394795" y="2093"/>
                  <a:pt x="503238" y="62237"/>
                  <a:pt x="503238" y="135732"/>
                </a:cubicBezTo>
                <a:lnTo>
                  <a:pt x="251619" y="135731"/>
                </a:lnTo>
                <a:lnTo>
                  <a:pt x="4483" y="110225"/>
                </a:lnTo>
                <a:close/>
              </a:path>
              <a:path fill="none" w="503238" h="271462">
                <a:moveTo>
                  <a:pt x="4483" y="110225"/>
                </a:moveTo>
                <a:cubicBezTo>
                  <a:pt x="27666" y="44862"/>
                  <a:pt x="135281" y="-1794"/>
                  <a:pt x="258602" y="53"/>
                </a:cubicBezTo>
                <a:cubicBezTo>
                  <a:pt x="394795" y="2093"/>
                  <a:pt x="503238" y="62237"/>
                  <a:pt x="503238" y="135732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Дуга 13"/>
          <p:cNvSpPr/>
          <p:nvPr/>
        </p:nvSpPr>
        <p:spPr>
          <a:xfrm>
            <a:off x="2627280" y="5030640"/>
            <a:ext cx="504720" cy="271440"/>
          </a:xfrm>
          <a:custGeom>
            <a:avLst/>
            <a:gdLst/>
            <a:ahLst/>
            <a:rect l="l" t="t" r="r" b="b"/>
            <a:pathLst>
              <a:path stroke="0" w="504825" h="271462">
                <a:moveTo>
                  <a:pt x="4525" y="110147"/>
                </a:moveTo>
                <a:cubicBezTo>
                  <a:pt x="27840" y="44825"/>
                  <a:pt x="135750" y="-1788"/>
                  <a:pt x="259397" y="52"/>
                </a:cubicBezTo>
                <a:cubicBezTo>
                  <a:pt x="396029" y="2085"/>
                  <a:pt x="504827" y="62231"/>
                  <a:pt x="504827" y="135731"/>
                </a:cubicBezTo>
                <a:lnTo>
                  <a:pt x="252413" y="135731"/>
                </a:lnTo>
                <a:lnTo>
                  <a:pt x="4525" y="110147"/>
                </a:lnTo>
                <a:close/>
              </a:path>
              <a:path fill="none" w="504825" h="271462">
                <a:moveTo>
                  <a:pt x="4525" y="110147"/>
                </a:moveTo>
                <a:cubicBezTo>
                  <a:pt x="27840" y="44825"/>
                  <a:pt x="135750" y="-1788"/>
                  <a:pt x="259397" y="52"/>
                </a:cubicBezTo>
                <a:cubicBezTo>
                  <a:pt x="396029" y="2085"/>
                  <a:pt x="504827" y="62231"/>
                  <a:pt x="504827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Группа 1"/>
          <p:cNvGrpSpPr/>
          <p:nvPr/>
        </p:nvGrpSpPr>
        <p:grpSpPr>
          <a:xfrm>
            <a:off x="446040" y="1376280"/>
            <a:ext cx="8280360" cy="4238640"/>
            <a:chOff x="446040" y="1376280"/>
            <a:chExt cx="8280360" cy="4238640"/>
          </a:xfrm>
        </p:grpSpPr>
        <p:sp>
          <p:nvSpPr>
            <p:cNvPr id="63" name="Прямоугольник 3"/>
            <p:cNvSpPr/>
            <p:nvPr/>
          </p:nvSpPr>
          <p:spPr>
            <a:xfrm>
              <a:off x="446040" y="1376280"/>
              <a:ext cx="8280360" cy="42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1.Запрещено прик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Georgia"/>
                </a:rPr>
                <a:t>а</a:t>
              </a: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саться(есть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Georgia"/>
                </a:rPr>
                <a:t>а</a:t>
              </a: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) к оголённым проводам!</a:t>
              </a:r>
              <a:endParaRPr b="0" lang="en-US" sz="4000" spc="-1" strike="noStrike">
                <a:solidFill>
                  <a:srgbClr val="ffffff"/>
                </a:solidFill>
                <a:latin typeface="Georg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eorg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2.Прик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Georgia"/>
                </a:rPr>
                <a:t>о</a:t>
              </a: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снуться(нет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Georgia"/>
                </a:rPr>
                <a:t>а</a:t>
              </a:r>
              <a:r>
                <a:rPr b="0" i="1" lang="en-US" sz="4000" spc="-1" strike="noStrike">
                  <a:solidFill>
                    <a:srgbClr val="ffffff"/>
                  </a:solidFill>
                  <a:latin typeface="Georgia"/>
                </a:rPr>
                <a:t>) к этому цветку.</a:t>
              </a:r>
              <a:endParaRPr b="0" lang="en-US" sz="4000" spc="-1" strike="noStrike">
                <a:solidFill>
                  <a:srgbClr val="ffffff"/>
                </a:solidFill>
                <a:latin typeface="Georg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eorg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eorg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64" name="Группа 4"/>
            <p:cNvGrpSpPr/>
            <p:nvPr/>
          </p:nvGrpSpPr>
          <p:grpSpPr>
            <a:xfrm>
              <a:off x="474480" y="2031480"/>
              <a:ext cx="364680" cy="215640"/>
              <a:chOff x="474480" y="2031480"/>
              <a:chExt cx="364680" cy="215640"/>
            </a:xfrm>
          </p:grpSpPr>
          <p:sp>
            <p:nvSpPr>
              <p:cNvPr id="65" name="Прямая соединительная линия 5"/>
              <p:cNvSpPr/>
              <p:nvPr/>
            </p:nvSpPr>
            <p:spPr>
              <a:xfrm flipV="1">
                <a:off x="474480" y="2031480"/>
                <a:ext cx="181080" cy="215640"/>
              </a:xfrm>
              <a:prstGeom prst="line">
                <a:avLst/>
              </a:prstGeom>
              <a:ln w="38160">
                <a:solidFill>
                  <a:srgbClr val="aa2b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66" name="Прямая соединительная линия 6"/>
              <p:cNvSpPr/>
              <p:nvPr/>
            </p:nvSpPr>
            <p:spPr>
              <a:xfrm flipH="1" flipV="1">
                <a:off x="655200" y="2031480"/>
                <a:ext cx="183960" cy="215640"/>
              </a:xfrm>
              <a:prstGeom prst="line">
                <a:avLst/>
              </a:prstGeom>
              <a:ln w="38160">
                <a:solidFill>
                  <a:srgbClr val="aa2b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67" name="Группа 7"/>
            <p:cNvGrpSpPr/>
            <p:nvPr/>
          </p:nvGrpSpPr>
          <p:grpSpPr>
            <a:xfrm>
              <a:off x="5743440" y="3247560"/>
              <a:ext cx="364680" cy="215640"/>
              <a:chOff x="5743440" y="3247560"/>
              <a:chExt cx="364680" cy="215640"/>
            </a:xfrm>
          </p:grpSpPr>
          <p:sp>
            <p:nvSpPr>
              <p:cNvPr id="68" name="Прямая соединительная линия 8"/>
              <p:cNvSpPr/>
              <p:nvPr/>
            </p:nvSpPr>
            <p:spPr>
              <a:xfrm flipV="1">
                <a:off x="5743440" y="3247560"/>
                <a:ext cx="181080" cy="215640"/>
              </a:xfrm>
              <a:prstGeom prst="line">
                <a:avLst/>
              </a:prstGeom>
              <a:ln w="38160">
                <a:solidFill>
                  <a:srgbClr val="aa2b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69" name="Прямая соединительная линия 9"/>
              <p:cNvSpPr/>
              <p:nvPr/>
            </p:nvSpPr>
            <p:spPr>
              <a:xfrm flipH="1" flipV="1">
                <a:off x="5924160" y="3247560"/>
                <a:ext cx="183960" cy="215640"/>
              </a:xfrm>
              <a:prstGeom prst="line">
                <a:avLst/>
              </a:prstGeom>
              <a:ln w="38160">
                <a:solidFill>
                  <a:srgbClr val="aa2b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sp>
          <p:nvSpPr>
            <p:cNvPr id="70" name="Дуга 10"/>
            <p:cNvSpPr/>
            <p:nvPr/>
          </p:nvSpPr>
          <p:spPr>
            <a:xfrm>
              <a:off x="4586040" y="1483920"/>
              <a:ext cx="741240" cy="358560"/>
            </a:xfrm>
            <a:custGeom>
              <a:avLst/>
              <a:gdLst/>
              <a:ahLst/>
              <a:rect l="l" t="t" r="r" b="b"/>
              <a:pathLst>
                <a:path stroke="0" w="741362" h="358775">
                  <a:moveTo>
                    <a:pt x="8153" y="141972"/>
                  </a:moveTo>
                  <a:cubicBezTo>
                    <a:pt x="45362" y="57538"/>
                    <a:pt x="201571" y="-2094"/>
                    <a:pt x="379911" y="56"/>
                  </a:cubicBezTo>
                  <a:cubicBezTo>
                    <a:pt x="580975" y="2480"/>
                    <a:pt x="741362" y="82055"/>
                    <a:pt x="741362" y="179388"/>
                  </a:cubicBezTo>
                  <a:lnTo>
                    <a:pt x="370681" y="179388"/>
                  </a:lnTo>
                  <a:lnTo>
                    <a:pt x="8153" y="141972"/>
                  </a:lnTo>
                  <a:close/>
                </a:path>
                <a:path fill="none" w="741362" h="358775">
                  <a:moveTo>
                    <a:pt x="8153" y="141972"/>
                  </a:moveTo>
                  <a:cubicBezTo>
                    <a:pt x="45362" y="57538"/>
                    <a:pt x="201571" y="-2094"/>
                    <a:pt x="379911" y="56"/>
                  </a:cubicBezTo>
                  <a:cubicBezTo>
                    <a:pt x="580975" y="2480"/>
                    <a:pt x="741362" y="82055"/>
                    <a:pt x="741362" y="179388"/>
                  </a:cubicBezTo>
                </a:path>
              </a:pathLst>
            </a:custGeom>
            <a:noFill/>
            <a:ln w="25560">
              <a:solidFill>
                <a:srgbClr val="aa2b1e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1" name="Дуга 11"/>
            <p:cNvSpPr/>
            <p:nvPr/>
          </p:nvSpPr>
          <p:spPr>
            <a:xfrm>
              <a:off x="2057400" y="3355920"/>
              <a:ext cx="739800" cy="358560"/>
            </a:xfrm>
            <a:custGeom>
              <a:avLst/>
              <a:gdLst/>
              <a:ahLst/>
              <a:rect l="l" t="t" r="r" b="b"/>
              <a:pathLst>
                <a:path stroke="0" w="739775" h="358775">
                  <a:moveTo>
                    <a:pt x="8102" y="142048"/>
                  </a:moveTo>
                  <a:cubicBezTo>
                    <a:pt x="45170" y="57573"/>
                    <a:pt x="201091" y="-2100"/>
                    <a:pt x="379118" y="55"/>
                  </a:cubicBezTo>
                  <a:cubicBezTo>
                    <a:pt x="579743" y="2484"/>
                    <a:pt x="739776" y="82058"/>
                    <a:pt x="739776" y="179387"/>
                  </a:cubicBezTo>
                  <a:lnTo>
                    <a:pt x="369888" y="179388"/>
                  </a:lnTo>
                  <a:lnTo>
                    <a:pt x="8102" y="142048"/>
                  </a:lnTo>
                  <a:close/>
                </a:path>
                <a:path fill="none" w="739775" h="358775">
                  <a:moveTo>
                    <a:pt x="8102" y="142048"/>
                  </a:moveTo>
                  <a:cubicBezTo>
                    <a:pt x="45170" y="57573"/>
                    <a:pt x="201091" y="-2100"/>
                    <a:pt x="379118" y="55"/>
                  </a:cubicBezTo>
                  <a:cubicBezTo>
                    <a:pt x="579743" y="2484"/>
                    <a:pt x="739776" y="82058"/>
                    <a:pt x="739776" y="179387"/>
                  </a:cubicBezTo>
                </a:path>
              </a:pathLst>
            </a:custGeom>
            <a:noFill/>
            <a:ln w="25560">
              <a:solidFill>
                <a:srgbClr val="aa2b1e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pic>
        <p:nvPicPr>
          <p:cNvPr id="72" name="Рисунок 12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4572000" cy="279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611280" y="1125360"/>
            <a:ext cx="6624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    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провести касательную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соприкасаясь руками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соприкоснувшись рукавами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это тебя не касается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коснуться темы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касаться рукой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косвенное доказательство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неприкосновенный запас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24000" y="33336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eorgia"/>
              </a:rPr>
              <a:t>Примеры словосочетаний.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539640" y="1557360"/>
            <a:ext cx="8136000" cy="3170160"/>
          </a:xfrm>
          <a:prstGeom prst="rect">
            <a:avLst/>
          </a:prstGeom>
          <a:gradFill rotWithShape="0">
            <a:gsLst>
              <a:gs pos="0">
                <a:srgbClr val="ffc87c"/>
              </a:gs>
              <a:gs pos="100000">
                <a:srgbClr val="ffeed8"/>
              </a:gs>
            </a:gsLst>
            <a:lin ang="16200000"/>
          </a:gradFill>
          <a:ln w="9360">
            <a:solidFill>
              <a:srgbClr val="fd9d1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Буквы </a:t>
            </a:r>
            <a:r>
              <a:rPr b="0" i="1" lang="ru-RU" sz="72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ru-RU" sz="72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 в корне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-гор -, -гар-</a:t>
            </a:r>
            <a:endParaRPr b="0" lang="en-US" sz="7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В корне с чередованием     -гор- -гар- под ударением пишется буква </a:t>
            </a: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Georgia"/>
              </a:rPr>
              <a:t>а</a:t>
            </a: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.            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В безударном положении пишется буква </a:t>
            </a: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Georgia"/>
              </a:rPr>
              <a:t>о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Дуга 3"/>
          <p:cNvSpPr/>
          <p:nvPr/>
        </p:nvSpPr>
        <p:spPr>
          <a:xfrm>
            <a:off x="2771640" y="2454120"/>
            <a:ext cx="863640" cy="573120"/>
          </a:xfrm>
          <a:custGeom>
            <a:avLst/>
            <a:gdLst/>
            <a:ahLst/>
            <a:rect l="l" t="t" r="r" b="b"/>
            <a:pathLst>
              <a:path stroke="0" w="863600" h="573088">
                <a:moveTo>
                  <a:pt x="5129" y="242508"/>
                </a:moveTo>
                <a:cubicBezTo>
                  <a:pt x="38702" y="99260"/>
                  <a:pt x="228207" y="-4782"/>
                  <a:pt x="446539" y="167"/>
                </a:cubicBezTo>
                <a:cubicBezTo>
                  <a:pt x="679143" y="5439"/>
                  <a:pt x="863600" y="132097"/>
                  <a:pt x="863600" y="286544"/>
                </a:cubicBezTo>
                <a:lnTo>
                  <a:pt x="431800" y="286544"/>
                </a:lnTo>
                <a:lnTo>
                  <a:pt x="5129" y="242508"/>
                </a:lnTo>
                <a:close/>
              </a:path>
              <a:path fill="none" w="863600" h="573088">
                <a:moveTo>
                  <a:pt x="5129" y="242508"/>
                </a:moveTo>
                <a:cubicBezTo>
                  <a:pt x="38702" y="99260"/>
                  <a:pt x="228207" y="-4782"/>
                  <a:pt x="446539" y="167"/>
                </a:cubicBezTo>
                <a:cubicBezTo>
                  <a:pt x="679143" y="5439"/>
                  <a:pt x="863600" y="132097"/>
                  <a:pt x="863600" y="286544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Дуга 4"/>
          <p:cNvSpPr/>
          <p:nvPr/>
        </p:nvSpPr>
        <p:spPr>
          <a:xfrm>
            <a:off x="1258920" y="2421000"/>
            <a:ext cx="792000" cy="496800"/>
          </a:xfrm>
          <a:custGeom>
            <a:avLst/>
            <a:gdLst/>
            <a:ahLst/>
            <a:rect l="l" t="t" r="r" b="b"/>
            <a:pathLst>
              <a:path stroke="0" w="792162" h="496887">
                <a:moveTo>
                  <a:pt x="5255" y="208107"/>
                </a:moveTo>
                <a:cubicBezTo>
                  <a:pt x="37528" y="85076"/>
                  <a:pt x="210185" y="-3894"/>
                  <a:pt x="408861" y="129"/>
                </a:cubicBezTo>
                <a:cubicBezTo>
                  <a:pt x="622524" y="4456"/>
                  <a:pt x="792162" y="114353"/>
                  <a:pt x="792162" y="248444"/>
                </a:cubicBezTo>
                <a:lnTo>
                  <a:pt x="396081" y="248444"/>
                </a:lnTo>
                <a:lnTo>
                  <a:pt x="5255" y="208107"/>
                </a:lnTo>
                <a:close/>
              </a:path>
              <a:path fill="none" w="792162" h="496887">
                <a:moveTo>
                  <a:pt x="5255" y="208107"/>
                </a:moveTo>
                <a:cubicBezTo>
                  <a:pt x="37528" y="85076"/>
                  <a:pt x="210185" y="-3894"/>
                  <a:pt x="408861" y="129"/>
                </a:cubicBezTo>
                <a:cubicBezTo>
                  <a:pt x="622524" y="4456"/>
                  <a:pt x="792162" y="114353"/>
                  <a:pt x="792162" y="248444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Образец рассуждения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Сгоревший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: в этом слове есть вариант корня –гор –гар-; гласная в корне безударная, поэтому в нём нужно писать букву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Загар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: в этом слове есть вариант корня -гор-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-гар-; гласная в корне ударная, поэтому в нём нужно писать букву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Дуга 3"/>
          <p:cNvSpPr/>
          <p:nvPr/>
        </p:nvSpPr>
        <p:spPr>
          <a:xfrm>
            <a:off x="539640" y="2565360"/>
            <a:ext cx="505080" cy="271440"/>
          </a:xfrm>
          <a:custGeom>
            <a:avLst/>
            <a:gdLst/>
            <a:ahLst/>
            <a:rect l="l" t="t" r="r" b="b"/>
            <a:pathLst>
              <a:path stroke="0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  <a:lnTo>
                  <a:pt x="252413" y="135732"/>
                </a:lnTo>
                <a:lnTo>
                  <a:pt x="4524" y="110147"/>
                </a:lnTo>
                <a:close/>
              </a:path>
              <a:path fill="none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Дуга 4"/>
          <p:cNvSpPr/>
          <p:nvPr/>
        </p:nvSpPr>
        <p:spPr>
          <a:xfrm>
            <a:off x="1332000" y="2565360"/>
            <a:ext cx="504720" cy="271440"/>
          </a:xfrm>
          <a:custGeom>
            <a:avLst/>
            <a:gdLst/>
            <a:ahLst/>
            <a:rect l="l" t="t" r="r" b="b"/>
            <a:pathLst>
              <a:path stroke="0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  <a:lnTo>
                  <a:pt x="252413" y="135732"/>
                </a:lnTo>
                <a:lnTo>
                  <a:pt x="4524" y="110147"/>
                </a:lnTo>
                <a:close/>
              </a:path>
              <a:path fill="none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Дуга 5"/>
          <p:cNvSpPr/>
          <p:nvPr/>
        </p:nvSpPr>
        <p:spPr>
          <a:xfrm>
            <a:off x="7237440" y="4005360"/>
            <a:ext cx="504720" cy="271440"/>
          </a:xfrm>
          <a:custGeom>
            <a:avLst/>
            <a:gdLst/>
            <a:ahLst/>
            <a:rect l="l" t="t" r="r" b="b"/>
            <a:pathLst>
              <a:path stroke="0" w="504825" h="271462">
                <a:moveTo>
                  <a:pt x="4525" y="110147"/>
                </a:moveTo>
                <a:cubicBezTo>
                  <a:pt x="27840" y="44825"/>
                  <a:pt x="135750" y="-1788"/>
                  <a:pt x="259397" y="52"/>
                </a:cubicBezTo>
                <a:cubicBezTo>
                  <a:pt x="396029" y="2085"/>
                  <a:pt x="504827" y="62231"/>
                  <a:pt x="504827" y="135731"/>
                </a:cubicBezTo>
                <a:lnTo>
                  <a:pt x="252413" y="135731"/>
                </a:lnTo>
                <a:lnTo>
                  <a:pt x="4525" y="110147"/>
                </a:lnTo>
                <a:close/>
              </a:path>
              <a:path fill="none" w="504825" h="271462">
                <a:moveTo>
                  <a:pt x="4525" y="110147"/>
                </a:moveTo>
                <a:cubicBezTo>
                  <a:pt x="27840" y="44825"/>
                  <a:pt x="135750" y="-1788"/>
                  <a:pt x="259397" y="52"/>
                </a:cubicBezTo>
                <a:cubicBezTo>
                  <a:pt x="396029" y="2085"/>
                  <a:pt x="504827" y="62231"/>
                  <a:pt x="504827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Дуга 6"/>
          <p:cNvSpPr/>
          <p:nvPr/>
        </p:nvSpPr>
        <p:spPr>
          <a:xfrm>
            <a:off x="684360" y="4508640"/>
            <a:ext cx="504720" cy="271440"/>
          </a:xfrm>
          <a:custGeom>
            <a:avLst/>
            <a:gdLst/>
            <a:ahLst/>
            <a:rect l="l" t="t" r="r" b="b"/>
            <a:pathLst>
              <a:path stroke="0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  <a:lnTo>
                  <a:pt x="252413" y="135732"/>
                </a:lnTo>
                <a:lnTo>
                  <a:pt x="4524" y="110147"/>
                </a:lnTo>
                <a:close/>
              </a:path>
              <a:path fill="none" w="504825" h="271463">
                <a:moveTo>
                  <a:pt x="4524" y="110147"/>
                </a:moveTo>
                <a:cubicBezTo>
                  <a:pt x="27839" y="44824"/>
                  <a:pt x="135749" y="-1789"/>
                  <a:pt x="259396" y="51"/>
                </a:cubicBezTo>
                <a:cubicBezTo>
                  <a:pt x="396028" y="2084"/>
                  <a:pt x="504826" y="62231"/>
                  <a:pt x="504826" y="135731"/>
                </a:cubicBezTo>
              </a:path>
            </a:pathLst>
          </a:custGeom>
          <a:noFill/>
          <a:ln w="25560">
            <a:solidFill>
              <a:srgbClr val="aa2b1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4:39:23Z</dcterms:created>
  <dc:creator>Admin</dc:creator>
  <dc:description/>
  <dc:language>en-US</dc:language>
  <cp:lastModifiedBy>Di</cp:lastModifiedBy>
  <dcterms:modified xsi:type="dcterms:W3CDTF">2011-10-20T07:36:54Z</dcterms:modified>
  <cp:revision>24</cp:revision>
  <dc:subject/>
  <dc:title>Буквы о, а в корне -кос  -кас</dc:title>
</cp:coreProperties>
</file>