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485-5F63-432A-B3AE-F16FCB0A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F7E-08BE-4A2E-B84A-CE848B96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736-110D-49E7-8287-99677D7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856-7B31-4AB8-9C35-24D79B90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AA3-C195-4C97-BF85-F92A75D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840-0A9C-41DA-8633-D3040FEC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7F1-D957-4FF1-8D04-F2480CA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5A3-536D-4777-B57E-744C5CE2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D29-F2CF-422B-95C4-159DACF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13D-4268-41F7-A6C3-4CD35712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321-76CE-48CF-AB5D-AD97940D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1A2-4EC2-4A2A-B5FE-0BE5A6B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ffcc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8D2F-5C57-451B-9992-C46E84C2D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549360"/>
            <a:ext cx="7029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йствия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 информацией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357720" y="39290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5349960" y="4786200"/>
            <a:ext cx="363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ставил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учител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БОУ «СОШ №47» г.Пер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енисова Н.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00000" y="692280"/>
            <a:ext cx="705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олучение информации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45" name="Picture 5" descr="AN067"/>
          <p:cNvPicPr/>
          <p:nvPr/>
        </p:nvPicPr>
        <p:blipFill>
          <a:blip r:embed="rId1"/>
          <a:stretch/>
        </p:blipFill>
        <p:spPr>
          <a:xfrm>
            <a:off x="5724360" y="4149720"/>
            <a:ext cx="2519640" cy="189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AN199"/>
          <p:cNvPicPr/>
          <p:nvPr/>
        </p:nvPicPr>
        <p:blipFill>
          <a:blip r:embed="rId2"/>
          <a:stretch/>
        </p:blipFill>
        <p:spPr>
          <a:xfrm>
            <a:off x="611280" y="4292640"/>
            <a:ext cx="1784160" cy="2152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4360" y="220500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блюдать за чем-нибудь – значит получать информаци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4360" y="476280"/>
            <a:ext cx="770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едставление информации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49" name="Picture 5" descr="goldencd"/>
          <p:cNvPicPr/>
          <p:nvPr/>
        </p:nvPicPr>
        <p:blipFill>
          <a:blip r:embed="rId1"/>
          <a:stretch/>
        </p:blipFill>
        <p:spPr>
          <a:xfrm>
            <a:off x="6012000" y="19162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book"/>
          <p:cNvPicPr/>
          <p:nvPr/>
        </p:nvPicPr>
        <p:blipFill>
          <a:blip r:embed="rId2"/>
          <a:stretch/>
        </p:blipFill>
        <p:spPr>
          <a:xfrm>
            <a:off x="971640" y="4384800"/>
            <a:ext cx="208764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68360" y="1700280"/>
            <a:ext cx="518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представления информации на носителе – её хранение и передач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619280" y="620640"/>
            <a:ext cx="59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Хранение информации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00000" y="191628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ормация хранится на носителе до тех пор, пока существует носител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goldencd"/>
          <p:cNvPicPr/>
          <p:nvPr/>
        </p:nvPicPr>
        <p:blipFill>
          <a:blip r:embed="rId1"/>
          <a:stretch/>
        </p:blipFill>
        <p:spPr>
          <a:xfrm>
            <a:off x="5580000" y="407664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omp"/>
          <p:cNvPicPr/>
          <p:nvPr/>
        </p:nvPicPr>
        <p:blipFill>
          <a:blip r:embed="rId2"/>
          <a:stretch/>
        </p:blipFill>
        <p:spPr>
          <a:xfrm>
            <a:off x="6156360" y="278136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900000" y="3524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ередача информации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57" name="Picture 5" descr="BELL"/>
          <p:cNvPicPr/>
          <p:nvPr/>
        </p:nvPicPr>
        <p:blipFill>
          <a:blip r:embed="rId1"/>
          <a:stretch/>
        </p:blipFill>
        <p:spPr>
          <a:xfrm>
            <a:off x="252360" y="1432080"/>
            <a:ext cx="2136960" cy="156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c3"/>
          <p:cNvPicPr/>
          <p:nvPr/>
        </p:nvPicPr>
        <p:blipFill>
          <a:blip r:embed="rId2"/>
          <a:stretch/>
        </p:blipFill>
        <p:spPr>
          <a:xfrm>
            <a:off x="5796000" y="2060640"/>
            <a:ext cx="3062160" cy="306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J0283640"/>
          <p:cNvPicPr/>
          <p:nvPr/>
        </p:nvPicPr>
        <p:blipFill>
          <a:blip r:embed="rId3"/>
          <a:stretch/>
        </p:blipFill>
        <p:spPr>
          <a:xfrm>
            <a:off x="3132000" y="3141720"/>
            <a:ext cx="1873440" cy="179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085b"/>
          <p:cNvPicPr/>
          <p:nvPr/>
        </p:nvPicPr>
        <p:blipFill>
          <a:blip r:embed="rId4"/>
          <a:stretch/>
        </p:blipFill>
        <p:spPr>
          <a:xfrm>
            <a:off x="684360" y="3933720"/>
            <a:ext cx="1936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258920" y="620640"/>
            <a:ext cx="684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Обработка информации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4360" y="46530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батывать можно звуковую, числовую, текстовую, графическую информаци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11280" y="1413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Изменение формы представления информации, при котором смысл сообщения не изменяется, получение новой информации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2:07:36Z</dcterms:created>
  <dc:creator>Comp0</dc:creator>
  <dc:description/>
  <dc:language>en-US</dc:language>
  <cp:lastModifiedBy>Вася</cp:lastModifiedBy>
  <dcterms:modified xsi:type="dcterms:W3CDTF">2012-03-06T16:42:45Z</dcterms:modified>
  <cp:revision>3</cp:revision>
  <dc:subject/>
  <dc:title>Слайд 1</dc:title>
</cp:coreProperties>
</file>