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413-3391-4267-A9B2-754593C5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8EB-D83B-4F3F-BC4F-18E116F8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DC4-F369-4585-82AF-16FE359A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753-C819-4553-AA45-1672EA42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F9C-E82D-470A-A977-0A5CD5E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ED5-EC19-4CB1-8813-86A8ED1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446-D631-4224-9ACA-EAA2C87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6A9-B5B0-438C-A4E9-FDDD13A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CEF-9003-4898-BFC8-27753950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D5D-ACAE-4D6B-BD8A-409A073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AC4-40E6-44C1-971B-680014E1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CB3-6278-4168-9084-808DF7E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E20-3BFE-4D38-9F03-396AAEC12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Документы\картинки\Fauna\¦Р¦¦TБ¦-¦¦TА¦¦ ¦Т ¦Р¦-TВ¦-TА¦¦TВ¦¬¦+¦¦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914400" y="182520"/>
            <a:ext cx="7315200" cy="17794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4724280"/>
            <a:ext cx="88693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-одушевлённые;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2 - неодушевлё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480" y="150012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Косогор, поляна, песня, ребёнок, деталь, дедушка, щенок, соловей, муха, червяк, щука, человек, котёнок, игрушка, веснушка, дерево, медведь, город, здание, книга.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Документы\картинки\Fauna\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14200" y="492912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222121111111122212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1-нарицательное, 2-собствен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Газета, девочка, Елена, Байкал, фамилия, Каштанка, Мурзик, город, Киев, Америка, посёлок, отчество, Иван Акимо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Документы\картинки\Fauna\48114484ABF2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774720" y="66600"/>
            <a:ext cx="61801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</cp:lastModifiedBy>
  <dcterms:modified xsi:type="dcterms:W3CDTF">2012-02-26T11:22:52Z</dcterms:modified>
  <cp:revision>5</cp:revision>
  <dc:subject/>
  <dc:title>Слайд 1</dc:title>
</cp:coreProperties>
</file>