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5138-A7A3-4A1E-AFD8-CF78BCF64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10A3-415B-4B36-9186-0B69861C0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0986-B1F9-480A-B006-2C7DE317E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724F-3AC2-4316-B82C-1E1F252B7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DCEF6-C3B3-4508-B769-24F0E3246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D2564-8B1F-4A6C-B7F3-7271FA665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81C0A-5C2A-4A83-8FC7-714993656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AC0B5-8927-469F-A30E-F5A47882B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BEBA8-06B2-43F3-8085-82BA40C93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849FC-FB6C-4A4A-ABE6-B5E3298A5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37584-99AA-420E-9EE2-E2F251A9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83D4-DE97-45A1-BD09-6DA2E4E6E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6774B-B9EC-4AD5-A480-3D96EA06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B6861-C4F8-4423-9082-336CB9B6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F1679-C824-4BA3-84A6-022B64976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832DF-2562-4217-8B8E-A926228AB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42C1D-1B23-43AB-8039-33ADF880B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91F9-2B6C-47FB-90C9-01DA597FC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B590-BCD3-42A6-9AA9-A9E15507C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9020-90A7-47A3-AE27-E5B2BE2F7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57E8-B187-4324-AA37-406333BD5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714C-D36B-427E-BEFB-36D1EB1D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9B59-74A2-4F2C-A833-0A012698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636D-6D30-401A-9A2F-930C2E91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CAF0A-92C4-4762-99BF-D9C7172BAC9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B28FE-EDEA-473B-99EC-5F3954CA007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torrentino.com/torrents/77541" TargetMode="External"/><Relationship Id="rId2" Type="http://schemas.openxmlformats.org/officeDocument/2006/relationships/hyperlink" Target="http://www.torrentino.com/torrents/77541" TargetMode="External"/><Relationship Id="rId3" Type="http://schemas.openxmlformats.org/officeDocument/2006/relationships/hyperlink" Target="http://www.torrentino.com/torrents/77541" TargetMode="External"/><Relationship Id="rId4" Type="http://schemas.openxmlformats.org/officeDocument/2006/relationships/hyperlink" Target="http://www.torrentino.com/torrents/77541" TargetMode="External"/><Relationship Id="rId5" Type="http://schemas.openxmlformats.org/officeDocument/2006/relationships/hyperlink" Target="http://www.torrentino.com/torrents/77541" TargetMode="External"/><Relationship Id="rId6" Type="http://schemas.openxmlformats.org/officeDocument/2006/relationships/hyperlink" Target="http://www.torrentino.com/torrents/77541" TargetMode="Externa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James  Kr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Arial"/>
              </a:rPr>
              <a:t>üss-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4000" y="2204640"/>
            <a:ext cx="78483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 bekannter deutsch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inderbuchaut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Arbeit der Lehrerin Tkatschenk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judmil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onislawown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Bilder aus dem Internet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”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in Uhrgrossvater und ich”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st vielen Menschen bekannt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152880" y="2133720"/>
            <a:ext cx="284004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88720" y="-675000"/>
            <a:ext cx="79549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”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e sprechende Maschine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0" y="907920"/>
            <a:ext cx="4462560" cy="595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s   A B 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271680" y="2060640"/>
            <a:ext cx="3367080" cy="41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“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imm Tahler oder das verkaufte Lachen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556000" y="1919160"/>
            <a:ext cx="4752720" cy="35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22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F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  <a:ea typeface="Tahoma"/>
              </a:rPr>
              <a:t>ür seine Bücher bekam J. Krüss den Internationalen Hans-Christian-Andersen-Preis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47280" y="2636640"/>
            <a:ext cx="74170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627280" y="2852640"/>
            <a:ext cx="2736720" cy="27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55280" y="24732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storben am2.August1977.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Begraben in Helgoland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003640" y="3873600"/>
            <a:ext cx="1727280" cy="16221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129200" y="1628640"/>
            <a:ext cx="1738080" cy="21402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2131920" y="3716280"/>
            <a:ext cx="1500120" cy="20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rs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://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www.torrentino.com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/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torrents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/7754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http://www.torroid.ru/torrent/77541.htm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http://images.yandex.ru/yandsearch?text=%D0%B4%D0%B6%D0%B5%D0%B9%D0%BC%D1%81%20%D0%BA%D1%80%D1%8E%D1%81%D1%81&amp;stype=i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chrieb M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  <a:ea typeface="Tahoma"/>
              </a:rPr>
              <a:t>ärchenbücher und Gedichte für Kinder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874960" y="1341360"/>
            <a:ext cx="3884760" cy="551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9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boren am 31.Mai 1926 auf dem Insel Helgoland in armer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Familie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073320" y="2133720"/>
            <a:ext cx="3257640" cy="43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8836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Vom Sommer 1944-Milit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  <a:ea typeface="Tahoma"/>
              </a:rPr>
              <a:t>ärdienst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  <a:ea typeface="Tahoma"/>
              </a:rPr>
              <a:t>in den Luftstreitkräften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0160" y="2133720"/>
            <a:ext cx="7772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795840" y="2914560"/>
            <a:ext cx="187956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8560" y="247320"/>
            <a:ext cx="788364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1946-1948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–das Studium an der p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  <a:ea typeface="Tahoma"/>
              </a:rPr>
              <a:t>ädagogische Fachschule in Lune-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  <a:ea typeface="Tahoma"/>
              </a:rPr>
              <a:t>berg.Beginnt zu schreiben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32000" y="2349000"/>
            <a:ext cx="781056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182760" y="2349360"/>
            <a:ext cx="241308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rich K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  <a:ea typeface="Tahoma"/>
              </a:rPr>
              <a:t>ästner überzeugte J.Krüss für die Kinder zu schreiben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487600" y="1773360"/>
            <a:ext cx="4202280" cy="508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on 1961 schreibt Kr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Tahoma"/>
              </a:rPr>
              <a:t>üss viel für Kinderzeitschriften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122640" y="2133720"/>
            <a:ext cx="2513160" cy="37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54900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r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Tahoma"/>
              </a:rPr>
              <a:t>übersetzt viel ins Deutsche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144960" y="1916280"/>
            <a:ext cx="2869920" cy="39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eine Werke werden auch in verschiedene Sprachen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  <a:ea typeface="Tahoma"/>
              </a:rPr>
              <a:t>übersetzt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159000" y="1844640"/>
            <a:ext cx="2681280" cy="3960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20:19:46Z</dcterms:created>
  <dc:creator>Admin</dc:creator>
  <dc:description/>
  <dc:language>en-US</dc:language>
  <cp:lastModifiedBy>User</cp:lastModifiedBy>
  <dcterms:modified xsi:type="dcterms:W3CDTF">2011-05-03T12:03:07Z</dcterms:modified>
  <cp:revision>9</cp:revision>
  <dc:subject/>
  <dc:title>James  Krüss-</dc:title>
</cp:coreProperties>
</file>