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039E-B387-43F6-8369-E8A13F9E4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380A-C12C-4880-B4D3-0770CF41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67CF-90D9-4051-B73F-250FB6633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80F3-3FA6-4BC8-A845-B686DAEDC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92FE-09F2-47BE-AF0E-9D94E7B26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1B2D-F9F2-4DE1-9C4A-31DB6EC7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FD42-BA92-43DC-9E28-E2682B3B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25F9-975F-43C4-B98E-94616797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3CD80-92AA-4F9E-B751-E0B0480A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8FC2-6BCC-4C8C-AE96-F9334431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53F81-6C7E-4724-9F87-142B6F6A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9E45-B157-4D8C-ADAC-A6CF8B93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B904-DC7D-4D7A-AB8B-C038BF1C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9BC2-9864-45AA-B150-D13C692D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E3E31-4B01-44AB-9B48-9A6712D0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163A-9175-4AFB-A83D-E14C0864F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4B4C-0858-4186-93E4-B5619033F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05BD-BAE7-4220-8EF4-C17B688E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F332-7C37-4700-B24D-19FB51C9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6BDB-338A-4100-AD5D-8F1DCE7D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6DD0-DCDA-45B6-9E26-8E146C3F1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F7E4-FDFA-4BBF-A6E5-033AEA2E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A984-7574-46A0-AE91-A3FDCBD3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FC1C-BFCE-4B72-9433-E38DEA98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AE44-94AB-4570-BDB7-A0173C1FC0C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912A-39D3-40A1-ADE2-2319781B11A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cyclists.ru/upload/cyclists/anatomia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g-2008-04.photosight.ru/01/2617253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oadsigns.ru/sch/default/Files/road_signs/zapreshaychie_013_big.gif" TargetMode="External"/><Relationship Id="rId3" Type="http://schemas.openxmlformats.org/officeDocument/2006/relationships/image" Target="../media/image12.png"/><Relationship Id="rId4" Type="http://schemas.openxmlformats.org/officeDocument/2006/relationships/hyperlink" Target="http://roadsigns.ru/sch/default/Files/road_signs/predpisivaychie_011_big.gif" TargetMode="External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motovelosport.ru/cat/stels/road/images/stels%2017_1.jpg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scout.artus.ru/images/road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mustang-velo.ru/img/big/mustang34.jpg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nektolukas.ru/wp-content/uploads/2008/05/bike-friday-tandem.jpg" TargetMode="External"/><Relationship Id="rId3" Type="http://schemas.openxmlformats.org/officeDocument/2006/relationships/image" Target="../media/image17.jpeg"/><Relationship Id="rId4" Type="http://schemas.openxmlformats.org/officeDocument/2006/relationships/hyperlink" Target="http://photofile.ru/photo/nadezhin/115050803/large/116783653.jpg" TargetMode="External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ibvelz.ru/userdata/images/catalog/cargo-bike-m1.jpg" TargetMode="External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beemag.ru/images/magaz/im5567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atoday.net/pic/news/vinci2.jpg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www.museum-online.ru/include/func/r_pic.php?type=3&amp;id=3359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1/gonza03.5/0_7d7_235f671_X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bookz.ru/authors/izdatel_stvo-rosmen/enciklop_476/i_101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alles-gute.ru/images/2008_05_imper_bicycle/imperator_bicycle_01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trt-team.3dn.ru/Velohistory/pauk.gif" TargetMode="External"/><Relationship Id="rId3" Type="http://schemas.openxmlformats.org/officeDocument/2006/relationships/image" Target="../media/image8.png"/><Relationship Id="rId4" Type="http://schemas.openxmlformats.org/officeDocument/2006/relationships/hyperlink" Target="http://crazy.werd.ru/uploads/posts/thumbs/2007-05-23/1179887272_005.jpg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81532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КОГДА ИЗОБРЕЛИ ВЕЛОСИПЕД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Картинка 8 из 4307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480" y="457200"/>
            <a:ext cx="7848720" cy="58672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Картинка 3 из 304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66880" y="1828800"/>
            <a:ext cx="3475080" cy="4648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Где можно кататься на велосипеде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ircl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Картинка 9 из 29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00600" y="990720"/>
            <a:ext cx="3238560" cy="32385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Картинка 34 из 29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62120" y="91440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28760" y="4419720"/>
            <a:ext cx="34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Разрешающий зн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950000" y="4724280"/>
            <a:ext cx="34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Запрещающий зн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600200" y="45720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Дорожный велосип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Картинка 34 из 25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19320" y="1523880"/>
            <a:ext cx="6591240" cy="38102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Спортивные велосипед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" descr="Картинка 17 из 3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600200"/>
            <a:ext cx="4114800" cy="25718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872360" y="464832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оноч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Картинка 23 из 351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8320" y="3108240"/>
            <a:ext cx="3733560" cy="28656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019920" y="2286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о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687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Танде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" descr="Картинка 11 из 963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1371600"/>
            <a:ext cx="4419720" cy="29718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Картинка 14 из 963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24280" y="3200400"/>
            <a:ext cx="4114800" cy="3267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Специальные велосипед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1600200"/>
            <a:ext cx="3505320" cy="2151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30200" y="380988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руз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Картинка 44 из 933"/>
          <p:cNvPicPr/>
          <p:nvPr/>
        </p:nvPicPr>
        <p:blipFill>
          <a:blip r:embed="rId4"/>
          <a:stretch/>
        </p:blipFill>
        <p:spPr>
          <a:xfrm>
            <a:off x="5562720" y="1676520"/>
            <a:ext cx="2762280" cy="30477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178600" y="1523880"/>
            <a:ext cx="27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детский трехколес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Картинка 42 из 210"/>
          <p:cNvPicPr/>
          <p:nvPr/>
        </p:nvPicPr>
        <p:blipFill>
          <a:blip r:embed="rId5"/>
          <a:stretch/>
        </p:blipFill>
        <p:spPr>
          <a:xfrm>
            <a:off x="3352680" y="3657600"/>
            <a:ext cx="1657440" cy="28386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5288040" y="5680080"/>
            <a:ext cx="30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Цирковой одноколёс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КАК ТЫ ДУМАЕШЬ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Когда изобрели велосипед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Что означает этот дорожный знак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Как назывался этот велосипед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К какой группе велосипедов относится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цирковой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К какой группе велосипедов относится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тандем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" descr="Картинка 9 из 296"/>
          <p:cNvPicPr/>
          <p:nvPr/>
        </p:nvPicPr>
        <p:blipFill>
          <a:blip r:embed="rId2"/>
          <a:stretch/>
        </p:blipFill>
        <p:spPr>
          <a:xfrm>
            <a:off x="6705720" y="1371600"/>
            <a:ext cx="1257120" cy="12574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Картинка 97 из 125"/>
          <p:cNvPicPr/>
          <p:nvPr/>
        </p:nvPicPr>
        <p:blipFill>
          <a:blip r:embed="rId3"/>
          <a:stretch/>
        </p:blipFill>
        <p:spPr>
          <a:xfrm>
            <a:off x="6248520" y="2743200"/>
            <a:ext cx="1531800" cy="19051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676520" y="2362320"/>
            <a:ext cx="609588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спользованные материал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ихомирова Е.М. Окружающий мир. 1 класс. Поурочные разработки по предмету «Окружающий мир» к учебнику А.А. Плешакова. – М.: Экзамен, 2007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нтернет-ресурсы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/www.velofap.co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://www.masters.donntu.edu.u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://www.inventions.r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://www.velokat.r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6400800" cy="1079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ОТГАДАЙТЕ!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У него – два колеса и седло на раме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ве педали есть внизу, крутят их ногам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3313800" y="4343400"/>
            <a:ext cx="306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ВЕЛОСИПЕ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Велосипед имел разные назв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44956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«бегунок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«костотряс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«паук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Картинка 39 из 4307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24280" y="2971800"/>
            <a:ext cx="3581640" cy="30942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Первый велосипед нарисовал …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Картинка 27 из 3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905120"/>
            <a:ext cx="3886200" cy="26812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Картинка 28 из 438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486400" y="1600200"/>
            <a:ext cx="288612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209680" y="5715000"/>
            <a:ext cx="646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Итальянский ученый Леонардо да Вин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94640" y="487692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495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820"/>
                            </p:stCondLst>
                            <p:childTnLst>
                              <p:par>
                                <p:cTn id="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Картинка 12 из 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908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Картинка 31 из 21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05120" y="1676520"/>
            <a:ext cx="5867280" cy="46227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Деревянный велосипед – «бегунок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ircl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3911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В 1817 году в Германии появился двухколёсный велосипед с деревянными колёсам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Картинка 1 из 1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33720" y="2666880"/>
            <a:ext cx="5029200" cy="37753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72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елосипед – «паук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Картинка 95 из 12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95280" y="1523880"/>
            <a:ext cx="2886120" cy="38862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Картинка 97 из 12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800600" y="1981080"/>
            <a:ext cx="3435480" cy="42674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Массовый выпуск велосипедов с педалями был начат в </a:t>
            </a:r>
            <a:r>
              <a:rPr b="1" i="1" lang="ru-RU" sz="4000" spc="-1" strike="noStrike">
                <a:solidFill>
                  <a:srgbClr val="703dff"/>
                </a:solidFill>
                <a:latin typeface="Comic Sans MS"/>
              </a:rPr>
              <a:t>1867 году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Слово </a:t>
            </a:r>
            <a:r>
              <a:rPr b="1" i="1" lang="ru-RU" sz="4000" spc="-1" strike="noStrike">
                <a:solidFill>
                  <a:srgbClr val="703dff"/>
                </a:solidFill>
                <a:latin typeface="Comic Sans MS"/>
              </a:rPr>
              <a:t>велосипед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оявилось благодаря французу Пьеру Мишно и было составлено из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латинских слов  velocis-быстрый и pedis-ноги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ircl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11</cp:lastModifiedBy>
  <dcterms:modified xsi:type="dcterms:W3CDTF">2012-03-09T11:54:23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