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7D8F-FF0B-404F-8AF0-DE982CF9E2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умать заголо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F691-12F1-4CA5-91B6-B45711A9A7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ить от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E855-146E-487C-995D-B31E31578D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ECBD-50AB-4A45-81A7-B29A314FD7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7907-7FC1-45A1-8008-7CD38F54B4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6E96-9F10-4B04-BBDB-048BFAB23B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AB1C-D2BF-4242-B832-33FE93DBB7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7175-B895-4BA0-AA06-8805835F8F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F1E0-39D7-4A98-A711-B7295F521E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891-222E-4F27-AA48-3243AAC3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CC9-68F8-48E5-B09A-1D3701E2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174-79B0-4D5D-B550-59CA0B44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685-EE1F-4EF1-9BD8-7B823B67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7420-4183-44D2-82B8-AB60CBF1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808-458C-4C8B-AD87-6C1D8321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D6E-142A-4B7B-A3AE-3D49B6F4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BA6-CED7-4922-907E-E0CA3985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21B-6DC0-4C5A-BB41-5FFAFDB8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2763-B6AB-4505-837B-F94782D8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6741-BAFC-4211-8011-D91CFB78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1136-ECBB-4E42-9573-C888DF74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9EDE-8BC1-410F-B20A-0E1ACC57C7D8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8" descr="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1640" y="4652640"/>
            <a:ext cx="45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ИЦЦА К МАСЛЕН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67"/>
          <p:cNvSpPr/>
          <p:nvPr/>
        </p:nvSpPr>
        <p:spPr>
          <a:xfrm>
            <a:off x="179280" y="429264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сисян Ш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брагимова 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атрян 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дачигова 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ликова 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шковцева 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дорова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099400" y="5157720"/>
            <a:ext cx="404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чет эффективности изготовления пиццы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сленичной неделе в Братовщинской СО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0000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707120" y="0"/>
            <a:ext cx="54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GReverance"/>
              </a:rPr>
              <a:t>МДОУ «Братовщин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4020840" y="648828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Reverance"/>
              </a:rPr>
              <a:t>2012 </a:t>
            </a:r>
            <a:r>
              <a:rPr b="1" lang="ru-RU" sz="2000" spc="-1" strike="noStrike">
                <a:solidFill>
                  <a:srgbClr val="ffffff"/>
                </a:solidFill>
                <a:latin typeface="AGReverance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2520" y="6286680"/>
            <a:ext cx="36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- Водовозова О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3" descr="Ssdafs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0" y="115920"/>
            <a:ext cx="9144000" cy="792000"/>
          </a:xfrm>
          <a:prstGeom prst="rect">
            <a:avLst/>
          </a:prstGeom>
          <a:solidFill>
            <a:srgbClr val="9bbb59">
              <a:alpha val="77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GReverance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GReverance"/>
              </a:rPr>
              <a:t>«Пицца к маслениц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4" descr="royalty-free-italian-pizza-chef-vector-logo-by-hit-toon-973.jpg"/>
          <p:cNvPicPr/>
          <p:nvPr/>
        </p:nvPicPr>
        <p:blipFill>
          <a:blip r:embed="rId3"/>
          <a:stretch/>
        </p:blipFill>
        <p:spPr>
          <a:xfrm>
            <a:off x="566640" y="1457280"/>
            <a:ext cx="3183120" cy="30114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18"/>
          <p:cNvGrpSpPr/>
          <p:nvPr/>
        </p:nvGrpSpPr>
        <p:grpSpPr>
          <a:xfrm>
            <a:off x="4140360" y="1844640"/>
            <a:ext cx="45720" cy="3270240"/>
            <a:chOff x="4140360" y="1844640"/>
            <a:chExt cx="45720" cy="3270240"/>
          </a:xfrm>
        </p:grpSpPr>
        <p:sp>
          <p:nvSpPr>
            <p:cNvPr id="60" name="9 Conector recto"/>
            <p:cNvSpPr/>
            <p:nvPr/>
          </p:nvSpPr>
          <p:spPr>
            <a:xfrm>
              <a:off x="4140360" y="1844640"/>
              <a:ext cx="0" cy="32702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10 Conector recto"/>
            <p:cNvSpPr/>
            <p:nvPr/>
          </p:nvSpPr>
          <p:spPr>
            <a:xfrm>
              <a:off x="4186080" y="1844640"/>
              <a:ext cx="0" cy="3270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30"/>
          <p:cNvSpPr/>
          <p:nvPr/>
        </p:nvSpPr>
        <p:spPr>
          <a:xfrm>
            <a:off x="4500720" y="3716280"/>
            <a:ext cx="431928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Цел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ксимальн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ибыли 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ого полезного эффек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тавлени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куренц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празднов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сленичной неде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уществление на практике соответствующих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ункций и роле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принимателя и других работников производственно-сбытовой сфер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2"/>
          <p:cNvSpPr/>
          <p:nvPr/>
        </p:nvSpPr>
        <p:spPr>
          <a:xfrm>
            <a:off x="534240" y="4572000"/>
            <a:ext cx="37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GReverance"/>
              </a:rPr>
              <a:t>Название организации</a:t>
            </a:r>
            <a:r>
              <a:rPr b="0" lang="en-US" sz="2400" spc="-1" strike="noStrike">
                <a:solidFill>
                  <a:srgbClr val="000000"/>
                </a:solidFill>
                <a:latin typeface="AGReveranc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GReverance"/>
              </a:rPr>
              <a:t>«Пиццерриссим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33"/>
          <p:cNvSpPr/>
          <p:nvPr/>
        </p:nvSpPr>
        <p:spPr>
          <a:xfrm>
            <a:off x="4427640" y="1413000"/>
            <a:ext cx="424800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6"/>
          <p:cNvSpPr/>
          <p:nvPr/>
        </p:nvSpPr>
        <p:spPr>
          <a:xfrm>
            <a:off x="4716360" y="1557360"/>
            <a:ext cx="374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ть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нашего проекта заключалась в создании некой организационной структуры, занимающейся производством пиццы и ее дальнейшей реализацией в Братовщинской СОШ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низ 34"/>
          <p:cNvSpPr/>
          <p:nvPr/>
        </p:nvSpPr>
        <p:spPr>
          <a:xfrm>
            <a:off x="6084720" y="3068640"/>
            <a:ext cx="719280" cy="720720"/>
          </a:xfrm>
          <a:prstGeom prst="downArrow">
            <a:avLst>
              <a:gd name="adj1" fmla="val 50000"/>
              <a:gd name="adj2" fmla="val 49989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3" descr="Ssdafs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9bbb59">
              <a:alpha val="89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GReverance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GReverance"/>
              </a:rPr>
              <a:t>Организационная структур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хема 10" descr=""/>
          <p:cNvPicPr/>
          <p:nvPr/>
        </p:nvPicPr>
        <p:blipFill>
          <a:blip r:embed="rId3"/>
          <a:stretch/>
        </p:blipFill>
        <p:spPr>
          <a:xfrm>
            <a:off x="676440" y="1359000"/>
            <a:ext cx="7931160" cy="43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3" descr="Ssdafs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0" y="115920"/>
            <a:ext cx="9144000" cy="1152360"/>
          </a:xfrm>
          <a:prstGeom prst="rect">
            <a:avLst/>
          </a:prstGeom>
          <a:solidFill>
            <a:srgbClr val="9bbb59">
              <a:alpha val="89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GReverance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GReverance"/>
              </a:rPr>
              <a:t>Обоснование выбора пицц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GReverance"/>
              </a:rPr>
              <a:t>как конечного продукта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395280" y="1628640"/>
            <a:ext cx="84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боснования целесообразности нашей деятельности в Братовщинской СОШ был проведен социологический опрос. Его результаты представлены на диаграммах ниж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Диаграмма 6" descr=""/>
          <p:cNvPicPr/>
          <p:nvPr/>
        </p:nvPicPr>
        <p:blipFill>
          <a:blip r:embed="rId3"/>
          <a:stretch/>
        </p:blipFill>
        <p:spPr>
          <a:xfrm>
            <a:off x="2071800" y="2357280"/>
            <a:ext cx="40845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3" descr="Ssdafs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9bbb59">
              <a:alpha val="84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GReverance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GReverance"/>
              </a:rPr>
              <a:t>Производственный цик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15" descr="artleo.png"/>
          <p:cNvPicPr/>
          <p:nvPr/>
        </p:nvPicPr>
        <p:blipFill>
          <a:blip r:embed="rId3"/>
          <a:stretch/>
        </p:blipFill>
        <p:spPr>
          <a:xfrm>
            <a:off x="324000" y="1341360"/>
            <a:ext cx="2189160" cy="13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" name="TextBox 16"/>
          <p:cNvSpPr/>
          <p:nvPr/>
        </p:nvSpPr>
        <p:spPr>
          <a:xfrm>
            <a:off x="900720" y="27082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право 17"/>
          <p:cNvSpPr/>
          <p:nvPr/>
        </p:nvSpPr>
        <p:spPr>
          <a:xfrm>
            <a:off x="2484360" y="1916280"/>
            <a:ext cx="719280" cy="433080"/>
          </a:xfrm>
          <a:prstGeom prst="rightArrow">
            <a:avLst>
              <a:gd name="adj1" fmla="val 50000"/>
              <a:gd name="adj2" fmla="val 50048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Овал 19"/>
          <p:cNvGrpSpPr/>
          <p:nvPr/>
        </p:nvGrpSpPr>
        <p:grpSpPr>
          <a:xfrm>
            <a:off x="3286080" y="1590840"/>
            <a:ext cx="2346480" cy="1049040"/>
            <a:chOff x="3286080" y="1590840"/>
            <a:chExt cx="2346480" cy="1049040"/>
          </a:xfrm>
        </p:grpSpPr>
        <p:pic>
          <p:nvPicPr>
            <p:cNvPr id="80" name="Овал 19" descr=""/>
            <p:cNvPicPr/>
            <p:nvPr/>
          </p:nvPicPr>
          <p:blipFill>
            <a:blip r:embed="rId4"/>
            <a:stretch/>
          </p:blipFill>
          <p:spPr>
            <a:xfrm>
              <a:off x="3286080" y="1590840"/>
              <a:ext cx="234648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675240" y="1765440"/>
              <a:ext cx="157788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Производ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Стрелка вправо 20"/>
          <p:cNvSpPr/>
          <p:nvPr/>
        </p:nvSpPr>
        <p:spPr>
          <a:xfrm>
            <a:off x="5724360" y="1844640"/>
            <a:ext cx="719280" cy="432000"/>
          </a:xfrm>
          <a:prstGeom prst="rightArrow">
            <a:avLst>
              <a:gd name="adj1" fmla="val 50000"/>
              <a:gd name="adj2" fmla="val 49989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21" descr="впвп копия.png"/>
          <p:cNvPicPr/>
          <p:nvPr/>
        </p:nvPicPr>
        <p:blipFill>
          <a:blip r:embed="rId5"/>
          <a:stretch/>
        </p:blipFill>
        <p:spPr>
          <a:xfrm>
            <a:off x="6516720" y="1197000"/>
            <a:ext cx="2244600" cy="151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TextBox 22"/>
          <p:cNvSpPr/>
          <p:nvPr/>
        </p:nvSpPr>
        <p:spPr>
          <a:xfrm>
            <a:off x="6801840" y="256536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товы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Овал 23"/>
          <p:cNvGrpSpPr/>
          <p:nvPr/>
        </p:nvGrpSpPr>
        <p:grpSpPr>
          <a:xfrm>
            <a:off x="6602400" y="3809880"/>
            <a:ext cx="2346480" cy="1060560"/>
            <a:chOff x="6602400" y="3809880"/>
            <a:chExt cx="2346480" cy="1060560"/>
          </a:xfrm>
        </p:grpSpPr>
        <p:pic>
          <p:nvPicPr>
            <p:cNvPr id="86" name="Овал 23" descr=""/>
            <p:cNvPicPr/>
            <p:nvPr/>
          </p:nvPicPr>
          <p:blipFill>
            <a:blip r:embed="rId6"/>
            <a:stretch/>
          </p:blipFill>
          <p:spPr>
            <a:xfrm>
              <a:off x="6602400" y="3809880"/>
              <a:ext cx="234648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6986520" y="3998880"/>
              <a:ext cx="1579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Реализация готового продук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Стрелка вниз 24"/>
          <p:cNvSpPr/>
          <p:nvPr/>
        </p:nvSpPr>
        <p:spPr>
          <a:xfrm>
            <a:off x="7524720" y="3068640"/>
            <a:ext cx="432000" cy="647640"/>
          </a:xfrm>
          <a:prstGeom prst="downArrow">
            <a:avLst>
              <a:gd name="adj1" fmla="val 50000"/>
              <a:gd name="adj2" fmla="val 49972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6" descr="magic-money-and-toxic-loans-large_png_jpg.png"/>
          <p:cNvPicPr/>
          <p:nvPr/>
        </p:nvPicPr>
        <p:blipFill>
          <a:blip r:embed="rId7"/>
          <a:stretch/>
        </p:blipFill>
        <p:spPr>
          <a:xfrm>
            <a:off x="3851280" y="3213000"/>
            <a:ext cx="1941480" cy="1728720"/>
          </a:xfrm>
          <a:prstGeom prst="rect">
            <a:avLst/>
          </a:prstGeom>
          <a:ln w="0">
            <a:noFill/>
          </a:ln>
        </p:spPr>
      </p:pic>
      <p:sp>
        <p:nvSpPr>
          <p:cNvPr id="90" name="Стрелка влево 27"/>
          <p:cNvSpPr/>
          <p:nvPr/>
        </p:nvSpPr>
        <p:spPr>
          <a:xfrm>
            <a:off x="5724360" y="4149720"/>
            <a:ext cx="719280" cy="412920"/>
          </a:xfrm>
          <a:prstGeom prst="left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8"/>
          <p:cNvSpPr/>
          <p:nvPr/>
        </p:nvSpPr>
        <p:spPr>
          <a:xfrm>
            <a:off x="3647520" y="4941720"/>
            <a:ext cx="27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учка от 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лево 29"/>
          <p:cNvSpPr/>
          <p:nvPr/>
        </p:nvSpPr>
        <p:spPr>
          <a:xfrm>
            <a:off x="3203640" y="4076640"/>
            <a:ext cx="720720" cy="412920"/>
          </a:xfrm>
          <a:prstGeom prst="left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Овал 30"/>
          <p:cNvGrpSpPr/>
          <p:nvPr/>
        </p:nvGrpSpPr>
        <p:grpSpPr>
          <a:xfrm>
            <a:off x="49320" y="3822840"/>
            <a:ext cx="2992320" cy="1047600"/>
            <a:chOff x="49320" y="3822840"/>
            <a:chExt cx="2992320" cy="1047600"/>
          </a:xfrm>
        </p:grpSpPr>
        <p:pic>
          <p:nvPicPr>
            <p:cNvPr id="94" name="Овал 30" descr=""/>
            <p:cNvPicPr/>
            <p:nvPr/>
          </p:nvPicPr>
          <p:blipFill>
            <a:blip r:embed="rId8"/>
            <a:stretch/>
          </p:blipFill>
          <p:spPr>
            <a:xfrm>
              <a:off x="49320" y="3822840"/>
              <a:ext cx="299232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28480" y="3998880"/>
              <a:ext cx="20368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Прибыль = Выручка - Затра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Стрелка вниз 31"/>
          <p:cNvSpPr/>
          <p:nvPr/>
        </p:nvSpPr>
        <p:spPr>
          <a:xfrm>
            <a:off x="1258920" y="4941720"/>
            <a:ext cx="433440" cy="574920"/>
          </a:xfrm>
          <a:prstGeom prst="downArrow">
            <a:avLst>
              <a:gd name="adj1" fmla="val 50000"/>
              <a:gd name="adj2" fmla="val 5001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33"/>
          <p:cNvSpPr/>
          <p:nvPr/>
        </p:nvSpPr>
        <p:spPr>
          <a:xfrm>
            <a:off x="108000" y="5589720"/>
            <a:ext cx="302400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2"/>
          <p:cNvSpPr/>
          <p:nvPr/>
        </p:nvSpPr>
        <p:spPr>
          <a:xfrm>
            <a:off x="108000" y="5661000"/>
            <a:ext cx="30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асть прибыли, распредел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жду участниками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верх 34"/>
          <p:cNvSpPr/>
          <p:nvPr/>
        </p:nvSpPr>
        <p:spPr>
          <a:xfrm>
            <a:off x="1258920" y="3141720"/>
            <a:ext cx="433440" cy="574560"/>
          </a:xfrm>
          <a:prstGeom prst="upArrow">
            <a:avLst>
              <a:gd name="adj1" fmla="val 50000"/>
              <a:gd name="adj2" fmla="val 49985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3" descr="Ssdafs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0" y="0"/>
            <a:ext cx="9144000" cy="1220760"/>
          </a:xfrm>
          <a:prstGeom prst="rect">
            <a:avLst/>
          </a:prstGeom>
          <a:solidFill>
            <a:srgbClr val="9bbb59">
              <a:alpha val="84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GReverance"/>
              </a:rPr>
              <a:t>Определение себестоимости проду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2"/>
          <p:cNvSpPr/>
          <p:nvPr/>
        </p:nvSpPr>
        <p:spPr>
          <a:xfrm>
            <a:off x="108000" y="5445000"/>
            <a:ext cx="30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асть прибыли, распредел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жду участниками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26920" y="1125360"/>
          <a:ext cx="7488360" cy="3942000"/>
        </p:xfrm>
        <a:graphic>
          <a:graphicData uri="http://schemas.openxmlformats.org/drawingml/2006/table">
            <a:tbl>
              <a:tblPr/>
              <a:tblGrid>
                <a:gridCol w="505080"/>
                <a:gridCol w="2490840"/>
                <a:gridCol w="1252440"/>
                <a:gridCol w="1743120"/>
                <a:gridCol w="14968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а за единицу товара,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ая сумма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ле кури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ибы консервирова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л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тчу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баса «Вен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Box 36"/>
          <p:cNvSpPr/>
          <p:nvPr/>
        </p:nvSpPr>
        <p:spPr>
          <a:xfrm>
            <a:off x="250920" y="5157720"/>
            <a:ext cx="82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GReverance"/>
              </a:rPr>
              <a:t>Общая сумма затрат - </a:t>
            </a:r>
            <a:r>
              <a:rPr b="1" lang="ru-RU" sz="2000" spc="-1" strike="noStrike">
                <a:solidFill>
                  <a:srgbClr val="c0504d"/>
                </a:solidFill>
                <a:latin typeface="AGReverance"/>
              </a:rPr>
              <a:t>1285 ру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GReverance"/>
              </a:rPr>
              <a:t>Объем продаж – </a:t>
            </a:r>
            <a:r>
              <a:rPr b="1" lang="ru-RU" sz="2000" spc="-1" strike="noStrike">
                <a:solidFill>
                  <a:srgbClr val="c0504d"/>
                </a:solidFill>
                <a:latin typeface="AGReverance"/>
              </a:rPr>
              <a:t>48 кус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GReverance"/>
              </a:rPr>
              <a:t>Себестоимость одного куска пиццы 1285/48 </a:t>
            </a:r>
            <a:r>
              <a:rPr b="0" lang="en-US" sz="2000" spc="-1" strike="noStrike">
                <a:solidFill>
                  <a:srgbClr val="000000"/>
                </a:solidFill>
                <a:latin typeface="AGReverance"/>
              </a:rPr>
              <a:t>= </a:t>
            </a:r>
            <a:r>
              <a:rPr b="1" lang="en-US" sz="2000" spc="-1" strike="noStrike">
                <a:solidFill>
                  <a:srgbClr val="c0504d"/>
                </a:solidFill>
                <a:latin typeface="AGReverance"/>
              </a:rPr>
              <a:t>26,8 </a:t>
            </a:r>
            <a:r>
              <a:rPr b="1" lang="ru-RU" sz="2000" spc="-1" strike="noStrike">
                <a:solidFill>
                  <a:srgbClr val="c0504d"/>
                </a:solidFill>
                <a:latin typeface="AGReverance"/>
              </a:rPr>
              <a:t>руб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3" descr="Ssdafs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4"/>
          <p:cNvSpPr/>
          <p:nvPr/>
        </p:nvSpPr>
        <p:spPr>
          <a:xfrm>
            <a:off x="0" y="115920"/>
            <a:ext cx="9144000" cy="792000"/>
          </a:xfrm>
          <a:prstGeom prst="rect">
            <a:avLst/>
          </a:prstGeom>
          <a:solidFill>
            <a:srgbClr val="9bbb59">
              <a:alpha val="84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GReverance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GReverance"/>
              </a:rPr>
              <a:t>Расчет чистой прибы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2"/>
          <p:cNvSpPr/>
          <p:nvPr/>
        </p:nvSpPr>
        <p:spPr>
          <a:xfrm>
            <a:off x="108000" y="5445000"/>
            <a:ext cx="30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ас прибыли, распредел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жду участниками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1125360"/>
          <a:ext cx="7488360" cy="2260800"/>
        </p:xfrm>
        <a:graphic>
          <a:graphicData uri="http://schemas.openxmlformats.org/drawingml/2006/table">
            <a:tbl>
              <a:tblPr/>
              <a:tblGrid>
                <a:gridCol w="505080"/>
                <a:gridCol w="1871640"/>
                <a:gridCol w="1800000"/>
                <a:gridCol w="1814760"/>
                <a:gridCol w="14968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м реализации, ку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а за 1 кусок пиццы,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ая сумма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цца №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цца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цца №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цца №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9" name="TextBox 7"/>
          <p:cNvSpPr/>
          <p:nvPr/>
        </p:nvSpPr>
        <p:spPr>
          <a:xfrm>
            <a:off x="1305720" y="3789360"/>
            <a:ext cx="718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Reveranc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GReverance"/>
              </a:rPr>
              <a:t>Общий объем реализации – </a:t>
            </a:r>
            <a:r>
              <a:rPr b="1" lang="ru-RU" sz="1400" spc="-1" strike="noStrike">
                <a:solidFill>
                  <a:srgbClr val="c0504d"/>
                </a:solidFill>
                <a:latin typeface="AGReverance"/>
              </a:rPr>
              <a:t>48 кусков </a:t>
            </a:r>
            <a:r>
              <a:rPr b="0" lang="ru-RU" sz="1400" spc="-1" strike="noStrike">
                <a:solidFill>
                  <a:srgbClr val="000000"/>
                </a:solidFill>
                <a:latin typeface="AGReverance"/>
              </a:rPr>
              <a:t>( 4 вида пиццы по различным цена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Reveranc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GReverance"/>
              </a:rPr>
              <a:t>Выручка от реализации 48 кусков пиццы – </a:t>
            </a:r>
            <a:r>
              <a:rPr b="1" lang="ru-RU" sz="1400" spc="-1" strike="noStrike">
                <a:solidFill>
                  <a:srgbClr val="c0504d"/>
                </a:solidFill>
                <a:latin typeface="AGReverance"/>
              </a:rPr>
              <a:t>1720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468360" y="458136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933c"/>
                </a:solidFill>
                <a:latin typeface="Calibri"/>
              </a:rPr>
              <a:t>Чистая Прибыль = Выручка – Общие Затр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П = 1720 – 1285 = </a:t>
            </a: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435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933c"/>
                </a:solidFill>
                <a:latin typeface="Calibri"/>
              </a:rPr>
              <a:t>Рентабельность продукции = Чистая Прибыль / Общая Себестоимость</a:t>
            </a:r>
            <a:r>
              <a:rPr b="1" lang="en-US" sz="1800" spc="-1" strike="noStrike">
                <a:solidFill>
                  <a:srgbClr val="77933c"/>
                </a:solidFill>
                <a:latin typeface="Calibri"/>
              </a:rPr>
              <a:t> *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OM = 435/1285 * 100% = </a:t>
            </a: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34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16"/>
          <p:cNvSpPr/>
          <p:nvPr/>
        </p:nvSpPr>
        <p:spPr>
          <a:xfrm>
            <a:off x="539640" y="4508640"/>
            <a:ext cx="8064720" cy="0"/>
          </a:xfrm>
          <a:prstGeom prst="line">
            <a:avLst/>
          </a:prstGeom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3" descr="Ssdafs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0" y="115920"/>
            <a:ext cx="9144000" cy="792000"/>
          </a:xfrm>
          <a:prstGeom prst="rect">
            <a:avLst/>
          </a:prstGeom>
          <a:solidFill>
            <a:srgbClr val="9bbb59">
              <a:alpha val="84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GReverance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GReverance"/>
              </a:rPr>
              <a:t>ИТО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2"/>
          <p:cNvSpPr/>
          <p:nvPr/>
        </p:nvSpPr>
        <p:spPr>
          <a:xfrm>
            <a:off x="108000" y="5445000"/>
            <a:ext cx="30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асть прибыли, распредел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жду участниками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468360" y="3789360"/>
            <a:ext cx="3527280" cy="192456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е цели проекта достигну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учена максимально возможная прибы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овлетворены потребности покуп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лена конкуренция на маслениц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ждым участником проекта на практике  осуществлены соответствующие предпринимательские функции и ро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4360" y="1125360"/>
          <a:ext cx="7993080" cy="2168640"/>
        </p:xfrm>
        <a:graphic>
          <a:graphicData uri="http://schemas.openxmlformats.org/drawingml/2006/table">
            <a:tbl>
              <a:tblPr/>
              <a:tblGrid>
                <a:gridCol w="1998360"/>
                <a:gridCol w="1997280"/>
                <a:gridCol w="1998720"/>
                <a:gridCol w="1998720"/>
              </a:tblGrid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ирующие 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ы на 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ручка от реал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тая прибы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абельность от прода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таблицы видно, что рентабельность от продаж, т.е. доля прибыли в каждом заработанном рубле составляет 34 %. Для увеличения данного показателя необходимо изменить стратегию ценообразования организации. Для этого необходимо провести комплексное маркетинговое исследование рынка, выявить целевой сегмент рынка и определить равновесную цену на това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TextBox 15"/>
          <p:cNvSpPr/>
          <p:nvPr/>
        </p:nvSpPr>
        <p:spPr>
          <a:xfrm>
            <a:off x="5076720" y="3789360"/>
            <a:ext cx="3527640" cy="192456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тратегия будущего развития организ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величение прибыли за счет минимизации затрат путем закупки более дешевого сырья по оптовым цен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как следствие,  повышение рентабельности продаж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работка стратегии конкуренции за счет маркетингового исследования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право 16"/>
          <p:cNvSpPr/>
          <p:nvPr/>
        </p:nvSpPr>
        <p:spPr>
          <a:xfrm>
            <a:off x="4140360" y="4437000"/>
            <a:ext cx="863280" cy="647640"/>
          </a:xfrm>
          <a:prstGeom prst="righ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3" descr="Ssdafs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2"/>
          <p:cNvSpPr/>
          <p:nvPr/>
        </p:nvSpPr>
        <p:spPr>
          <a:xfrm>
            <a:off x="108000" y="5445000"/>
            <a:ext cx="30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асть прибыли, распредел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жду участниками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1979640" y="155736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7933c"/>
                </a:solidFill>
                <a:latin typeface="AGReverance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dmin</cp:lastModifiedBy>
  <dcterms:modified xsi:type="dcterms:W3CDTF">2012-03-08T09:13:03Z</dcterms:modified>
  <cp:revision>826</cp:revision>
  <dc:subject/>
  <dc:title>Diapositiva 1</dc:title>
</cp:coreProperties>
</file>