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jpeg" ContentType="image/jpeg"/>
  <Override PartName="/ppt/media/image9.gif" ContentType="image/gif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5.wmf" ContentType="image/x-wmf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B837-EB82-4298-A8D9-EC9D97A9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B30-7DF3-4908-AFB9-F2198AE0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4CF-4155-4F83-BA9A-2A94204C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19A-6F17-436D-BE77-5B2A8645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5FAE-9CD6-44D7-987F-2C34EA7C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54FA-BFCD-4760-B7DB-DA85F561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7C02-A3C7-465F-81B0-8158D13A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718D-1C13-42E8-BEC0-34BC2378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F9A0-80D1-4B26-B087-D5AEA109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2815-4A81-4B17-B658-05F85DF8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6F00-C50E-4DEC-A21E-B5C921DE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83D-7813-4136-BCE4-B43B9FA2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815E-23C3-47A7-933A-873302B4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F3DB-1E75-4735-9C45-4509BEF8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F11F-1438-4D7E-9375-E02EECEA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7EF9-3336-4C7F-BE16-86618973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5B39-D45C-4AB7-9D6D-CD88BE0E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694-EB2A-4CAD-AFAF-7836A4AE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47D-72CE-4DE3-BC06-C93356C7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909-50CC-4993-9686-5D172D3A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349-33FB-4938-B220-9966981F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509-4D44-4B72-BB7E-0011EF26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E61-2265-4F3C-AF72-76978CB2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4D53-AF32-4498-A2F4-B86D6CEF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fe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fe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fe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fe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fe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66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4854-2827-416E-9C2C-1E24B70862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fe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fe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fe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fe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fe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fe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66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1343-EE5E-4B86-BE8B-35839F2504E4}" type="slidenum">
              <a:rPr b="0" lang="ru-RU" sz="10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 Black"/>
              </a:rPr>
              <a:t>Коррекционно- развивающая работа педагога-психолога ДОУ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240" y="27428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cc66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активизация познавательной деятельности;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cc66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овышение уровня умственного развития детей;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cc66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формирование отдельных высших психических функций (памяти, внимания, восприятия и т. д.);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249"/>
              </a:spcAft>
              <a:buClr>
                <a:srgbClr val="cc66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оррекция недостатков эмоционально-личностного и социального развития детей.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0572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 Black"/>
              </a:rPr>
              <a:t>Цикл занятий по развитию познавательных процессов старших дошкольников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828800" y="434304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Black"/>
              </a:rPr>
              <a:t>Методические рекомендации по развитию познавательной активности и эмоционально-волевой сферы детей 5 – 8 лет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53" name="Picture 6" descr="DSC0807622"/>
          <p:cNvPicPr/>
          <p:nvPr/>
        </p:nvPicPr>
        <p:blipFill>
          <a:blip r:embed="rId1">
            <a:lum bright="-6000"/>
          </a:blip>
          <a:stretch/>
        </p:blipFill>
        <p:spPr>
          <a:xfrm rot="1356000">
            <a:off x="6705360" y="304560"/>
            <a:ext cx="2001600" cy="240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DSC0807333"/>
          <p:cNvPicPr/>
          <p:nvPr/>
        </p:nvPicPr>
        <p:blipFill>
          <a:blip r:embed="rId2"/>
          <a:stretch/>
        </p:blipFill>
        <p:spPr>
          <a:xfrm rot="17672400">
            <a:off x="349920" y="4754880"/>
            <a:ext cx="18162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 Black"/>
              </a:rPr>
              <a:t>Цель проведения развивающего цикла: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 Black"/>
              </a:rPr>
              <a:t>подготовка детей к обучению в школе через повышение уровня развития познавательных качеств и коммуникативных навыков старших дошкольников;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 Black"/>
              </a:rPr>
              <a:t>помощь в освоении моделей конструктивного общения.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57" name="Picture 8" descr="77ce3583233c6a8c911244cb93bcbc69"/>
          <p:cNvPicPr/>
          <p:nvPr/>
        </p:nvPicPr>
        <p:blipFill>
          <a:blip r:embed="rId1"/>
          <a:stretch/>
        </p:blipFill>
        <p:spPr>
          <a:xfrm>
            <a:off x="2819520" y="5486400"/>
            <a:ext cx="267624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0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3300"/>
                </a:solidFill>
                <a:latin typeface="Arial Black"/>
              </a:rPr>
              <a:t>Модель организации работы по подготовке детей к школе:</a:t>
            </a:r>
            <a:r>
              <a:rPr b="0" lang="ru-RU" sz="3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работа ведется в традиционных направлениях - с детьми, педагогами и родителями;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занятия с детьми проводятся 1 раз в неделю длительностью до 30 минут фронтально по 6 – 12 человек;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аждое занятие включает вербальные игры, игры на развитие зрительной памяти и внимания, упражнения пальчиковой гимнастики, графические задания – на развитие логики и творческого мышления, зрительно-моторной координации, произвольности;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авятся задачи нравственного характера - развитие коммуникативных навыков, дружелюбия, эмоциональной компетентности;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родителям и педагогам предлагается практикум с показом фрагментов занятий и участием их в развивающих играх;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озможно вариативное построение занятий   и дополнение их различным вербальным и наглядным материалом, в зависимости от целей и возможностей детей и ведущего курс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0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0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 Black"/>
              </a:rPr>
              <a:t>Задачи: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57040" y="1523880"/>
            <a:ext cx="7086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Black"/>
              </a:rPr>
              <a:t>развивать процессы творческого мышления, памяти, внимания, воображения;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Black"/>
              </a:rPr>
              <a:t>формировать умение выделять закономерности и связи, решать проблемные ситуации;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Black"/>
              </a:rPr>
              <a:t>способствовать развитию умения сдерживать негативные эмоции и проявлять доброжелательность;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Black"/>
              </a:rPr>
              <a:t>формировать у детей умение управлять своим поведением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2" name="Picture 4" descr="Фото0281"/>
          <p:cNvPicPr/>
          <p:nvPr/>
        </p:nvPicPr>
        <p:blipFill>
          <a:blip r:embed="rId1"/>
          <a:stretch/>
        </p:blipFill>
        <p:spPr>
          <a:xfrm rot="21028800">
            <a:off x="304560" y="3123720"/>
            <a:ext cx="1771560" cy="2362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Фото027971"/>
          <p:cNvPicPr/>
          <p:nvPr/>
        </p:nvPicPr>
        <p:blipFill>
          <a:blip r:embed="rId2"/>
          <a:stretch/>
        </p:blipFill>
        <p:spPr>
          <a:xfrm rot="929400">
            <a:off x="6987960" y="23760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 Black"/>
              </a:rPr>
              <a:t>Особенности построения занятий цикла: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05120" y="1523880"/>
            <a:ext cx="723888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четание в занятиях игровой, продуктивной и познавательной деятельности;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формирование положительного, эмоционального отношения к занятиям;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оритетное использование методов дошкольного воспитания с частичным применением школьных методов;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оррекция индивидуально-психологических особенностей, которые проявляются  в уровне обучаемости, в темпе усвоения знаний, отношении к интеллектуальной деятельности, особенностях эмоций и волевой регуляции собственного поведения и др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6" name="Picture 4" descr="DSC0807775"/>
          <p:cNvPicPr/>
          <p:nvPr/>
        </p:nvPicPr>
        <p:blipFill>
          <a:blip r:embed="rId1">
            <a:lum bright="-6000"/>
          </a:blip>
          <a:stretch/>
        </p:blipFill>
        <p:spPr>
          <a:xfrm rot="18659400">
            <a:off x="338040" y="4690800"/>
            <a:ext cx="15620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4000"/>
                            </p:stCondLst>
                            <p:childTnLst>
                              <p:par>
                                <p:cTn id="6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 Black"/>
              </a:rPr>
              <a:t>Материалы и оборудование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68" name="Picture 6" descr="к занятиям 004343"/>
          <p:cNvPicPr/>
          <p:nvPr/>
        </p:nvPicPr>
        <p:blipFill>
          <a:blip r:embed="rId1"/>
          <a:stretch/>
        </p:blipFill>
        <p:spPr>
          <a:xfrm>
            <a:off x="304920" y="1066680"/>
            <a:ext cx="1981080" cy="1940040"/>
          </a:xfrm>
          <a:prstGeom prst="rect">
            <a:avLst/>
          </a:prstGeom>
          <a:ln w="34920">
            <a:solidFill>
              <a:srgbClr val="990000"/>
            </a:solidFill>
            <a:miter/>
          </a:ln>
        </p:spPr>
      </p:pic>
      <p:pic>
        <p:nvPicPr>
          <p:cNvPr id="169" name="Picture 7" descr="к занятиям 0161"/>
          <p:cNvPicPr/>
          <p:nvPr/>
        </p:nvPicPr>
        <p:blipFill>
          <a:blip r:embed="rId2"/>
          <a:stretch/>
        </p:blipFill>
        <p:spPr>
          <a:xfrm rot="19224000">
            <a:off x="1912680" y="1639800"/>
            <a:ext cx="2590560" cy="1478160"/>
          </a:xfrm>
          <a:prstGeom prst="rect">
            <a:avLst/>
          </a:prstGeom>
          <a:ln w="34920">
            <a:solidFill>
              <a:srgbClr val="990000"/>
            </a:solidFill>
            <a:miter/>
          </a:ln>
        </p:spPr>
      </p:pic>
      <p:pic>
        <p:nvPicPr>
          <p:cNvPr id="170" name="Picture 8" descr="666"/>
          <p:cNvPicPr/>
          <p:nvPr/>
        </p:nvPicPr>
        <p:blipFill>
          <a:blip r:embed="rId3"/>
          <a:stretch/>
        </p:blipFill>
        <p:spPr>
          <a:xfrm rot="607200">
            <a:off x="5409720" y="4571640"/>
            <a:ext cx="3314880" cy="1806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к занятиям 00902"/>
          <p:cNvPicPr/>
          <p:nvPr/>
        </p:nvPicPr>
        <p:blipFill>
          <a:blip r:embed="rId4">
            <a:lum bright="-6000"/>
          </a:blip>
          <a:stretch/>
        </p:blipFill>
        <p:spPr>
          <a:xfrm rot="20928000">
            <a:off x="456840" y="2819520"/>
            <a:ext cx="2009880" cy="2209680"/>
          </a:xfrm>
          <a:prstGeom prst="rect">
            <a:avLst/>
          </a:prstGeom>
          <a:ln w="34920">
            <a:solidFill>
              <a:srgbClr val="990000"/>
            </a:solidFill>
            <a:miter/>
          </a:ln>
        </p:spPr>
      </p:pic>
      <p:pic>
        <p:nvPicPr>
          <p:cNvPr id="172" name="Picture 11" descr="развиваем память11"/>
          <p:cNvPicPr/>
          <p:nvPr/>
        </p:nvPicPr>
        <p:blipFill>
          <a:blip r:embed="rId5"/>
          <a:stretch/>
        </p:blipFill>
        <p:spPr>
          <a:xfrm rot="1113600">
            <a:off x="6400440" y="1447920"/>
            <a:ext cx="2298600" cy="2590560"/>
          </a:xfrm>
          <a:prstGeom prst="rect">
            <a:avLst/>
          </a:prstGeom>
          <a:ln w="34920">
            <a:solidFill>
              <a:srgbClr val="000080"/>
            </a:solidFill>
            <a:miter/>
          </a:ln>
        </p:spPr>
      </p:pic>
      <p:pic>
        <p:nvPicPr>
          <p:cNvPr id="173" name="Picture 12" descr="1"/>
          <p:cNvPicPr/>
          <p:nvPr/>
        </p:nvPicPr>
        <p:blipFill>
          <a:blip r:embed="rId6"/>
          <a:stretch/>
        </p:blipFill>
        <p:spPr>
          <a:xfrm rot="3049200">
            <a:off x="4311000" y="2850840"/>
            <a:ext cx="3386160" cy="210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scrn_big_11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1295280" y="5257800"/>
            <a:ext cx="1067040" cy="1014480"/>
          </a:xfrm>
          <a:prstGeom prst="rect">
            <a:avLst/>
          </a:prstGeom>
          <a:ln w="34920">
            <a:solidFill>
              <a:srgbClr val="003300"/>
            </a:solidFill>
            <a:miter/>
          </a:ln>
        </p:spPr>
      </p:pic>
      <p:pic>
        <p:nvPicPr>
          <p:cNvPr id="175" name="Picture 14" descr="scrn_big_1231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2057400" y="5562720"/>
            <a:ext cx="1066680" cy="996840"/>
          </a:xfrm>
          <a:prstGeom prst="rect">
            <a:avLst/>
          </a:prstGeom>
          <a:ln w="34920">
            <a:solidFill>
              <a:srgbClr val="003300"/>
            </a:solidFill>
            <a:miter/>
          </a:ln>
        </p:spPr>
      </p:pic>
      <p:pic>
        <p:nvPicPr>
          <p:cNvPr id="176" name="Picture 15" descr="scrn_big_12341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2895480" y="5410080"/>
            <a:ext cx="1067040" cy="1016280"/>
          </a:xfrm>
          <a:prstGeom prst="rect">
            <a:avLst/>
          </a:prstGeom>
          <a:ln w="34920">
            <a:solidFill>
              <a:srgbClr val="003300"/>
            </a:solidFill>
            <a:miter/>
          </a:ln>
        </p:spPr>
      </p:pic>
      <p:pic>
        <p:nvPicPr>
          <p:cNvPr id="177" name="Picture 17" descr="scrn_big_1234561"/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3505320" y="4952880"/>
            <a:ext cx="1066680" cy="1000080"/>
          </a:xfrm>
          <a:prstGeom prst="rect">
            <a:avLst/>
          </a:prstGeom>
          <a:ln w="34920">
            <a:solidFill>
              <a:srgbClr val="003300"/>
            </a:solidFill>
            <a:miter/>
          </a:ln>
        </p:spPr>
      </p:pic>
      <p:pic>
        <p:nvPicPr>
          <p:cNvPr id="178" name="Picture 18" descr="scrn_big_121"/>
          <p:cNvPicPr/>
          <p:nvPr/>
        </p:nvPicPr>
        <p:blipFill>
          <a:blip r:embed="rId11"/>
          <a:stretch/>
        </p:blipFill>
        <p:spPr>
          <a:xfrm rot="18492000">
            <a:off x="3311280" y="4003200"/>
            <a:ext cx="1143000" cy="1060560"/>
          </a:xfrm>
          <a:prstGeom prst="rect">
            <a:avLst/>
          </a:prstGeom>
          <a:ln w="349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0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0"/>
                            </p:stCondLst>
                            <p:childTnLst>
                              <p:par>
                                <p:cTn id="7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 Black"/>
              </a:rPr>
              <a:t>Критерии оценки эффективности: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8640" y="167652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Black"/>
              </a:rPr>
              <a:t>результаты  диагностических заданий;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Black"/>
              </a:rPr>
              <a:t>изменение в поведении и отношении к учебному процессу;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Black"/>
              </a:rPr>
              <a:t>успехи в познавательной деятельности;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Black"/>
              </a:rPr>
              <a:t>отзывы родителей и педагогов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1" name="Picture 4" descr="DSC08072"/>
          <p:cNvPicPr/>
          <p:nvPr/>
        </p:nvPicPr>
        <p:blipFill>
          <a:blip r:embed="rId1"/>
          <a:stretch/>
        </p:blipFill>
        <p:spPr>
          <a:xfrm>
            <a:off x="609480" y="419112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40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6934320" y="2819520"/>
            <a:ext cx="2057400" cy="1600200"/>
          </a:xfrm>
          <a:prstGeom prst="leftArrowCallout">
            <a:avLst>
              <a:gd name="adj1" fmla="val 23437"/>
              <a:gd name="adj2" fmla="val 25000"/>
              <a:gd name="adj3" fmla="val 10202"/>
              <a:gd name="adj4" fmla="val 83860"/>
            </a:avLst>
          </a:prstGeom>
          <a:solidFill>
            <a:srgbClr val="dfe268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  <a:ea typeface="Times New Roman"/>
              </a:rPr>
              <a:t>Запросы родителей и педагогов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  <a:ea typeface="Times New Roman"/>
              </a:rPr>
              <a:t>Самозапрос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343400" y="304920"/>
            <a:ext cx="1943280" cy="1982520"/>
          </a:xfrm>
          <a:prstGeom prst="rect">
            <a:avLst/>
          </a:prstGeom>
          <a:solidFill>
            <a:srgbClr val="ccff99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</a:rPr>
              <a:t>-опросы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</a:rPr>
              <a:t>-консультации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</a:rPr>
              <a:t>-беседы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</a:rPr>
              <a:t>-практикумы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</a:rPr>
              <a:t>-тренинги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05520" y="2666880"/>
            <a:ext cx="1828800" cy="1724040"/>
          </a:xfrm>
          <a:prstGeom prst="rect">
            <a:avLst/>
          </a:prstGeom>
          <a:solidFill>
            <a:srgbClr val="ccff99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-наблюдение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-диагностика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-занятия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-беседы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191120" y="4724280"/>
            <a:ext cx="2423880" cy="1687680"/>
          </a:xfrm>
          <a:prstGeom prst="rect">
            <a:avLst/>
          </a:prstGeom>
          <a:solidFill>
            <a:srgbClr val="ccff99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  <a:ea typeface="Times New Roman"/>
              </a:rPr>
              <a:t>-</a:t>
            </a:r>
            <a:r>
              <a:rPr b="1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анкетирование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-консультирование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-памятки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-клубы, собрания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6705720" y="5013360"/>
            <a:ext cx="149040" cy="1463760"/>
          </a:xfrm>
          <a:custGeom>
            <a:avLst/>
            <a:gdLst>
              <a:gd name="textAreaLeft" fmla="*/ 0 w 149040"/>
              <a:gd name="textAreaRight" fmla="*/ 53640 w 149040"/>
              <a:gd name="textAreaTop" fmla="*/ 18000 h 1463760"/>
              <a:gd name="textAreaBottom" fmla="*/ 144576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3"/>
                  <a:pt x="10800" y="865"/>
                </a:cubicBezTo>
                <a:lnTo>
                  <a:pt x="10800" y="9935"/>
                </a:lnTo>
                <a:cubicBezTo>
                  <a:pt x="10800" y="10368"/>
                  <a:pt x="16200" y="10800"/>
                  <a:pt x="21600" y="10800"/>
                </a:cubicBezTo>
                <a:cubicBezTo>
                  <a:pt x="16200" y="10800"/>
                  <a:pt x="10800" y="11233"/>
                  <a:pt x="10800" y="11665"/>
                </a:cubicBezTo>
                <a:lnTo>
                  <a:pt x="10800" y="20735"/>
                </a:lnTo>
                <a:cubicBezTo>
                  <a:pt x="10800" y="21168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6877080" y="5084640"/>
            <a:ext cx="2016000" cy="1392480"/>
          </a:xfrm>
          <a:prstGeom prst="leftArrowCallout">
            <a:avLst>
              <a:gd name="adj1" fmla="val 18335"/>
              <a:gd name="adj2" fmla="val 25000"/>
              <a:gd name="adj3" fmla="val 11234"/>
              <a:gd name="adj4" fmla="val 88244"/>
            </a:avLst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Сочувствие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Понимание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Совет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1905120" y="4572000"/>
            <a:ext cx="2361960" cy="1368360"/>
          </a:xfrm>
          <a:prstGeom prst="wedgeEllipseCallout">
            <a:avLst>
              <a:gd name="adj1" fmla="val -36560"/>
              <a:gd name="adj2" fmla="val -63574"/>
            </a:avLst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5f5f"/>
                </a:solidFill>
                <a:latin typeface="Arial"/>
                <a:ea typeface="Times New Roman"/>
              </a:rPr>
              <a:t>РОДИТЕЛИ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2195640" y="836640"/>
            <a:ext cx="2305080" cy="1511280"/>
          </a:xfrm>
          <a:prstGeom prst="wedgeEllipseCallout">
            <a:avLst>
              <a:gd name="adj1" fmla="val -36500"/>
              <a:gd name="adj2" fmla="val 66805"/>
            </a:avLst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5f5f"/>
                </a:solidFill>
                <a:latin typeface="Times New Roman"/>
              </a:rPr>
              <a:t>ПЕДАГОГИ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6400800" y="533520"/>
            <a:ext cx="123840" cy="1590480"/>
          </a:xfrm>
          <a:custGeom>
            <a:avLst/>
            <a:gdLst>
              <a:gd name="textAreaLeft" fmla="*/ 0 w 123840"/>
              <a:gd name="textAreaRight" fmla="*/ 44640 w 123840"/>
              <a:gd name="textAreaTop" fmla="*/ 24120 h 1590480"/>
              <a:gd name="textAreaBottom" fmla="*/ 1566360 h 15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6"/>
                  <a:pt x="10800" y="1051"/>
                </a:cubicBezTo>
                <a:lnTo>
                  <a:pt x="10800" y="9749"/>
                </a:lnTo>
                <a:cubicBezTo>
                  <a:pt x="10800" y="10275"/>
                  <a:pt x="16200" y="10800"/>
                  <a:pt x="21600" y="10800"/>
                </a:cubicBezTo>
                <a:cubicBezTo>
                  <a:pt x="16200" y="10800"/>
                  <a:pt x="10800" y="11326"/>
                  <a:pt x="10800" y="11851"/>
                </a:cubicBezTo>
                <a:lnTo>
                  <a:pt x="10800" y="20549"/>
                </a:lnTo>
                <a:cubicBezTo>
                  <a:pt x="10800" y="2107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6553080" y="380880"/>
            <a:ext cx="2438640" cy="1824120"/>
          </a:xfrm>
          <a:prstGeom prst="leftArrowCallout">
            <a:avLst>
              <a:gd name="adj1" fmla="val 21428"/>
              <a:gd name="adj2" fmla="val 25000"/>
              <a:gd name="adj3" fmla="val 8597"/>
              <a:gd name="adj4" fmla="val 90944"/>
            </a:avLst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Сотрудничество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Взаимодействие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Поддержка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Помощь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179280" y="2637000"/>
            <a:ext cx="3326040" cy="1728720"/>
          </a:xfrm>
          <a:prstGeom prst="ellipse">
            <a:avLst/>
          </a:prstGeom>
          <a:solidFill>
            <a:srgbClr val="dfe268"/>
          </a:solidFill>
          <a:ln w="507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Психологическое 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сопровождение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3780000" y="2924280"/>
            <a:ext cx="1477800" cy="1371600"/>
          </a:xfrm>
          <a:prstGeom prst="wedgeEllipseCallout">
            <a:avLst>
              <a:gd name="adj1" fmla="val -89097"/>
              <a:gd name="adj2" fmla="val -1620"/>
            </a:avLst>
          </a:prstGeom>
          <a:solidFill>
            <a:srgbClr val="dfe268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5f5f"/>
                </a:solidFill>
                <a:latin typeface="Arial"/>
                <a:ea typeface="Times New Roman"/>
              </a:rPr>
              <a:t>ДЕТИ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cxnSp>
        <p:nvCxnSpPr>
          <p:cNvPr id="109" name="AutoShape 14"/>
          <p:cNvCxnSpPr>
            <a:stCxn id="104" idx="4"/>
            <a:endCxn id="108" idx="1"/>
          </p:cNvCxnSpPr>
          <p:nvPr/>
        </p:nvCxnSpPr>
        <p:spPr>
          <a:xfrm>
            <a:off x="3347640" y="2366640"/>
            <a:ext cx="648360" cy="740520"/>
          </a:xfrm>
          <a:prstGeom prst="straightConnector1">
            <a:avLst/>
          </a:prstGeom>
          <a:ln w="50760">
            <a:solidFill>
              <a:srgbClr val="993300"/>
            </a:solidFill>
            <a:miter/>
          </a:ln>
        </p:spPr>
      </p:cxnSp>
      <p:cxnSp>
        <p:nvCxnSpPr>
          <p:cNvPr id="110" name="AutoShape 15"/>
          <p:cNvCxnSpPr>
            <a:stCxn id="108" idx="3"/>
            <a:endCxn id="103" idx="0"/>
          </p:cNvCxnSpPr>
          <p:nvPr/>
        </p:nvCxnSpPr>
        <p:spPr>
          <a:xfrm flipH="1">
            <a:off x="3085920" y="4113000"/>
            <a:ext cx="910080" cy="440280"/>
          </a:xfrm>
          <a:prstGeom prst="straightConnector1">
            <a:avLst/>
          </a:prstGeom>
          <a:ln w="50760">
            <a:solidFill>
              <a:srgbClr val="993300"/>
            </a:solidFill>
            <a:miter/>
          </a:ln>
        </p:spPr>
      </p:cxn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 rot="5400000">
            <a:off x="-2095560" y="3009600"/>
            <a:ext cx="58672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6c6040"/>
                </a:solidFill>
                <a:latin typeface="Arial Black"/>
              </a:rPr>
              <a:t>ПЕДАГОГИ</a:t>
            </a:r>
            <a:endParaRPr b="1" i="1" lang="en-US" sz="1800" spc="1" strike="noStrike">
              <a:ln w="9360">
                <a:solidFill>
                  <a:srgbClr val="333300"/>
                </a:solidFill>
                <a:miter/>
              </a:ln>
              <a:solidFill>
                <a:srgbClr val="6c6040"/>
              </a:solidFill>
              <a:latin typeface="Arial Black"/>
              <a:ea typeface="Arial Black"/>
            </a:endParaRPr>
          </a:p>
        </p:txBody>
      </p:sp>
      <p:sp>
        <p:nvSpPr>
          <p:cNvPr id="112" name="WordArt 3"/>
          <p:cNvSpPr txBox="1"/>
          <p:nvPr/>
        </p:nvSpPr>
        <p:spPr>
          <a:xfrm rot="5400000">
            <a:off x="5104800" y="304776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6c6040"/>
                </a:solidFill>
                <a:latin typeface="Arial Black"/>
              </a:rPr>
              <a:t>РОДИТЕЛИ</a:t>
            </a:r>
            <a:endParaRPr b="1" i="1" lang="en-US" sz="1800" spc="1" strike="noStrike">
              <a:ln w="9360">
                <a:solidFill>
                  <a:srgbClr val="333300"/>
                </a:solidFill>
                <a:miter/>
              </a:ln>
              <a:solidFill>
                <a:srgbClr val="6c6040"/>
              </a:solidFill>
              <a:latin typeface="Arial Black"/>
              <a:ea typeface="Arial Black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743200" y="4572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13336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 Black"/>
              </a:rPr>
              <a:t>КАПРИЗЫ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 Black"/>
              </a:rPr>
              <a:t>УПРЯМСТВО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 Black"/>
              </a:rPr>
              <a:t>АГРЕССИВНОСТЬ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 Black"/>
              </a:rPr>
              <a:t>НЕПОСЛУШАНИЕ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 Black"/>
              </a:rPr>
              <a:t>ИСТЕРИКИ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 Black"/>
              </a:rPr>
              <a:t>НЕВНИМАТЕЛЬНОСТЬ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 Black"/>
              </a:rPr>
              <a:t>НЕЖЕЛАНИЕ ЗАНИМАТЬСЯ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 Black"/>
              </a:rPr>
              <a:t>ИЗМЕНЕНИЯ В ПОВЕДЕНИИ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7010280" y="533520"/>
            <a:ext cx="609840" cy="5867280"/>
          </a:xfrm>
          <a:custGeom>
            <a:avLst/>
            <a:gdLst>
              <a:gd name="textAreaLeft" fmla="*/ 389520 w 609840"/>
              <a:gd name="textAreaRight" fmla="*/ 610200 w 609840"/>
              <a:gd name="textAreaTop" fmla="*/ 153000 h 5867280"/>
              <a:gd name="textAreaBottom" fmla="*/ 5714280 h 586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16"/>
                </a:lnTo>
                <a:cubicBezTo>
                  <a:pt x="10800" y="9816"/>
                  <a:pt x="5400" y="10716"/>
                  <a:pt x="0" y="10716"/>
                </a:cubicBezTo>
                <a:cubicBezTo>
                  <a:pt x="5400" y="10716"/>
                  <a:pt x="10800" y="11616"/>
                  <a:pt x="10800" y="125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1371600" y="533520"/>
            <a:ext cx="457200" cy="5867280"/>
          </a:xfrm>
          <a:custGeom>
            <a:avLst/>
            <a:gdLst>
              <a:gd name="textAreaLeft" fmla="*/ 0 w 457200"/>
              <a:gd name="textAreaRight" fmla="*/ 164880 w 457200"/>
              <a:gd name="textAreaTop" fmla="*/ 153000 h 5867280"/>
              <a:gd name="textAreaBottom" fmla="*/ 5714280 h 58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Фото067304"/>
          <p:cNvPicPr/>
          <p:nvPr/>
        </p:nvPicPr>
        <p:blipFill>
          <a:blip r:embed="rId1"/>
          <a:stretch/>
        </p:blipFill>
        <p:spPr>
          <a:xfrm rot="19564200">
            <a:off x="6400800" y="457200"/>
            <a:ext cx="2146320" cy="274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Фото0357620"/>
          <p:cNvPicPr/>
          <p:nvPr/>
        </p:nvPicPr>
        <p:blipFill>
          <a:blip r:embed="rId2"/>
          <a:stretch/>
        </p:blipFill>
        <p:spPr>
          <a:xfrm rot="1749600">
            <a:off x="457200" y="304560"/>
            <a:ext cx="1943280" cy="25146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4"/>
          <p:cNvSpPr txBox="1"/>
          <p:nvPr/>
        </p:nvSpPr>
        <p:spPr>
          <a:xfrm>
            <a:off x="1828800" y="1981080"/>
            <a:ext cx="5029200" cy="487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РАННИЙ ВОЗРАСТ</a:t>
            </a:r>
            <a:endParaRPr b="1" i="1" lang="en-US" sz="3200" spc="1" strike="noStrike">
              <a:ln w="1584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2590920" y="3048120"/>
            <a:ext cx="3276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АДАПТАЦИЯ</a:t>
            </a:r>
            <a:endParaRPr b="0" lang="en-US" sz="1800" spc="1" strike="noStrike">
              <a:ln w="2844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304920" y="4800600"/>
            <a:ext cx="320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АПРИЗЫ</a:t>
            </a:r>
            <a:endParaRPr b="0" lang="en-US" sz="1800" spc="1" strike="noStrike">
              <a:ln w="19080">
                <a:solidFill>
                  <a:srgbClr val="33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4800600" y="4648320"/>
            <a:ext cx="401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ЖАДНОСТЬ</a:t>
            </a:r>
            <a:endParaRPr b="0" lang="en-US" sz="1800" spc="1" strike="noStrike">
              <a:ln w="19080">
                <a:solidFill>
                  <a:srgbClr val="33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2133720" y="57913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ПРЯМСТВО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8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38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38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38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8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385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38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38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PICT04123473"/>
          <p:cNvPicPr/>
          <p:nvPr/>
        </p:nvPicPr>
        <p:blipFill>
          <a:blip r:embed="rId1"/>
          <a:stretch/>
        </p:blipFill>
        <p:spPr>
          <a:xfrm rot="20052000">
            <a:off x="5486400" y="1523520"/>
            <a:ext cx="3276720" cy="2221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Фото026756"/>
          <p:cNvPicPr/>
          <p:nvPr/>
        </p:nvPicPr>
        <p:blipFill>
          <a:blip r:embed="rId2"/>
          <a:stretch/>
        </p:blipFill>
        <p:spPr>
          <a:xfrm>
            <a:off x="228600" y="304920"/>
            <a:ext cx="2681280" cy="3124080"/>
          </a:xfrm>
          <a:prstGeom prst="rect">
            <a:avLst/>
          </a:prstGeom>
          <a:ln w="0">
            <a:noFill/>
          </a:ln>
        </p:spPr>
      </p:pic>
      <p:sp>
        <p:nvSpPr>
          <p:cNvPr id="126" name="WordArt 5"/>
          <p:cNvSpPr txBox="1"/>
          <p:nvPr/>
        </p:nvSpPr>
        <p:spPr>
          <a:xfrm rot="20154600">
            <a:off x="0" y="3962520"/>
            <a:ext cx="4267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АГРЕССИВНОСТЬ</a:t>
            </a:r>
            <a:endParaRPr b="0" lang="en-US" sz="1800" spc="1" strike="noStrike">
              <a:ln w="25560">
                <a:solidFill>
                  <a:srgbClr val="33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3124080" y="228600"/>
            <a:ext cx="5791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невнимательность</a:t>
            </a:r>
            <a:endParaRPr b="0" lang="en-US" sz="1800" spc="1" strike="noStrike">
              <a:ln w="2556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 rot="20070600">
            <a:off x="3276720" y="1600200"/>
            <a:ext cx="3962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СТЕНЧИВОСТЬ</a:t>
            </a:r>
            <a:endParaRPr b="0" lang="en-US" sz="1800" spc="1" strike="noStrike">
              <a:ln w="25560">
                <a:solidFill>
                  <a:srgbClr val="33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609480" y="5867280"/>
            <a:ext cx="6096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подготовка к школе</a:t>
            </a:r>
            <a:endParaRPr b="0" lang="en-US" sz="1800" spc="1" strike="noStrike">
              <a:ln w="2844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30" name="WordArt 9"/>
          <p:cNvSpPr txBox="1"/>
          <p:nvPr/>
        </p:nvSpPr>
        <p:spPr>
          <a:xfrm rot="21000600">
            <a:off x="2819520" y="3733560"/>
            <a:ext cx="6324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ДОШКОЛЬНЫЙ  ВОЗРАСТ</a:t>
            </a:r>
            <a:endParaRPr b="1" i="1" lang="en-US" sz="3200" spc="1" strike="noStrike">
              <a:ln w="1908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 Black"/>
              </a:rPr>
              <a:t>АНАЛИЗ КОНСУЛЬТАТИВНОГО  ПРИЕМА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1219320"/>
          <a:ext cx="8229600" cy="5257800"/>
        </p:xfrm>
        <a:graphic>
          <a:graphicData uri="http://schemas.openxmlformats.org/drawingml/2006/table">
            <a:tbl>
              <a:tblPr/>
              <a:tblGrid>
                <a:gridCol w="4496040"/>
                <a:gridCol w="1904760"/>
                <a:gridCol w="1828800"/>
              </a:tblGrid>
              <a:tr h="55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Вопросы обращений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dfe26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консультации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dfe2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родителей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педагогов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Подготовка к обучению в школ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dfe2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4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Взаимоотношения (непослушание, упрямство, капризы и т.п.)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dfe2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Проблемы адаптации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dfe2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Возрастные особенности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dfe2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Детская  агрессивность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solidFill>
                      <a:srgbClr val="dfe2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90760" y="609480"/>
            <a:ext cx="4647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90000"/>
                </a:solidFill>
                <a:latin typeface="Arial"/>
              </a:rPr>
              <a:t>Система психолого – медико - педагогического сопровождения детей в ДОУ</a:t>
            </a:r>
            <a:endParaRPr b="0" lang="en-US" sz="17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67080" y="18284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Первичное  комплексное диагностическое изучение особенностей ребёнка  всеми специалистами ДОУ.</a:t>
            </a:r>
            <a:endParaRPr b="0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Занесение общих сведений о ребёнке в индивидуальную карту развития.</a:t>
            </a:r>
            <a:endParaRPr b="0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Выделение проблем развития и необходимости работы по индивидуальному маршруту.</a:t>
            </a:r>
            <a:endParaRPr b="0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Разработка индивидуального маршрута развития и  коррекции.</a:t>
            </a:r>
            <a:endParaRPr b="0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Утверждение программы на ПМПК.</a:t>
            </a:r>
            <a:endParaRPr b="0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Повторный ПМПК(обследования и итоги среза знаний). Определение педагогического режима (создание условий, комплексный подход).</a:t>
            </a:r>
            <a:endParaRPr b="0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Заключительные ПМПК, подведение итогов коррекционной работы и результаты подготовки ребёнка к школьному обучению.</a:t>
            </a:r>
            <a:endParaRPr b="0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Разработка рекомендаций по дальнейшему развитию.</a:t>
            </a:r>
            <a:endParaRPr b="0" lang="en-US" sz="1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0880" y="533160"/>
            <a:ext cx="3657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Black"/>
              </a:rPr>
              <a:t>Содержание коррекционно-развивающей  работы педагога-психолога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Цель:</a:t>
            </a:r>
            <a:r>
              <a:rPr b="1" lang="ru-RU" sz="1400" spc="-1" strike="noStrike">
                <a:solidFill>
                  <a:srgbClr val="d9010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валифицированная коррекция недостатков в   психическом и психологическом развитии детей</a:t>
            </a:r>
            <a:r>
              <a:rPr b="1" lang="ru-RU" sz="1800" spc="-1" strike="noStrike">
                <a:solidFill>
                  <a:srgbClr val="d9010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038480" y="685800"/>
            <a:ext cx="0" cy="563868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4038480" y="1905120"/>
            <a:ext cx="304920" cy="0"/>
          </a:xfrm>
          <a:prstGeom prst="line">
            <a:avLst/>
          </a:prstGeom>
          <a:ln w="1908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038480" y="2514600"/>
            <a:ext cx="304920" cy="0"/>
          </a:xfrm>
          <a:prstGeom prst="line">
            <a:avLst/>
          </a:prstGeom>
          <a:ln w="1908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4038480" y="2971800"/>
            <a:ext cx="304920" cy="0"/>
          </a:xfrm>
          <a:prstGeom prst="line">
            <a:avLst/>
          </a:prstGeom>
          <a:ln w="1908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4038480" y="3581280"/>
            <a:ext cx="304920" cy="0"/>
          </a:xfrm>
          <a:prstGeom prst="line">
            <a:avLst/>
          </a:prstGeom>
          <a:ln w="1908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4038480" y="3962520"/>
            <a:ext cx="304920" cy="0"/>
          </a:xfrm>
          <a:prstGeom prst="line">
            <a:avLst/>
          </a:prstGeom>
          <a:ln w="1908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4038480" y="4267080"/>
            <a:ext cx="304920" cy="0"/>
          </a:xfrm>
          <a:prstGeom prst="line">
            <a:avLst/>
          </a:prstGeom>
          <a:ln w="1908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43" name="Picture 13" descr="EVEN0223"/>
          <p:cNvPicPr/>
          <p:nvPr/>
        </p:nvPicPr>
        <p:blipFill>
          <a:blip r:embed="rId1"/>
          <a:stretch/>
        </p:blipFill>
        <p:spPr>
          <a:xfrm>
            <a:off x="685800" y="5029200"/>
            <a:ext cx="3124080" cy="158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63136665_5f8350820dd8"/>
          <p:cNvPicPr/>
          <p:nvPr/>
        </p:nvPicPr>
        <p:blipFill>
          <a:blip r:embed="rId2"/>
          <a:stretch/>
        </p:blipFill>
        <p:spPr>
          <a:xfrm rot="20048400">
            <a:off x="3962520" y="1752120"/>
            <a:ext cx="5715000" cy="3783240"/>
          </a:xfrm>
          <a:prstGeom prst="rect">
            <a:avLst/>
          </a:prstGeom>
          <a:ln w="0">
            <a:noFill/>
          </a:ln>
        </p:spPr>
      </p:pic>
      <p:sp>
        <p:nvSpPr>
          <p:cNvPr id="145" name="Line 15"/>
          <p:cNvSpPr/>
          <p:nvPr/>
        </p:nvSpPr>
        <p:spPr>
          <a:xfrm>
            <a:off x="4038480" y="5029200"/>
            <a:ext cx="304920" cy="0"/>
          </a:xfrm>
          <a:prstGeom prst="line">
            <a:avLst/>
          </a:prstGeom>
          <a:ln w="1908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4038480" y="5638680"/>
            <a:ext cx="304920" cy="0"/>
          </a:xfrm>
          <a:prstGeom prst="line">
            <a:avLst/>
          </a:prstGeom>
          <a:ln w="1908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7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63300"/>
                </a:solidFill>
                <a:latin typeface="Arial Black"/>
              </a:rPr>
              <a:t>Индивидуальные различия детей в интеллектуальной и эмоционально-волевой сферах:</a:t>
            </a:r>
            <a:endParaRPr b="0" lang="en-US" sz="3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темп усвоения знаний, умений, навыков;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редрасположенность к тому или иному виду анализа;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собенности самооценки и уровень развития самокритики;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уровень развития саморегуляции поведения, готовности к совершению волевого акта и др.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 Black"/>
              </a:rPr>
              <a:t>Принципы организации коррекционно-развивающей работы: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 Black"/>
              </a:rPr>
              <a:t>Единство обучающей, коррекционно-развивающей и воспитательной задач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 Black"/>
              </a:rPr>
              <a:t>Развитие сознательности, активности и самостоятельности ребенка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 Black"/>
              </a:rPr>
              <a:t>Систематичность и последовательность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 Black"/>
              </a:rPr>
              <a:t>Доступность содержания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 Black"/>
              </a:rPr>
              <a:t>Наглядность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 Black"/>
              </a:rPr>
              <a:t>Индивидуальный подход к воспитанникам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cc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 Black"/>
              </a:rPr>
              <a:t>Нравственность, экологичность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0"/>
                            </p:stCondLst>
                            <p:childTnLst>
                              <p:par>
                                <p:cTn id="5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6000"/>
                            </p:stCondLst>
                            <p:childTnLst>
                              <p:par>
                                <p:cTn id="5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x</cp:lastModifiedBy>
  <dcterms:modified xsi:type="dcterms:W3CDTF">2011-11-10T03:43:3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