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5.gif" ContentType="image/gif"/>
  <Override PartName="/ppt/media/image3.jpeg" ContentType="image/jpeg"/>
  <Override PartName="/ppt/media/image14.gif" ContentType="image/gif"/>
  <Override PartName="/ppt/media/image1.wmf" ContentType="image/x-wmf"/>
  <Override PartName="/ppt/media/image2.gif" ContentType="image/gif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120D-E9F9-4A25-8BC4-13CC05DA3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4471-1DD7-427B-9CA7-A75932212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4974-EE26-403E-B479-4443F22B05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383E-1D5D-4E8D-89F8-64F6AA281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594E-18E1-43BC-8FDF-B17DCC4CF3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1001-0379-4241-BC42-291C9DBA4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17BC-1A53-4345-985C-C3F4B912CA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2764-CBBF-438C-9376-1D68D64651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8527-7358-4B16-BD6E-53B8FCFBF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92A5-5461-40B1-AA03-3441CCAC1C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C7D1-A6A6-4C96-8955-5B44C89850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D432-D54E-4D3E-AA72-32852C520C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3287-3103-44FB-98F1-CA3F045347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008F-E1A7-45F2-8F4A-4277625D95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6C6-543E-4A7F-B5B9-CEA0B79A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F06-915E-4B24-BC64-9BF4EB8D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A11-B65D-47FC-B0E5-07FD1D5C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229-2E56-4E85-AA33-928B0160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E9B-A095-49C1-8FE1-27F8C200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512-AA2A-414E-B254-7386F518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AEB-F7D7-423E-81D3-1D7F0194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A29-9B6A-474C-82E3-97230C1E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636-DBF9-491D-911F-B39139F7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C8A-5633-4FD6-BD45-C6071995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A50-C5F0-406D-8B20-459B976D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C2E-8122-4ED0-BD66-412F3C1D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FB54-2524-483D-9811-2C06D75E1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6800760" cy="33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Множества и операции  над ними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54900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Исследовательская рабо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411280" y="4292640"/>
            <a:ext cx="6481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ыполнила: ученица 6 «А» класса МБОУ «СОШ №14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Филина Екатери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Научный руководитель – учитель мате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Алтунина Ни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:\Из школы\картинки\34.wmf"/>
          <p:cNvPicPr/>
          <p:nvPr/>
        </p:nvPicPr>
        <p:blipFill>
          <a:blip r:embed="rId1"/>
          <a:stretch/>
        </p:blipFill>
        <p:spPr>
          <a:xfrm>
            <a:off x="6804000" y="333360"/>
            <a:ext cx="204012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Конечные и бесконечные множ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8000" y="1700280"/>
            <a:ext cx="83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50920" y="1052640"/>
            <a:ext cx="8569080" cy="302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Множество, количество элементов которого, выражается некоторым числом, называется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конечным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имеры: множество страниц в книге, множество камней на морском бере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о если множество не является конечным, то есть, у него нет точного количества элементов, это множество называется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бесконечным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апример: множество натуральных чисел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50920" y="5013360"/>
            <a:ext cx="2376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{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│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&lt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х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&lt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050920" y="544500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Множество всех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таких, что 2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х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50920" y="43657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В бесконечных множествах элементы соединяют в группы по характеристическим свойствам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бъединение множест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2268360" y="2997360"/>
            <a:ext cx="2786400" cy="2736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1476360" y="443700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516720" y="465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4211640" y="3716280"/>
            <a:ext cx="1994040" cy="187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6"/>
          <p:cNvSpPr/>
          <p:nvPr/>
        </p:nvSpPr>
        <p:spPr>
          <a:xfrm>
            <a:off x="2268360" y="2997360"/>
            <a:ext cx="2786400" cy="27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250920" y="836640"/>
            <a:ext cx="8569080" cy="1557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Объединением двух множеств называется множество, составленное из элементов этих двух множеств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Обозначается: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 U B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={х|х Є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или х Є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Моя задач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В фотоальбоме много фотографий. На 21 фотографии моя сестра. На 30 – я. На 14 – мы с сестрой фотографировались вместе. А на 6 фотографиях нет ни одного человека, там изображена природа. Сколько фотографий в фотоальбо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усть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множество фотографий с моей сестрой. По условию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{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усть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множество фотографий со мной. Количество элементов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{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усть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C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множество фотографий меня и сестры. По условию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{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усть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множество фотографий с природой. По условию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{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усть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множество всех фотограф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-C+D=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21+30-14+6=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{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Ответ:48 фотографий в фотоальбо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3924360" y="5732640"/>
                <a:ext cx="360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589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2266920" y="3645000"/>
            <a:ext cx="2786040" cy="2736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3995640" y="4005360"/>
            <a:ext cx="2448000" cy="2303280"/>
          </a:xfrm>
          <a:prstGeom prst="ellipse">
            <a:avLst/>
          </a:prstGeom>
          <a:gradFill rotWithShape="0">
            <a:gsLst>
              <a:gs pos="0">
                <a:srgbClr val="ff3300">
                  <a:alpha val="58039"/>
                </a:srgbClr>
              </a:gs>
              <a:gs pos="100000">
                <a:srgbClr val="ff00ff">
                  <a:alpha val="59215"/>
                </a:srgbClr>
              </a:gs>
            </a:gsLst>
            <a:lin ang="5400000"/>
          </a:gra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1476360" y="4437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6516720" y="465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8"/>
          <p:cNvSpPr/>
          <p:nvPr/>
        </p:nvSpPr>
        <p:spPr>
          <a:xfrm>
            <a:off x="3995640" y="4076640"/>
            <a:ext cx="1055880" cy="2089080"/>
          </a:xfrm>
          <a:custGeom>
            <a:avLst/>
            <a:gdLst>
              <a:gd name="textAreaLeft" fmla="*/ 0 w 1055880"/>
              <a:gd name="textAreaRight" fmla="*/ 1056240 w 105588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665" h="1254">
                <a:moveTo>
                  <a:pt x="333" y="1247"/>
                </a:moveTo>
                <a:cubicBezTo>
                  <a:pt x="303" y="1240"/>
                  <a:pt x="235" y="1195"/>
                  <a:pt x="197" y="1157"/>
                </a:cubicBezTo>
                <a:cubicBezTo>
                  <a:pt x="159" y="1119"/>
                  <a:pt x="136" y="1074"/>
                  <a:pt x="106" y="1021"/>
                </a:cubicBezTo>
                <a:cubicBezTo>
                  <a:pt x="76" y="968"/>
                  <a:pt x="30" y="892"/>
                  <a:pt x="15" y="839"/>
                </a:cubicBezTo>
                <a:cubicBezTo>
                  <a:pt x="0" y="786"/>
                  <a:pt x="15" y="763"/>
                  <a:pt x="15" y="703"/>
                </a:cubicBezTo>
                <a:cubicBezTo>
                  <a:pt x="15" y="643"/>
                  <a:pt x="0" y="544"/>
                  <a:pt x="15" y="476"/>
                </a:cubicBezTo>
                <a:cubicBezTo>
                  <a:pt x="30" y="408"/>
                  <a:pt x="76" y="340"/>
                  <a:pt x="106" y="295"/>
                </a:cubicBezTo>
                <a:cubicBezTo>
                  <a:pt x="136" y="250"/>
                  <a:pt x="167" y="234"/>
                  <a:pt x="197" y="204"/>
                </a:cubicBezTo>
                <a:cubicBezTo>
                  <a:pt x="227" y="174"/>
                  <a:pt x="257" y="143"/>
                  <a:pt x="287" y="113"/>
                </a:cubicBezTo>
                <a:cubicBezTo>
                  <a:pt x="317" y="83"/>
                  <a:pt x="348" y="38"/>
                  <a:pt x="378" y="23"/>
                </a:cubicBezTo>
                <a:cubicBezTo>
                  <a:pt x="408" y="8"/>
                  <a:pt x="439" y="0"/>
                  <a:pt x="469" y="23"/>
                </a:cubicBezTo>
                <a:cubicBezTo>
                  <a:pt x="499" y="46"/>
                  <a:pt x="529" y="99"/>
                  <a:pt x="559" y="159"/>
                </a:cubicBezTo>
                <a:cubicBezTo>
                  <a:pt x="589" y="219"/>
                  <a:pt x="635" y="325"/>
                  <a:pt x="650" y="385"/>
                </a:cubicBezTo>
                <a:cubicBezTo>
                  <a:pt x="665" y="445"/>
                  <a:pt x="650" y="462"/>
                  <a:pt x="650" y="522"/>
                </a:cubicBezTo>
                <a:cubicBezTo>
                  <a:pt x="650" y="582"/>
                  <a:pt x="658" y="688"/>
                  <a:pt x="650" y="748"/>
                </a:cubicBezTo>
                <a:cubicBezTo>
                  <a:pt x="642" y="808"/>
                  <a:pt x="628" y="831"/>
                  <a:pt x="605" y="884"/>
                </a:cubicBezTo>
                <a:cubicBezTo>
                  <a:pt x="582" y="937"/>
                  <a:pt x="552" y="1013"/>
                  <a:pt x="514" y="1066"/>
                </a:cubicBezTo>
                <a:cubicBezTo>
                  <a:pt x="476" y="1119"/>
                  <a:pt x="408" y="1172"/>
                  <a:pt x="378" y="1202"/>
                </a:cubicBezTo>
                <a:cubicBezTo>
                  <a:pt x="348" y="1232"/>
                  <a:pt x="363" y="1254"/>
                  <a:pt x="333" y="1247"/>
                </a:cubicBezTo>
                <a:close/>
              </a:path>
            </a:pathLst>
          </a:custGeom>
          <a:blipFill rotWithShape="0">
            <a:blip r:embed="rId1">
              <a:alphaModFix amt="62000"/>
            </a:blip>
            <a:srcRect/>
            <a:stretch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2340000" y="306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ересечение множе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79280" y="836640"/>
            <a:ext cx="8569440" cy="2592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Пересечение множеств – это пересечение нескольких одинаковых элементов двух множест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бозначается: </a:t>
            </a:r>
            <a:r>
              <a:rPr b="0" lang="ru-RU" sz="2800" spc="-1" strike="noStrike">
                <a:solidFill>
                  <a:srgbClr val="0033cc"/>
                </a:solidFill>
                <a:latin typeface="Symbol"/>
                <a:ea typeface="Symbol"/>
              </a:rPr>
              <a:t>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33cc"/>
                </a:solidFill>
                <a:latin typeface="Symbol"/>
                <a:ea typeface="Symbol"/>
              </a:rPr>
              <a:t>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={х|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Є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Є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Моя задач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а полках стояло 20 дисков, причём на каждом есть запись. Известно, что 14 дисков с мультиками, а 16 с фильмами. На каком диске записаны и мультики, и филь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усть А – это множество дисков с записью мультиков. Количество элементов в нём, по условию: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{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усть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множество дисков с филь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Количество элементов в нём: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={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усть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x –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количество дисков с муль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и филь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-х=14+16-х=20    х=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{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Ответ: на 10-ти дисках запи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и мультики, и филь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3564000" y="5229360"/>
                <a:ext cx="360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72360" y="4149720"/>
            <a:ext cx="2533680" cy="2533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Разность множе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"/>
          <p:cNvSpPr/>
          <p:nvPr/>
        </p:nvSpPr>
        <p:spPr>
          <a:xfrm>
            <a:off x="395280" y="692280"/>
            <a:ext cx="2786040" cy="273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6200" y="836640"/>
            <a:ext cx="6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346560" y="765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395280" y="692280"/>
            <a:ext cx="2786040" cy="27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2268360" y="1484280"/>
            <a:ext cx="1946520" cy="1871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50000">
                <a:srgbClr val="007600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95280" y="692280"/>
            <a:ext cx="2786040" cy="27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573800" y="797400"/>
            <a:ext cx="415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Разностью множеств А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называется множе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состоящее из тех и только т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элементов множества 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которые не принадле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множеству 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-133200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403280" y="-360360"/>
            <a:ext cx="916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3"/>
          <p:cNvSpPr/>
          <p:nvPr/>
        </p:nvSpPr>
        <p:spPr>
          <a:xfrm>
            <a:off x="1979640" y="4581360"/>
            <a:ext cx="201600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1332000" y="494172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"/>
          <p:cNvSpPr/>
          <p:nvPr/>
        </p:nvSpPr>
        <p:spPr>
          <a:xfrm>
            <a:off x="2627280" y="4797360"/>
            <a:ext cx="10098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50000">
                <a:srgbClr val="007600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3059280" y="4797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4646160" y="4522320"/>
            <a:ext cx="40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Если В подмножество 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то разность А \ В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дополнением множества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до множества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3203640" y="3573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Дополнение множ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4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4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1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6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4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4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4549680" cy="52563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43560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Моя 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4464000" cy="5761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а поляне летало четы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вида бабочек. Синие с большим жёлтым кругом на крыльях. Красные с большим жёлтым кругом на крыльях. Красные и синие бабочки. Известно, что красных бабочек с жёлтым кругом было в два раза меньше, чем синих бабочек. Синих бабочек было 8, а синих с большим жёлтым кругом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Всего бабочек было 2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колько было красных бабоч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82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904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Сначала узнаем количество красных бабочек с жёлтыми кругами. Известно, что  синих бабочек в 2 раза больше, количество элементов в множестве синих бабочек =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{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1)8:2=4(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Теперь мы можем узнать количество красных бабочек. Известно, что элементов в множестве синих бабочек с жёлтыми кругами =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{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}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, множество синих бабочек =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{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}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, ну а множество красных бабочек с кругами =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{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}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. Множество всех бабочек =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{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21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2) 21-(5+8+4)=4(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множество красных бабочек равно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{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}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ои исслед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Сохраняют ли силу законы для чисел и для множеств? Я использовала специальные диаграммы, иллюстрирующие действия над множествами. Условилась обозначать множество всего класса квадратом, в этом квадрате можно расставить ряд точек, по числу учеников(Рис.1)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Группа 35"/>
          <p:cNvGrpSpPr/>
          <p:nvPr/>
        </p:nvGrpSpPr>
        <p:grpSpPr>
          <a:xfrm>
            <a:off x="5867280" y="3860640"/>
            <a:ext cx="2508480" cy="2397240"/>
            <a:chOff x="5867280" y="3860640"/>
            <a:chExt cx="2508480" cy="2397240"/>
          </a:xfrm>
        </p:grpSpPr>
        <p:sp>
          <p:nvSpPr>
            <p:cNvPr id="150" name="Rectangle 2"/>
            <p:cNvSpPr/>
            <p:nvPr/>
          </p:nvSpPr>
          <p:spPr>
            <a:xfrm>
              <a:off x="5867280" y="3860640"/>
              <a:ext cx="2508480" cy="239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"/>
            <p:cNvSpPr/>
            <p:nvPr/>
          </p:nvSpPr>
          <p:spPr>
            <a:xfrm>
              <a:off x="6082560" y="4069440"/>
              <a:ext cx="12636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6635160" y="4069440"/>
              <a:ext cx="12636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"/>
            <p:cNvSpPr/>
            <p:nvPr/>
          </p:nvSpPr>
          <p:spPr>
            <a:xfrm>
              <a:off x="7148160" y="4069440"/>
              <a:ext cx="12636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"/>
            <p:cNvSpPr/>
            <p:nvPr/>
          </p:nvSpPr>
          <p:spPr>
            <a:xfrm>
              <a:off x="6082560" y="4460400"/>
              <a:ext cx="126360" cy="12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7"/>
            <p:cNvSpPr/>
            <p:nvPr/>
          </p:nvSpPr>
          <p:spPr>
            <a:xfrm>
              <a:off x="6082560" y="4887000"/>
              <a:ext cx="126360" cy="12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8"/>
            <p:cNvSpPr/>
            <p:nvPr/>
          </p:nvSpPr>
          <p:spPr>
            <a:xfrm>
              <a:off x="6635160" y="4887000"/>
              <a:ext cx="126360" cy="12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9"/>
            <p:cNvSpPr/>
            <p:nvPr/>
          </p:nvSpPr>
          <p:spPr>
            <a:xfrm>
              <a:off x="7148160" y="4887000"/>
              <a:ext cx="126360" cy="12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0"/>
            <p:cNvSpPr/>
            <p:nvPr/>
          </p:nvSpPr>
          <p:spPr>
            <a:xfrm>
              <a:off x="6635160" y="5398200"/>
              <a:ext cx="126360" cy="128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1"/>
            <p:cNvSpPr/>
            <p:nvPr/>
          </p:nvSpPr>
          <p:spPr>
            <a:xfrm>
              <a:off x="7148160" y="5398200"/>
              <a:ext cx="126360" cy="128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"/>
            <p:cNvSpPr/>
            <p:nvPr/>
          </p:nvSpPr>
          <p:spPr>
            <a:xfrm>
              <a:off x="7618680" y="5398200"/>
              <a:ext cx="128520" cy="128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3"/>
            <p:cNvSpPr/>
            <p:nvPr/>
          </p:nvSpPr>
          <p:spPr>
            <a:xfrm>
              <a:off x="7618680" y="4887000"/>
              <a:ext cx="128520" cy="12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4"/>
            <p:cNvSpPr/>
            <p:nvPr/>
          </p:nvSpPr>
          <p:spPr>
            <a:xfrm>
              <a:off x="6635160" y="5809320"/>
              <a:ext cx="12636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5"/>
            <p:cNvSpPr/>
            <p:nvPr/>
          </p:nvSpPr>
          <p:spPr>
            <a:xfrm>
              <a:off x="8040600" y="5398200"/>
              <a:ext cx="128520" cy="128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"/>
            <p:cNvSpPr/>
            <p:nvPr/>
          </p:nvSpPr>
          <p:spPr>
            <a:xfrm>
              <a:off x="7618680" y="4067280"/>
              <a:ext cx="12852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7"/>
            <p:cNvSpPr/>
            <p:nvPr/>
          </p:nvSpPr>
          <p:spPr>
            <a:xfrm>
              <a:off x="8040600" y="4067280"/>
              <a:ext cx="12852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8040600" y="5809320"/>
              <a:ext cx="12852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6082560" y="5809320"/>
              <a:ext cx="12636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0"/>
            <p:cNvSpPr/>
            <p:nvPr/>
          </p:nvSpPr>
          <p:spPr>
            <a:xfrm>
              <a:off x="8040600" y="4462560"/>
              <a:ext cx="12852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1"/>
            <p:cNvSpPr/>
            <p:nvPr/>
          </p:nvSpPr>
          <p:spPr>
            <a:xfrm>
              <a:off x="7618680" y="4462560"/>
              <a:ext cx="12852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2"/>
            <p:cNvSpPr/>
            <p:nvPr/>
          </p:nvSpPr>
          <p:spPr>
            <a:xfrm>
              <a:off x="8040600" y="4887000"/>
              <a:ext cx="12852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3"/>
            <p:cNvSpPr/>
            <p:nvPr/>
          </p:nvSpPr>
          <p:spPr>
            <a:xfrm>
              <a:off x="7148160" y="5809320"/>
              <a:ext cx="12636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4"/>
            <p:cNvSpPr/>
            <p:nvPr/>
          </p:nvSpPr>
          <p:spPr>
            <a:xfrm>
              <a:off x="7618680" y="5809320"/>
              <a:ext cx="12852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5"/>
            <p:cNvSpPr/>
            <p:nvPr/>
          </p:nvSpPr>
          <p:spPr>
            <a:xfrm>
              <a:off x="7148160" y="4460400"/>
              <a:ext cx="12636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6"/>
            <p:cNvSpPr/>
            <p:nvPr/>
          </p:nvSpPr>
          <p:spPr>
            <a:xfrm>
              <a:off x="6635160" y="4460400"/>
              <a:ext cx="126360" cy="12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7"/>
            <p:cNvSpPr/>
            <p:nvPr/>
          </p:nvSpPr>
          <p:spPr>
            <a:xfrm>
              <a:off x="6082560" y="5398200"/>
              <a:ext cx="126360" cy="128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28"/>
            <p:cNvCxnSpPr/>
            <p:nvPr/>
          </p:nvCxnSpPr>
          <p:spPr>
            <a:xfrm>
              <a:off x="6138000" y="4460040"/>
              <a:ext cx="9360" cy="1267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7" name="AutoShape 29"/>
            <p:cNvCxnSpPr/>
            <p:nvPr/>
          </p:nvCxnSpPr>
          <p:spPr>
            <a:xfrm>
              <a:off x="6013440" y="4522320"/>
              <a:ext cx="2559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8" name="AutoShape 30"/>
            <p:cNvCxnSpPr/>
            <p:nvPr/>
          </p:nvCxnSpPr>
          <p:spPr>
            <a:xfrm>
              <a:off x="6690960" y="4399920"/>
              <a:ext cx="9360" cy="247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9" name="AutoShape 31"/>
            <p:cNvCxnSpPr/>
            <p:nvPr/>
          </p:nvCxnSpPr>
          <p:spPr>
            <a:xfrm>
              <a:off x="6577200" y="4522320"/>
              <a:ext cx="1846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80" name="AutoShape 32"/>
            <p:cNvCxnSpPr/>
            <p:nvPr/>
          </p:nvCxnSpPr>
          <p:spPr>
            <a:xfrm>
              <a:off x="6137640" y="4831560"/>
              <a:ext cx="1080" cy="2955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81" name="AutoShape 33"/>
            <p:cNvCxnSpPr/>
            <p:nvPr/>
          </p:nvCxnSpPr>
          <p:spPr>
            <a:xfrm>
              <a:off x="6013440" y="4944600"/>
              <a:ext cx="2559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82" name="AutoShape 34"/>
            <p:cNvCxnSpPr/>
            <p:nvPr/>
          </p:nvCxnSpPr>
          <p:spPr>
            <a:xfrm>
              <a:off x="6690960" y="4831560"/>
              <a:ext cx="9360" cy="758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pic>
        <p:nvPicPr>
          <p:cNvPr id="183" name="Picture 6" descr="nabor"/>
          <p:cNvPicPr/>
          <p:nvPr/>
        </p:nvPicPr>
        <p:blipFill>
          <a:blip r:embed="rId1"/>
          <a:stretch/>
        </p:blipFill>
        <p:spPr>
          <a:xfrm>
            <a:off x="971640" y="4292640"/>
            <a:ext cx="1728720" cy="1873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0"/>
          <p:cNvSpPr/>
          <p:nvPr/>
        </p:nvSpPr>
        <p:spPr>
          <a:xfrm>
            <a:off x="5867280" y="630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333360"/>
            <a:ext cx="85690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Фигура (рис.2,а) графически иллюстрирует множество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двоечников, а изображённое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рис.2, б – множество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учеников сидящих в первом ряду. Под суммой двух множеств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понимается фигура, получаемая соединением фигур, изображающих множества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(Рис.3).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Группа 25"/>
          <p:cNvGrpSpPr/>
          <p:nvPr/>
        </p:nvGrpSpPr>
        <p:grpSpPr>
          <a:xfrm>
            <a:off x="900000" y="4149720"/>
            <a:ext cx="3444840" cy="1660680"/>
            <a:chOff x="900000" y="4149720"/>
            <a:chExt cx="3444840" cy="1660680"/>
          </a:xfrm>
        </p:grpSpPr>
        <p:sp>
          <p:nvSpPr>
            <p:cNvPr id="187" name="Rectangle 2"/>
            <p:cNvSpPr/>
            <p:nvPr/>
          </p:nvSpPr>
          <p:spPr>
            <a:xfrm>
              <a:off x="2684160" y="4149720"/>
              <a:ext cx="1660680" cy="166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"/>
            <p:cNvSpPr/>
            <p:nvPr/>
          </p:nvSpPr>
          <p:spPr>
            <a:xfrm>
              <a:off x="900000" y="4149720"/>
              <a:ext cx="1660680" cy="166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"/>
            <p:cNvSpPr/>
            <p:nvPr/>
          </p:nvSpPr>
          <p:spPr>
            <a:xfrm rot="20773200">
              <a:off x="1167840" y="4385160"/>
              <a:ext cx="914400" cy="122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5"/>
            <p:cNvSpPr/>
            <p:nvPr/>
          </p:nvSpPr>
          <p:spPr>
            <a:xfrm>
              <a:off x="2868480" y="4595040"/>
              <a:ext cx="1324080" cy="88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6"/>
            <p:cNvSpPr/>
            <p:nvPr/>
          </p:nvSpPr>
          <p:spPr>
            <a:xfrm>
              <a:off x="1341000" y="46742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7"/>
            <p:cNvSpPr/>
            <p:nvPr/>
          </p:nvSpPr>
          <p:spPr>
            <a:xfrm>
              <a:off x="1341000" y="497916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8"/>
            <p:cNvSpPr/>
            <p:nvPr/>
          </p:nvSpPr>
          <p:spPr>
            <a:xfrm>
              <a:off x="1736280" y="497916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9"/>
            <p:cNvSpPr/>
            <p:nvPr/>
          </p:nvSpPr>
          <p:spPr>
            <a:xfrm>
              <a:off x="1736280" y="534600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0"/>
            <p:cNvSpPr/>
            <p:nvPr/>
          </p:nvSpPr>
          <p:spPr>
            <a:xfrm>
              <a:off x="1736280" y="46742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11"/>
            <p:cNvCxnSpPr/>
            <p:nvPr/>
          </p:nvCxnSpPr>
          <p:spPr>
            <a:xfrm>
              <a:off x="1380240" y="4673880"/>
              <a:ext cx="6840" cy="9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97" name="AutoShape 12"/>
            <p:cNvCxnSpPr/>
            <p:nvPr/>
          </p:nvCxnSpPr>
          <p:spPr>
            <a:xfrm>
              <a:off x="1291320" y="4719960"/>
              <a:ext cx="1832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98" name="AutoShape 13"/>
            <p:cNvCxnSpPr/>
            <p:nvPr/>
          </p:nvCxnSpPr>
          <p:spPr>
            <a:xfrm>
              <a:off x="1775520" y="4631040"/>
              <a:ext cx="6840" cy="1767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99" name="AutoShape 14"/>
            <p:cNvCxnSpPr/>
            <p:nvPr/>
          </p:nvCxnSpPr>
          <p:spPr>
            <a:xfrm>
              <a:off x="1694880" y="4719960"/>
              <a:ext cx="132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00" name="AutoShape 15"/>
            <p:cNvCxnSpPr/>
            <p:nvPr/>
          </p:nvCxnSpPr>
          <p:spPr>
            <a:xfrm>
              <a:off x="1380240" y="4939200"/>
              <a:ext cx="1080" cy="213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01" name="AutoShape 16"/>
            <p:cNvCxnSpPr/>
            <p:nvPr/>
          </p:nvCxnSpPr>
          <p:spPr>
            <a:xfrm>
              <a:off x="1291320" y="5020200"/>
              <a:ext cx="1832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02" name="AutoShape 17"/>
            <p:cNvCxnSpPr/>
            <p:nvPr/>
          </p:nvCxnSpPr>
          <p:spPr>
            <a:xfrm>
              <a:off x="1775520" y="4939560"/>
              <a:ext cx="6840" cy="54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03" name="Oval 18"/>
            <p:cNvSpPr/>
            <p:nvPr/>
          </p:nvSpPr>
          <p:spPr>
            <a:xfrm>
              <a:off x="3122280" y="4811040"/>
              <a:ext cx="9180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9"/>
            <p:cNvSpPr/>
            <p:nvPr/>
          </p:nvSpPr>
          <p:spPr>
            <a:xfrm>
              <a:off x="3489120" y="48110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"/>
            <p:cNvSpPr/>
            <p:nvPr/>
          </p:nvSpPr>
          <p:spPr>
            <a:xfrm>
              <a:off x="3122280" y="5177520"/>
              <a:ext cx="9180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1"/>
            <p:cNvSpPr/>
            <p:nvPr/>
          </p:nvSpPr>
          <p:spPr>
            <a:xfrm>
              <a:off x="3489120" y="51775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2"/>
            <p:cNvSpPr/>
            <p:nvPr/>
          </p:nvSpPr>
          <p:spPr>
            <a:xfrm>
              <a:off x="3827160" y="51775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3"/>
            <p:cNvSpPr/>
            <p:nvPr/>
          </p:nvSpPr>
          <p:spPr>
            <a:xfrm>
              <a:off x="3827160" y="48110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AutoShape 24"/>
            <p:cNvCxnSpPr/>
            <p:nvPr/>
          </p:nvCxnSpPr>
          <p:spPr>
            <a:xfrm>
              <a:off x="3161520" y="4771080"/>
              <a:ext cx="6840" cy="54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grpSp>
        <p:nvGrpSpPr>
          <p:cNvPr id="210" name="Группа 45"/>
          <p:cNvGrpSpPr/>
          <p:nvPr/>
        </p:nvGrpSpPr>
        <p:grpSpPr>
          <a:xfrm>
            <a:off x="5796000" y="3933720"/>
            <a:ext cx="2114640" cy="1814760"/>
            <a:chOff x="5796000" y="3933720"/>
            <a:chExt cx="2114640" cy="1814760"/>
          </a:xfrm>
        </p:grpSpPr>
        <p:sp>
          <p:nvSpPr>
            <p:cNvPr id="211" name="Oval 25"/>
            <p:cNvSpPr/>
            <p:nvPr/>
          </p:nvSpPr>
          <p:spPr>
            <a:xfrm>
              <a:off x="6197400" y="45068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6"/>
            <p:cNvSpPr/>
            <p:nvPr/>
          </p:nvSpPr>
          <p:spPr>
            <a:xfrm>
              <a:off x="6197400" y="481176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6593040" y="481176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8"/>
            <p:cNvSpPr/>
            <p:nvPr/>
          </p:nvSpPr>
          <p:spPr>
            <a:xfrm>
              <a:off x="6593040" y="517860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9"/>
            <p:cNvSpPr/>
            <p:nvPr/>
          </p:nvSpPr>
          <p:spPr>
            <a:xfrm>
              <a:off x="6593040" y="45068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AutoShape 30"/>
            <p:cNvCxnSpPr/>
            <p:nvPr/>
          </p:nvCxnSpPr>
          <p:spPr>
            <a:xfrm>
              <a:off x="6237000" y="4506480"/>
              <a:ext cx="6840" cy="9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17" name="AutoShape 31"/>
            <p:cNvCxnSpPr/>
            <p:nvPr/>
          </p:nvCxnSpPr>
          <p:spPr>
            <a:xfrm>
              <a:off x="6148080" y="4552560"/>
              <a:ext cx="1832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18" name="AutoShape 32"/>
            <p:cNvCxnSpPr/>
            <p:nvPr/>
          </p:nvCxnSpPr>
          <p:spPr>
            <a:xfrm>
              <a:off x="6632280" y="4463640"/>
              <a:ext cx="6840" cy="1767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19" name="AutoShape 33"/>
            <p:cNvCxnSpPr/>
            <p:nvPr/>
          </p:nvCxnSpPr>
          <p:spPr>
            <a:xfrm>
              <a:off x="6551640" y="4552560"/>
              <a:ext cx="132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20" name="AutoShape 34"/>
            <p:cNvCxnSpPr/>
            <p:nvPr/>
          </p:nvCxnSpPr>
          <p:spPr>
            <a:xfrm>
              <a:off x="6237000" y="4771800"/>
              <a:ext cx="1080" cy="213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21" name="AutoShape 35"/>
            <p:cNvCxnSpPr/>
            <p:nvPr/>
          </p:nvCxnSpPr>
          <p:spPr>
            <a:xfrm>
              <a:off x="6148080" y="4852800"/>
              <a:ext cx="1832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22" name="AutoShape 36"/>
            <p:cNvCxnSpPr/>
            <p:nvPr/>
          </p:nvCxnSpPr>
          <p:spPr>
            <a:xfrm>
              <a:off x="6632280" y="4772160"/>
              <a:ext cx="6840" cy="54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23" name="Oval 37"/>
            <p:cNvSpPr/>
            <p:nvPr/>
          </p:nvSpPr>
          <p:spPr>
            <a:xfrm>
              <a:off x="7032600" y="481320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38"/>
            <p:cNvSpPr/>
            <p:nvPr/>
          </p:nvSpPr>
          <p:spPr>
            <a:xfrm>
              <a:off x="7032600" y="5180040"/>
              <a:ext cx="9180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39"/>
            <p:cNvSpPr/>
            <p:nvPr/>
          </p:nvSpPr>
          <p:spPr>
            <a:xfrm>
              <a:off x="7371000" y="518004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40"/>
            <p:cNvSpPr/>
            <p:nvPr/>
          </p:nvSpPr>
          <p:spPr>
            <a:xfrm>
              <a:off x="7371000" y="4813200"/>
              <a:ext cx="903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1"/>
            <p:cNvSpPr/>
            <p:nvPr/>
          </p:nvSpPr>
          <p:spPr>
            <a:xfrm>
              <a:off x="5796000" y="3933720"/>
              <a:ext cx="2114640" cy="1814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42"/>
            <p:cNvSpPr/>
            <p:nvPr/>
          </p:nvSpPr>
          <p:spPr>
            <a:xfrm rot="20773200">
              <a:off x="5984640" y="4267080"/>
              <a:ext cx="914400" cy="122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43"/>
            <p:cNvSpPr/>
            <p:nvPr/>
          </p:nvSpPr>
          <p:spPr>
            <a:xfrm>
              <a:off x="6426360" y="4597200"/>
              <a:ext cx="1324080" cy="88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48"/>
          <p:cNvSpPr/>
          <p:nvPr/>
        </p:nvSpPr>
        <p:spPr>
          <a:xfrm>
            <a:off x="900000" y="5877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.2,а                  Рис.2,б                                              Рис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79280" y="260280"/>
            <a:ext cx="8640720" cy="72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Вве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Знания – это всё то, без чего нельзя жить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нашем мире. Без знаний человек не может чувствовать себя полезным членом современного общества  и принимать правильные решения в повседневной жизни. Именно математика, как никакой другой учебный предмет, развивает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человеческие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качества. Об этом говорили многие известные ученые прошл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Математик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это оружие для размышления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Р. Фейн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У человек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знающего математику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на один орган чувств больше.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 Ч. Дар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Математику уже затем стоит изуча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что она ум в порядок приводит.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М.В. Ломоносов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50920" y="476280"/>
          <a:ext cx="8566200" cy="6095880"/>
        </p:xfrm>
        <a:graphic>
          <a:graphicData uri="http://schemas.openxmlformats.org/drawingml/2006/table">
            <a:tbl>
              <a:tblPr/>
              <a:tblGrid>
                <a:gridCol w="2016000"/>
                <a:gridCol w="2376360"/>
                <a:gridCol w="2032200"/>
                <a:gridCol w="21416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оммутативность объедин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UB=BU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+b=b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оммутативность слож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оммутативность пересеч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B=B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×b=b×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оммутативность умнож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ссоциативность объедин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U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В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U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)=(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U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)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U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+(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b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=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b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+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ссоциативность слож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ссоциативность пересеч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В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)=(А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)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×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b×c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=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×b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×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ссоциативность умнож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истрибутивность пересечения относительно объедин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В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U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)=(А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)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U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×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b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=a×b</a:t>
                      </a: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×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истрибутивность умножения относительно слож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50920" y="475920"/>
            <a:ext cx="33847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324000" y="119700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Я изучила основное понятие множества и операции над     множествами, выявила значимость теории множеств в различных сферах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Исследовала удивительную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связь над операциями над множествами и обычными операциями с числа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Применила принципы теории множеств для расширения собственного мировоззрения в практической деятельности: при решении и составлении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В дальнейшем, я ставлю своей целью изучить раздел теории множеств: элементы математической логики, для расширения своего мировоззрения и применения в своей учебной деятельности, так как планирую в будущем поступить в институт экономики и финан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1[29]"/>
          <p:cNvPicPr/>
          <p:nvPr/>
        </p:nvPicPr>
        <p:blipFill>
          <a:blip r:embed="rId1"/>
          <a:stretch/>
        </p:blipFill>
        <p:spPr>
          <a:xfrm>
            <a:off x="7093080" y="115920"/>
            <a:ext cx="1366560" cy="12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Теория множеств– это своего рода основа математического языка, без него невозможно заниматься математикой. Любая область человеческой деятельности связана не только с одним предметом, объектом, а с целой совокупностью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826920" y="1700280"/>
            <a:ext cx="792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8" name="Picture 7" descr="37r3"/>
          <p:cNvPicPr/>
          <p:nvPr/>
        </p:nvPicPr>
        <p:blipFill>
          <a:blip r:embed="rId1"/>
          <a:stretch/>
        </p:blipFill>
        <p:spPr>
          <a:xfrm>
            <a:off x="971640" y="765000"/>
            <a:ext cx="1752480" cy="1663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37r3"/>
          <p:cNvPicPr/>
          <p:nvPr/>
        </p:nvPicPr>
        <p:blipFill>
          <a:blip r:embed="rId2"/>
          <a:stretch/>
        </p:blipFill>
        <p:spPr>
          <a:xfrm>
            <a:off x="2771640" y="4365720"/>
            <a:ext cx="1752840" cy="1663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37r3"/>
          <p:cNvPicPr/>
          <p:nvPr/>
        </p:nvPicPr>
        <p:blipFill>
          <a:blip r:embed="rId3"/>
          <a:stretch/>
        </p:blipFill>
        <p:spPr>
          <a:xfrm>
            <a:off x="6948360" y="5013360"/>
            <a:ext cx="1752840" cy="16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-171720"/>
            <a:ext cx="864072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Моя работа представленная Вашему вниманию, рассматривает вопросы, связанные с самой интересной в мире теорией множ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Актуальност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моей работы очевидна.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Многие из нас даже не задумываются над тем, что множество имеет большое значение в нашей жизни. Любая область человеческой деятельности связана не только с одним предметом, объектом, а с целой совокуп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Например: медицина изучает не одну отдельно взятую болезнь, а все болезни; зоология изучает не отдельно взятое животное, а совокупность всех животных. Математика, как и другая область человеческих знаний, изучает те или иные объекты не каждый в отдельности, а в их связи между соб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6920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Цель моей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79280" y="836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Применить принципы теории множеств для расширения собственного мировоз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11280" y="2276640"/>
            <a:ext cx="539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79280" y="306864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зучить понятие множества и способы операций над множе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. Исследовать связи над операциями над множествами и обычными операциями с чис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. Научится решать и составлять задачи на тему «Множеств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37"/>
          <p:cNvPicPr/>
          <p:nvPr/>
        </p:nvPicPr>
        <p:blipFill>
          <a:blip r:embed="rId1"/>
          <a:stretch/>
        </p:blipFill>
        <p:spPr>
          <a:xfrm>
            <a:off x="4859280" y="1916280"/>
            <a:ext cx="1584360" cy="118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57578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700" spc="-1" strike="noStrike" u="sng">
                <a:solidFill>
                  <a:srgbClr val="ff0000"/>
                </a:solidFill>
                <a:uFillTx/>
                <a:latin typeface="Times New Roman"/>
              </a:rPr>
              <a:t>Объекты исследования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981000"/>
            <a:ext cx="72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1.  Множества и круги Эйл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2.  Задачи на тему «Множеств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79280" y="2243160"/>
            <a:ext cx="568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Методы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9640" y="285264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1. Изучение литературы и работа с Интерн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2. Сравнительный анали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связи над операциями над множествами и обычными операциями с числам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3. Практическое иссле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Решение задач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lash3"/>
          <p:cNvPicPr/>
          <p:nvPr/>
        </p:nvPicPr>
        <p:blipFill>
          <a:blip r:embed="rId1"/>
          <a:stretch/>
        </p:blipFill>
        <p:spPr>
          <a:xfrm>
            <a:off x="6732720" y="404640"/>
            <a:ext cx="201600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572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Гипотеза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50920" y="1052640"/>
            <a:ext cx="864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Теория множеств– это своего рода основа математического языка, без него невозможно заниматься математикой. Любая область человеческой деятельности связана не только с одним предметом, объектом, а с целой совокупностью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50920" y="4221000"/>
            <a:ext cx="586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рактическая значим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68360" y="4724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Представленный в работе материал может использоваться на занятиях математического кружка в 5–6-х клас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468360" y="404640"/>
            <a:ext cx="79912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Что такое множество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По   словам   Георга Кантора, «множество – есть многое, мыслимое нами как единое цело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5280" y="1700280"/>
            <a:ext cx="835344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Множеством может именоваться некоторая совокупность элементов, объединенных по какому-либо признаку. Слово «множество» указывает, что должно быть много элементов. Хотя это не так. Элементов может быть 2, например множество спутников Марса; 1, напри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естественных спутников Зем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и даже нисколько, так назыв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пустое множе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84720" y="4365720"/>
            <a:ext cx="28800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69138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Пустое множе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981000"/>
            <a:ext cx="8424720" cy="49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Пустое множество – это множество, которое не содержит элем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Обозначается: 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Например: множество квадратных колёс или прямых кривых. В пустом множестве количество элементов выражается числом 0, следовательно, оно конеч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При помощи пустого множества можно создать ещё очень много различных множеств, не смотря на то, что это множество «пусто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Наглядное изображение множеств с помощью кругов Эйлер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5980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Элемент х принадлежит множеству А: х     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6443640" y="1628640"/>
          <a:ext cx="5032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1628640"/>
                    <a:ext cx="503280" cy="432000"/>
                  </a:xfrm>
                  <a:prstGeom prst="rect">
                    <a:avLst/>
                  </a:prstGeom>
                  <a:ln w="9360">
                    <a:solidFill>
                      <a:srgbClr val="00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188280" y="390312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Элемент х не принадлежит множеству А: а     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8"/>
          <p:cNvGraphicFramePr/>
          <p:nvPr/>
        </p:nvGraphicFramePr>
        <p:xfrm>
          <a:off x="6804000" y="3860640"/>
          <a:ext cx="7923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3860640"/>
                    <a:ext cx="792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"/>
          <p:cNvSpPr/>
          <p:nvPr/>
        </p:nvSpPr>
        <p:spPr>
          <a:xfrm>
            <a:off x="3564000" y="2276640"/>
            <a:ext cx="1490760" cy="1441440"/>
          </a:xfrm>
          <a:prstGeom prst="ellipse">
            <a:avLst/>
          </a:pr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1"/>
          <p:cNvSpPr/>
          <p:nvPr/>
        </p:nvSpPr>
        <p:spPr>
          <a:xfrm>
            <a:off x="3924360" y="3141720"/>
            <a:ext cx="28872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2"/>
          <p:cNvSpPr/>
          <p:nvPr/>
        </p:nvSpPr>
        <p:spPr>
          <a:xfrm>
            <a:off x="3851280" y="4579920"/>
            <a:ext cx="1490760" cy="144144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3348000" y="5013360"/>
            <a:ext cx="28908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987080" y="2368440"/>
            <a:ext cx="4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4286520" y="292428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294160" y="4654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3421080" y="515772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2:37:11Z</dcterms:created>
  <dc:creator>Катя</dc:creator>
  <dc:description/>
  <dc:language>en-US</dc:language>
  <cp:lastModifiedBy>Нина Сергеевна</cp:lastModifiedBy>
  <dcterms:modified xsi:type="dcterms:W3CDTF">2012-03-09T12:51:55Z</dcterms:modified>
  <cp:revision>48</cp:revision>
  <dc:subject/>
  <dc:title>Слайд 1</dc:title>
</cp:coreProperties>
</file>