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15.gif" ContentType="image/gif"/>
  <Override PartName="/ppt/media/image17.png" ContentType="image/png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12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8DF-B3DC-46D1-B4A3-BC21304D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9A8E-12D1-472F-A27E-A2D934B0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CBC-20DD-4369-BE0D-33A9E30C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C20-26B4-436F-84A3-227DC0C3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33FA-083B-4D1E-8E08-4D830A31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4DEF-7334-47AA-8917-E68B84DE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775A-06D9-4CFD-B1B3-E6918947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2A24-25D6-4721-B433-EFE85FC1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A3E9-4772-4A24-9E78-520B8E71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2923-6C9E-497F-AE56-1802A8EC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1415-823E-495C-8B4E-FE72DEA3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F524-5834-4CE3-91D1-09171CA0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8CEB-1E61-4450-AFC3-433652CC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BB7C-921C-48C1-A4F4-DAC2382D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724F-BF72-4C47-B787-8EB30F69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0436-FA30-48A4-B410-80B85E65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7C59-4EED-4DE7-AF63-E6919A9B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DF5-2437-43DD-B5B1-92EF7A7E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BF4E-B7DF-4D0E-99E5-B79D09E2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A66-F8D6-4BDE-9B1D-F5547FDD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D1B6-5FBB-4D84-A2F9-8493F468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A637-CA3D-4941-B399-90EC7D6F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6A7F-28DB-4A85-A2BC-2D6D876C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70F0-C992-49AD-95F2-643B2773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cc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cc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cc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6015-2E31-4A7F-88F7-5AC254CF8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cc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cc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cc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3FAE-D03F-410C-85B5-291036E1FD8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44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ПОЛОЖЕНИЕ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092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  отраслевой системе оплаты труда работников муниципального дошкольного образовательного  учрежден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орода Курган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Детский са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мбинированного вида № 138 «Дюймовочка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42456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Базовый оклад работников, осуществляющих профессиональную деятельность 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по профессиям рабочих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87280" y="1989000"/>
          <a:ext cx="7488360" cy="4502160"/>
        </p:xfrm>
        <a:graphic>
          <a:graphicData uri="http://schemas.openxmlformats.org/drawingml/2006/table">
            <a:tbl>
              <a:tblPr/>
              <a:tblGrid>
                <a:gridCol w="4753080"/>
                <a:gridCol w="27352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яд   раб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 увеличения      по профессиональным квалификационным уровн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36000" rIns="36000" tIns="54000" bIns="54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тарифный разряд в соответствии с ЕТК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36000" rIns="36000" tIns="54000" bIns="54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тарифный разряд в соответствии с ЕТК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36000" rIns="36000" tIns="54000" bIns="54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тарифный разряд в соответствии с ЕТК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5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36000" rIns="36000" tIns="54000" bIns="54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тарифный разряд в соответствии с ЕТК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36000" rIns="36000" tIns="54000" bIns="54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тарифный разряд в соответствии с ЕТК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36000" rIns="36000" tIns="54000" bIns="54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тарифный разряд в соответствии с ЕТК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36000" rIns="36000" tIns="54000" bIns="54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тарифный разряд в соответствии с ЕТК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5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36000" rIns="36000" tIns="54000" bIns="54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тарифный разряд в соответствии с ЕТК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3933720"/>
            <a:ext cx="11415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Размеры коэффициентов, учитывающих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выполнение важных и ответственных работ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87280" y="2492280"/>
          <a:ext cx="7772400" cy="3578400"/>
        </p:xfrm>
        <a:graphic>
          <a:graphicData uri="http://schemas.openxmlformats.org/drawingml/2006/table">
            <a:tbl>
              <a:tblPr/>
              <a:tblGrid>
                <a:gridCol w="4397400"/>
                <a:gridCol w="33750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Разряд в соответствии с Единым тарифно-квалификационным справочником работ и профессий рабоч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Коэффициент за выполнение важных (особо важных) и ответственных (особо ответственных) раб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раз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раз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 раз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 раз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</a:tr>
            </a:tbl>
          </a:graphicData>
        </a:graphic>
      </p:graphicFrame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5300640"/>
            <a:ext cx="18352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2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Дополнительный повышающий коэффициент для поваров, выполняющих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функциональные  обязанности   шеф – повара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4834080"/>
            <a:ext cx="2090880" cy="186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2268360" y="2349360"/>
          <a:ext cx="6620040" cy="3216240"/>
        </p:xfrm>
        <a:graphic>
          <a:graphicData uri="http://schemas.openxmlformats.org/drawingml/2006/table">
            <a:tbl>
              <a:tblPr/>
              <a:tblGrid>
                <a:gridCol w="4319640"/>
                <a:gridCol w="2300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яд в соответствии с Единым тарифно-квалификационным справочником работ и профессий рабоч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й повышающий коэффициент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раз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раз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раз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424720" cy="17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Повышающие коэффициенты </a:t>
            </a: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заместителям руководителя МДОУ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вышающий коэффициент, учитывающий уровень образова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вышающий коэффициент, учитывающий уровень квалифик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77080" y="4581360"/>
            <a:ext cx="2011320" cy="20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Порядок и условия установления 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выплат компенсационного характера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7772400" cy="46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ыплаты работникам, занятым на тяжелых работах, работах с вредными, опасными и иными особыми условиями труда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ыплаты за работу в условиях, отклоняющихся от нормальных: при выполнении работ различной квалификации, совмещении профессий (должностей), сверхурочной работе, работе в ночное время, за работу в выходные и нерабочие (праздничные) дни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оэффициент за работу в местностях с особыми климатическими услови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308720" y="2852640"/>
            <a:ext cx="15987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Порядок и условия </a:t>
            </a: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выплат стимулирующего характер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50560" y="2349360"/>
            <a:ext cx="604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ыплаты за качество и сложность работ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емия по итогам работы (за месяц, квартал, год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ыплаты за стаж работы в учреждениях образова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118200" y="4508640"/>
            <a:ext cx="30258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Определение размеров выплат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стимулирующего характера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371600" y="178560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спешное и добросовестное исполнение работником своих должностных обязанностей в соответствующем периоде (отсутствие обоснованных замечаний со стороны руководителя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нициативу, творчество и применение в работе современных форм и методов организации труд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ыполнение порученной работы, связанной с обеспечением рабочего процесс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частие в выполнении особо важных работ и мероприятий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9280" y="5769000"/>
            <a:ext cx="122400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Выплаты </a:t>
            </a:r>
            <a:br>
              <a:rPr sz="4400"/>
            </a:br>
            <a:r>
              <a:rPr b="1" lang="en-US" sz="4400" spc="-1" strike="noStrike">
                <a:solidFill>
                  <a:srgbClr val="cc3300"/>
                </a:solidFill>
                <a:latin typeface="Tahoma"/>
              </a:rPr>
              <a:t>за стаж работы в МДО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116000" y="1989000"/>
          <a:ext cx="7772400" cy="3836880"/>
        </p:xfrm>
        <a:graphic>
          <a:graphicData uri="http://schemas.openxmlformats.org/drawingml/2006/table">
            <a:tbl>
              <a:tblPr/>
              <a:tblGrid>
                <a:gridCol w="4660920"/>
                <a:gridCol w="31114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стажа работы в учреждениях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 ста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ж работы от 0 до 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ж работы от 5 до 10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ж работы от 10 до 1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ж работы от 15 до 20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ж работы более 20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5734080"/>
            <a:ext cx="19796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54936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Материальная помощь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казывается работникам, которые по независящим от них причинам оказались в трудной жизненной ситуаци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ожар не по вине гражданина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тихийное бедствие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ража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лительное (более двух месяцев) или срочное лечени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в случае смерти близких родственников и близким родственникам в случае смерти работни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омиссия рассматривает поступившие документы и принимает решение об  оказании  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материальной  помощи  в  сумме  до  3000  (трех  тысяч) рублей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либо об отказе;  назначается единовременно и не чаще одного раза в год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0" y="5229360"/>
            <a:ext cx="140328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6000"/>
                            </p:stCondLst>
                            <p:childTnLst>
                              <p:par>
                                <p:cTn id="4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7000"/>
                            </p:stCondLst>
                            <p:childTnLst>
                              <p:par>
                                <p:cTn id="4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одъёмное пособие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Молодым специалистам МДОУ выплачивается </a:t>
            </a: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единовременное подъемное пособие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в размере 50 000 рублей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за счет средств бюджета города Кургана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осле окончания ими государственных образовательных учреждений высшего профессионального или среднего профессионального образования по очной форме обучения, заключившим трудовой договор о работе по специальности с расположенным на территории города Кургана муниципальным учреждением образования на срок не менее трех лет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работающим по соответствующей специальности в течение трех лет после окончания государственных образовательных учреждений высшего профессионального  или  среднего  профессионального  образ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7020000" y="5608800"/>
            <a:ext cx="187308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0" dur="5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Нормативно-правовые акты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едеральный закон от 06.10.2003 г. № 131-ФЗ «Об общих принципах организации местного самоуправления в Российской Федерации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рудовой кодекс Российской Федерации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став муниципального образования города Курган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ложение об  отраслевой системе оплаты труда работников муниципальных дошкольных образовательных  учреждений города Кургана № 124 от 15.06.2011 года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31052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С ДНЕМ ДОШКОЛЬНОГО РАБОТНИКА!!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59280" y="1989000"/>
            <a:ext cx="33177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Arial Black"/>
              </a:rPr>
              <a:t>ПУСТЬ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Arial Black"/>
              </a:rPr>
              <a:t>ВАС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Arial Black"/>
              </a:rPr>
              <a:t>ПОРАДУЕ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Arial Black"/>
              </a:rPr>
              <a:t>НОВА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Arial Black"/>
              </a:rPr>
              <a:t>ЗАРПЛАТА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372360" y="765000"/>
            <a:ext cx="3016080" cy="3024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19280" y="4437000"/>
            <a:ext cx="2109600" cy="2109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877080" y="427032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11280" y="3716280"/>
            <a:ext cx="2109600" cy="2109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-252360" y="2205000"/>
            <a:ext cx="210960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3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500"/>
                            </p:stCondLst>
                            <p:childTnLst>
                              <p:par>
                                <p:cTn id="5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5072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Базовый оклад   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педагогических работников и младшего обслуживающего персонала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187280" y="1844640"/>
          <a:ext cx="7772400" cy="4784760"/>
        </p:xfrm>
        <a:graphic>
          <a:graphicData uri="http://schemas.openxmlformats.org/drawingml/2006/table">
            <a:tbl>
              <a:tblPr/>
              <a:tblGrid>
                <a:gridCol w="2525760"/>
                <a:gridCol w="2630520"/>
                <a:gridCol w="2616120"/>
              </a:tblGrid>
              <a:tr h="78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валификационные уров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лжности, отнесенные к квалификационным уровн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 увеличения по профессиональным квалификационным уровн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рофессиональная квалификационная группа должностей работников младшего обслуживающего персонала первого уров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омощник воспит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Профессиональная квалификационная группа должностей работников младшего обслуживающего персонала второго уров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квалификационны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Млад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Профессиональная квалификационная группа «Педагогические работн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квалификационны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Музыкальный руко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квалификационны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Воспитатель, педагог-псих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квалификационны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51680" y="5734080"/>
            <a:ext cx="20923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Повышающие коэффициенты педагогическим работникам и младшему обслуживающему персоналу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640" y="2276640"/>
            <a:ext cx="77724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овышающий коэффициент, учитывающий уровень образов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овышающий коэффициент, учитывающий уровень квалификац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овышающий     коэффициент   за   государственные награды, почетное звание Российской Федерации или ССС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04000" y="5730840"/>
            <a:ext cx="20923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Размеры повышающих коэффициентов, учитывающих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уровень образования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педагогических работников :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16000" y="2205000"/>
          <a:ext cx="7772400" cy="4321080"/>
        </p:xfrm>
        <a:graphic>
          <a:graphicData uri="http://schemas.openxmlformats.org/drawingml/2006/table">
            <a:tbl>
              <a:tblPr/>
              <a:tblGrid>
                <a:gridCol w="4579920"/>
                <a:gridCol w="319248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вень образова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, учитывающий уровень образ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шее профессиональное образ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ее профессиональное образ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альное профессиональное образ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</a:tr>
            </a:tbl>
          </a:graphicData>
        </a:graphic>
      </p:graphicFrame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04000" y="5730840"/>
            <a:ext cx="20923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Размеры коэффициентов, учитывающих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уровень квалификации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педагогических работников: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116000" y="2276640"/>
          <a:ext cx="7772400" cy="4176720"/>
        </p:xfrm>
        <a:graphic>
          <a:graphicData uri="http://schemas.openxmlformats.org/drawingml/2006/table">
            <a:tbl>
              <a:tblPr/>
              <a:tblGrid>
                <a:gridCol w="4176720"/>
                <a:gridCol w="3595680"/>
              </a:tblGrid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квалификац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, учитывающий уровень квалифик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ая квалификационная катег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валификационная катег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валификационная катег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</a:tr>
            </a:tbl>
          </a:graphicData>
        </a:graphic>
      </p:graphicFrame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051680" y="5734080"/>
            <a:ext cx="20923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Базовые ставки заработной платы </a:t>
            </a: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служащих</a:t>
            </a: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82600" y="2060640"/>
          <a:ext cx="7772400" cy="4392720"/>
        </p:xfrm>
        <a:graphic>
          <a:graphicData uri="http://schemas.openxmlformats.org/drawingml/2006/table">
            <a:tbl>
              <a:tblPr/>
              <a:tblGrid>
                <a:gridCol w="2532240"/>
                <a:gridCol w="2851200"/>
                <a:gridCol w="238896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ые уров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, отнесенные к квалификационным уровн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 увеличения по профессиональным квалификационным уровн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2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офессиональная квалификационная группа «Общеотраслевые должности служащих первого уровн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валификацион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Делопроизводитель, кладовщик, кастелян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офессиональная квалификационная группа «Общеотраслевые должности служащих второго уровн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валификацион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Шеф-пов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5950080"/>
            <a:ext cx="10796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Базовый оклад </a:t>
            </a: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медицинской сестры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16000" y="2060640"/>
          <a:ext cx="7772400" cy="3830400"/>
        </p:xfrm>
        <a:graphic>
          <a:graphicData uri="http://schemas.openxmlformats.org/drawingml/2006/table">
            <a:tbl>
              <a:tblPr/>
              <a:tblGrid>
                <a:gridCol w="2232000"/>
                <a:gridCol w="2701800"/>
                <a:gridCol w="28386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ые уров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, отнесенные к квалификационным уровн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 увеличения по профессиональным квалификационным уровн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5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офессиональная квалификационная группа «Средний медицинский и фармацевтический персонал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валификацион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едицинская с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валификацион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таршая медицинская с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5516640"/>
            <a:ext cx="14763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3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42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Повышающие коэффициенты , установленные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для старшей медицинской сестры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640" y="227664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вышающий коэффициент, учитывающий уровень образова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вышающий коэффициент, учитывающий уровень квалифик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659640" y="4929120"/>
            <a:ext cx="2268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3:08:12Z</dcterms:created>
  <dc:creator>Admin</dc:creator>
  <dc:description/>
  <dc:language>en-US</dc:language>
  <cp:lastModifiedBy>Admin</cp:lastModifiedBy>
  <dcterms:modified xsi:type="dcterms:W3CDTF">2011-09-26T17:09:41Z</dcterms:modified>
  <cp:revision>12</cp:revision>
  <dc:subject/>
  <dc:title>ПОЛОЖЕНИЕ </dc:title>
</cp:coreProperties>
</file>