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gif" ContentType="image/gif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67A0-0901-430E-8A19-C00044D62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C97C-8F7C-424E-AD0C-786AA26AC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34D5-1331-4CA6-82A9-F95FF528A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54A6-E6B8-41CB-AA9E-B96E60264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E683-8C9B-4DBD-91D5-CDE17ACB6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E033-9258-4E85-BA1A-119180F10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B242-D0CD-40FE-8C34-304E3CE0F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2714-33B5-4E92-A3CF-E65DD2189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B7AF-4D04-40D0-A357-FBF15906F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FC1D-BA5A-4B4C-8243-D041D3A3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D399-5B01-44E4-B0D3-A4F19C18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2E31-0654-48F7-B059-20A9ED93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98A35-7565-41C8-BA43-26C126728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601200" cy="7086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14400" y="56386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БДОУ Детский сад №79 компенсирующего вида   Фрунзенского района города Санкт-Петербурга «Семицвет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3809880"/>
            <a:ext cx="94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втор: Прокофьева Н. А., воспитатель высшей катег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286000" y="2286000"/>
            <a:ext cx="49244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накомство с цифрой 1 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286000" y="533520"/>
            <a:ext cx="4971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езентация к занятию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486400" y="380880"/>
            <a:ext cx="114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comic"/>
              </a:rPr>
              <a:t>Т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96080" y="5029200"/>
            <a:ext cx="114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comic"/>
              </a:rPr>
              <a:t>У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590920"/>
            <a:ext cx="205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comic"/>
              </a:rPr>
              <a:t>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43800" y="2590920"/>
            <a:ext cx="129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comic"/>
              </a:rPr>
              <a:t>М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848720" y="228600"/>
            <a:ext cx="129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comic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4876920"/>
            <a:ext cx="1752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comic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304920"/>
            <a:ext cx="1447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comic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71800" y="38088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comic"/>
              </a:rPr>
              <a:t>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495288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comic"/>
              </a:rPr>
              <a:t>Т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410080" y="2590920"/>
            <a:ext cx="121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comic"/>
              </a:rPr>
              <a:t>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4952880"/>
            <a:ext cx="129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comic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2590920"/>
            <a:ext cx="121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comic"/>
              </a:rPr>
              <a:t>У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09480" y="533520"/>
            <a:ext cx="1905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15000" y="60948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comic"/>
              </a:rPr>
              <a:t>Т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895480" y="609480"/>
            <a:ext cx="137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comic"/>
              </a:rPr>
              <a:t>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391520" y="2895480"/>
            <a:ext cx="129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comic"/>
              </a:rPr>
              <a:t>М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43800" y="4952880"/>
            <a:ext cx="99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comic"/>
              </a:rPr>
              <a:t>У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05520" y="2819520"/>
            <a:ext cx="1447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comic"/>
              </a:rPr>
              <a:t>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5105520"/>
            <a:ext cx="99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comic"/>
              </a:rPr>
              <a:t>Т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971800"/>
            <a:ext cx="152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comic"/>
              </a:rPr>
              <a:t>У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Картинка 16 из 50440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715000" cy="47908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752480" y="1219320"/>
            <a:ext cx="571500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609480" y="380880"/>
            <a:ext cx="44197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идактическое упражнение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1143000"/>
            <a:ext cx="4495680" cy="12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Геометрические фигуры"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867280" y="1265400"/>
            <a:ext cx="2819520" cy="55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Вот фигуры – непоседы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Любят в прятки поигр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Так давайте их, ребят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Будем глазками иск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Влево, вправо посмотрит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Поищите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Где же круг? (Справ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И тебя мы отыска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Вот он гд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Любимый дру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Дружно глянем все налев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Что же там? (Квадрат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Где же там квад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Не уйти тебе проказник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От пытливых глаз ребя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Вниз глазами поведём, (Треугольник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Треугольник там найдё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Это – треугольни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А где – прямоугольник? (Наверх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90720" y="2666880"/>
            <a:ext cx="3467160" cy="36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762120" y="0"/>
            <a:ext cx="7772400" cy="23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идактическая игра «Что изменилось?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666880" y="2438280"/>
            <a:ext cx="383868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762120" y="0"/>
            <a:ext cx="7772400" cy="23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идактическая игра «Что изменилось?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666880" y="2438280"/>
            <a:ext cx="383868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762120" y="0"/>
            <a:ext cx="7772400" cy="23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идактическая игра «Что изменилось?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124080" y="2895480"/>
            <a:ext cx="2952720" cy="32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514600" y="2590920"/>
            <a:ext cx="4191120" cy="40384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324480" y="403848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Этот пальчик - дедуш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6324120" y="43434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19920" y="2362320"/>
            <a:ext cx="281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Этот пальчик - бабуш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715000" y="2666880"/>
            <a:ext cx="9144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342900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А этот пальчик - 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3733920"/>
            <a:ext cx="9907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1371600"/>
            <a:ext cx="312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Этот пальчик - папоч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648320" y="1752480"/>
            <a:ext cx="3808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190512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Этот пальчик - мамоч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209680"/>
            <a:ext cx="9144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60199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т и вся моя сем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09480" y="457200"/>
            <a:ext cx="80773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зминка для пальчиков ру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200400" y="380880"/>
            <a:ext cx="25146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Без корзинки, без лукош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 лес пошёл лисёнок крош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ходил он, поброд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 грибок нашёл…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один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295280" y="380880"/>
            <a:ext cx="7658280" cy="59436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1143000" y="228600"/>
            <a:ext cx="6400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ластилинограф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Картинка 9 из 17903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Картинка 12 из 20979"/>
          <p:cNvPicPr/>
          <p:nvPr/>
        </p:nvPicPr>
        <p:blipFill>
          <a:blip r:embed="rId1"/>
          <a:stretch/>
        </p:blipFill>
        <p:spPr>
          <a:xfrm>
            <a:off x="-228600" y="0"/>
            <a:ext cx="9753480" cy="701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Картинка 173 из 227437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Картинка 158 из 165504"/>
          <p:cNvPicPr/>
          <p:nvPr/>
        </p:nvPicPr>
        <p:blipFill>
          <a:blip r:embed="rId1"/>
          <a:stretch/>
        </p:blipFill>
        <p:spPr>
          <a:xfrm>
            <a:off x="533520" y="457200"/>
            <a:ext cx="4573440" cy="5791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562720" y="2209680"/>
            <a:ext cx="2819160" cy="42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льдине жил один пингвин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улял по льдине он один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кучал пингвин, грустил пингв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реди снегов и белых льд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 был бы у него дружок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 так бы был он один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477120" y="533520"/>
            <a:ext cx="990360" cy="11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828800" y="2209680"/>
            <a:ext cx="1828800" cy="333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/>
          <p:nvPr/>
        </p:nvSpPr>
        <p:spPr>
          <a:xfrm>
            <a:off x="4800600" y="2895480"/>
            <a:ext cx="320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Эта цифра – едини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идишь, как она горди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, вы, знаете 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чинает счёт вс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133720" y="533520"/>
            <a:ext cx="44193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Цифра 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Treme</cp:lastModifiedBy>
  <dcterms:modified xsi:type="dcterms:W3CDTF">2012-01-27T17:56:31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