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9AD-C82D-4E71-B62F-8771BCF6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E9B-13D4-4FB0-B231-283C383A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613-F302-4345-835B-F68995A0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3E9-565C-470A-8A36-EA9A1C7D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6BC4-C167-4BA9-87FD-34E8BEE8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766E-3A70-49C8-932D-3060DDA3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6776-72A5-4D00-91AB-FBBBB1F1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2777-167E-4E65-89D6-9F0ACED9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066-E6AA-48B8-9E77-92D22B2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7370-7802-4E7B-97BF-0058394F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9570-5E24-4725-9F36-6B535320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DFA-DBFB-4690-874E-C7DDA8FB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F8C1-6E7B-43D0-A5C0-190CFE35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2F5F-EE93-4543-B11D-82A24585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D440-E6FB-4B45-A412-79A11AA4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52DD-319E-443C-8BDC-C730818A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C957-1091-47E4-8357-FE776D04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78E-992D-43D6-A275-62BBD4F2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7C5-2C3C-4D5A-9997-A217D3AC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AC1-81ED-4CF9-8385-73751481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886-034B-4BAD-AE97-8F0BC19A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A27-7A9E-498A-BE16-7850BBE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A57-8A43-4EA8-B49E-17C97C2D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9EC-014F-4621-87FB-EF1D7D1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3F14-A120-40F2-99AF-0A51FE327D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C7B4-C5A8-43A3-9D66-369471270C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92360" y="115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«Гимназия №152» Кировского района г.Каза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1125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Животные Аркт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2708280"/>
            <a:ext cx="5976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сиков Виталий Серг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к 4 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Гимназия №152» Кировского района г.Каза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 - Ахметзянова Гульнур Заки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 1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Гимназия №152» Кировского района г.Каза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908000" y="61657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юлень(детёны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87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юл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808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042920" y="595008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ага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76360" y="6021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ая Гага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71640" y="59500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а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587700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ай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476360" y="6165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р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116000" y="602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р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332000" y="59500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вцебы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332000" y="5950080"/>
            <a:ext cx="61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03280" y="5950080"/>
            <a:ext cx="590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19280" y="59500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вцебы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47640" y="260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7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Животные Арк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250920" y="1341360"/>
            <a:ext cx="2520720" cy="647640"/>
          </a:xfrm>
          <a:custGeom>
            <a:avLst/>
            <a:gdLst>
              <a:gd name="textAreaLeft" fmla="*/ 41760 w 2520720"/>
              <a:gd name="textAreaRight" fmla="*/ 2478960 w 25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4036" h="21600">
                <a:moveTo>
                  <a:pt x="0" y="0"/>
                </a:moveTo>
                <a:lnTo>
                  <a:pt x="84036" y="0"/>
                </a:lnTo>
                <a:lnTo>
                  <a:pt x="84036" y="21600"/>
                </a:lnTo>
                <a:lnTo>
                  <a:pt x="0" y="21600"/>
                </a:lnTo>
                <a:close/>
              </a:path>
              <a:path fill="lightenLess" w="84036" h="21600">
                <a:moveTo>
                  <a:pt x="0" y="0"/>
                </a:moveTo>
                <a:lnTo>
                  <a:pt x="84036" y="0"/>
                </a:lnTo>
                <a:lnTo>
                  <a:pt x="82636" y="1400"/>
                </a:lnTo>
                <a:lnTo>
                  <a:pt x="1400" y="1400"/>
                </a:lnTo>
                <a:close/>
              </a:path>
              <a:path fill="darken" w="84036" h="21600">
                <a:moveTo>
                  <a:pt x="84036" y="0"/>
                </a:moveTo>
                <a:lnTo>
                  <a:pt x="84036" y="21600"/>
                </a:lnTo>
                <a:lnTo>
                  <a:pt x="82636" y="20200"/>
                </a:lnTo>
                <a:lnTo>
                  <a:pt x="82636" y="1400"/>
                </a:lnTo>
                <a:close/>
              </a:path>
              <a:path fill="darkenLess" w="84036" h="21600">
                <a:moveTo>
                  <a:pt x="8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636" y="20200"/>
                </a:lnTo>
                <a:close/>
              </a:path>
              <a:path fill="lighten" w="8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249228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лые медве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789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й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80000" y="371628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йки(рыб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80000" y="1341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юл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80000" y="249228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г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96000" y="1341360"/>
            <a:ext cx="2448000" cy="576360"/>
          </a:xfrm>
          <a:custGeom>
            <a:avLst/>
            <a:gdLst>
              <a:gd name="textAreaLeft" fmla="*/ 37080 w 2448000"/>
              <a:gd name="textAreaRight" fmla="*/ 2410920 w 24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99" h="21600">
                <a:moveTo>
                  <a:pt x="0" y="0"/>
                </a:moveTo>
                <a:lnTo>
                  <a:pt x="91699" y="0"/>
                </a:lnTo>
                <a:lnTo>
                  <a:pt x="91699" y="21600"/>
                </a:lnTo>
                <a:lnTo>
                  <a:pt x="0" y="21600"/>
                </a:lnTo>
                <a:close/>
              </a:path>
              <a:path fill="lightenLess" w="91699" h="21600">
                <a:moveTo>
                  <a:pt x="0" y="0"/>
                </a:moveTo>
                <a:lnTo>
                  <a:pt x="91699" y="0"/>
                </a:lnTo>
                <a:lnTo>
                  <a:pt x="90299" y="1400"/>
                </a:lnTo>
                <a:lnTo>
                  <a:pt x="1400" y="1400"/>
                </a:lnTo>
                <a:close/>
              </a:path>
              <a:path fill="darken" w="91699" h="21600">
                <a:moveTo>
                  <a:pt x="91699" y="0"/>
                </a:moveTo>
                <a:lnTo>
                  <a:pt x="91699" y="21600"/>
                </a:lnTo>
                <a:lnTo>
                  <a:pt x="90299" y="20200"/>
                </a:lnTo>
                <a:lnTo>
                  <a:pt x="90299" y="1400"/>
                </a:lnTo>
                <a:close/>
              </a:path>
              <a:path fill="darkenLess" w="91699" h="21600">
                <a:moveTo>
                  <a:pt x="91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9" y="20200"/>
                </a:lnTo>
                <a:close/>
              </a:path>
              <a:path fill="lighten" w="91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р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6000" y="2492280"/>
            <a:ext cx="2448000" cy="576360"/>
          </a:xfrm>
          <a:custGeom>
            <a:avLst/>
            <a:gdLst>
              <a:gd name="textAreaLeft" fmla="*/ 37080 w 2448000"/>
              <a:gd name="textAreaRight" fmla="*/ 2410920 w 24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99" h="21600">
                <a:moveTo>
                  <a:pt x="0" y="0"/>
                </a:moveTo>
                <a:lnTo>
                  <a:pt x="91699" y="0"/>
                </a:lnTo>
                <a:lnTo>
                  <a:pt x="91699" y="21600"/>
                </a:lnTo>
                <a:lnTo>
                  <a:pt x="0" y="21600"/>
                </a:lnTo>
                <a:close/>
              </a:path>
              <a:path fill="lightenLess" w="91699" h="21600">
                <a:moveTo>
                  <a:pt x="0" y="0"/>
                </a:moveTo>
                <a:lnTo>
                  <a:pt x="91699" y="0"/>
                </a:lnTo>
                <a:lnTo>
                  <a:pt x="90299" y="1400"/>
                </a:lnTo>
                <a:lnTo>
                  <a:pt x="1400" y="1400"/>
                </a:lnTo>
                <a:close/>
              </a:path>
              <a:path fill="darken" w="91699" h="21600">
                <a:moveTo>
                  <a:pt x="91699" y="0"/>
                </a:moveTo>
                <a:lnTo>
                  <a:pt x="91699" y="21600"/>
                </a:lnTo>
                <a:lnTo>
                  <a:pt x="90299" y="20200"/>
                </a:lnTo>
                <a:lnTo>
                  <a:pt x="90299" y="1400"/>
                </a:lnTo>
                <a:close/>
              </a:path>
              <a:path fill="darkenLess" w="91699" h="21600">
                <a:moveTo>
                  <a:pt x="91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9" y="20200"/>
                </a:lnTo>
                <a:close/>
              </a:path>
              <a:path fill="lighten" w="91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вцеб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797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уп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96000" y="3716280"/>
            <a:ext cx="2448000" cy="576360"/>
          </a:xfrm>
          <a:custGeom>
            <a:avLst/>
            <a:gdLst>
              <a:gd name="textAreaLeft" fmla="*/ 37080 w 2448000"/>
              <a:gd name="textAreaRight" fmla="*/ 2410920 w 24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99" h="21600">
                <a:moveTo>
                  <a:pt x="0" y="0"/>
                </a:moveTo>
                <a:lnTo>
                  <a:pt x="91699" y="0"/>
                </a:lnTo>
                <a:lnTo>
                  <a:pt x="91699" y="21600"/>
                </a:lnTo>
                <a:lnTo>
                  <a:pt x="0" y="21600"/>
                </a:lnTo>
                <a:close/>
              </a:path>
              <a:path fill="lightenLess" w="91699" h="21600">
                <a:moveTo>
                  <a:pt x="0" y="0"/>
                </a:moveTo>
                <a:lnTo>
                  <a:pt x="91699" y="0"/>
                </a:lnTo>
                <a:lnTo>
                  <a:pt x="90299" y="1400"/>
                </a:lnTo>
                <a:lnTo>
                  <a:pt x="1400" y="1400"/>
                </a:lnTo>
                <a:close/>
              </a:path>
              <a:path fill="darken" w="91699" h="21600">
                <a:moveTo>
                  <a:pt x="91699" y="0"/>
                </a:moveTo>
                <a:lnTo>
                  <a:pt x="91699" y="21600"/>
                </a:lnTo>
                <a:lnTo>
                  <a:pt x="90299" y="20200"/>
                </a:lnTo>
                <a:lnTo>
                  <a:pt x="90299" y="1400"/>
                </a:lnTo>
                <a:close/>
              </a:path>
              <a:path fill="darkenLess" w="91699" h="21600">
                <a:moveTo>
                  <a:pt x="91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9" y="20200"/>
                </a:lnTo>
                <a:close/>
              </a:path>
              <a:path fill="lighten" w="91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10925"/>
                </a:moveTo>
                <a:lnTo>
                  <a:pt x="17806" y="3918"/>
                </a:lnTo>
                <a:lnTo>
                  <a:pt x="17806" y="1793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476360" y="59500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ач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5898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116000" y="602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ач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5816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айка на бере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7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6165720"/>
            <a:ext cx="7417080" cy="52056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озовая ча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116000" y="61657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елый медв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116000" y="5877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елый медв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55640" y="5877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ай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71640" y="6021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уп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58920" y="59500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уп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008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58:02Z</dcterms:created>
  <dc:creator>Виталик</dc:creator>
  <dc:description/>
  <dc:language>en-US</dc:language>
  <cp:lastModifiedBy>1</cp:lastModifiedBy>
  <dcterms:modified xsi:type="dcterms:W3CDTF">2011-03-09T15:51:54Z</dcterms:modified>
  <cp:revision>5</cp:revision>
  <dc:subject/>
  <dc:title>Слайд 1</dc:title>
</cp:coreProperties>
</file>