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52E-1A28-429D-88E4-F6E796AC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D04-9BA8-46C5-A6A7-7A5761B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9B7-CF03-4D25-B343-1C159EDB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F22-F892-4993-ADD6-3FDA71B8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9B2-218F-4088-8F9F-0B1FBE8B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F88-BE30-4E6C-AF8C-3604355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F31-824A-4322-A94E-0AAED474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F15-0E06-410E-9A13-AA785716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250-DE46-43DD-BE48-075A81A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5EA-3AEF-4C89-90CD-3EE0A36D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7E1-B85D-4115-A476-265E307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49B-4397-45C4-BF8A-241A07F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82E-8E5F-48AF-9D12-40236E860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 рисунке изображен график 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(-9;8). Найдите количество точек, в которых касательная к графику фун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параллельна               прямой у=х-7 или совпадает с ней.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A.E10.B8.88_dop/innerimg0.jpg"/>
          <p:cNvPicPr/>
          <p:nvPr/>
        </p:nvPicPr>
        <p:blipFill>
          <a:blip r:embed="rId1"/>
          <a:stretch/>
        </p:blipFill>
        <p:spPr>
          <a:xfrm>
            <a:off x="4648320" y="2693880"/>
            <a:ext cx="40384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На рисунке изображе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6;8). Определите количество целых точек, в которых производная функции положите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task-1/ps/task-1.2"/>
          <p:cNvPicPr/>
          <p:nvPr/>
        </p:nvPicPr>
        <p:blipFill>
          <a:blip r:embed="rId1"/>
          <a:stretch/>
        </p:blipFill>
        <p:spPr>
          <a:xfrm>
            <a:off x="1332000" y="2205000"/>
            <a:ext cx="684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 рисунке изображен график 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(-5;5) . Определите количество целых точек, в которых производная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 отрицате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MA.E10.B8.104_dop/innerimg0.jpg"/>
          <p:cNvPicPr/>
          <p:nvPr/>
        </p:nvPicPr>
        <p:blipFill>
          <a:blip r:embed="rId1"/>
          <a:stretch/>
        </p:blipFill>
        <p:spPr>
          <a:xfrm>
            <a:off x="2278080" y="2567160"/>
            <a:ext cx="46101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На рисунке изображе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2;12). Найдите сумму точек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ask-3/ps/task-3.2"/>
          <p:cNvPicPr/>
          <p:nvPr/>
        </p:nvPicPr>
        <p:blipFill>
          <a:blip r:embed="rId1"/>
          <a:stretch/>
        </p:blipFill>
        <p:spPr>
          <a:xfrm>
            <a:off x="684360" y="2060640"/>
            <a:ext cx="7775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На рисунке изображен график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8;3). В какой точке отрезка от -3 до 2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принимает наибольше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task-4/ps/task-4.1"/>
          <p:cNvPicPr/>
          <p:nvPr/>
        </p:nvPicPr>
        <p:blipFill>
          <a:blip r:embed="rId1"/>
          <a:stretch/>
        </p:blipFill>
        <p:spPr>
          <a:xfrm>
            <a:off x="1403280" y="2205000"/>
            <a:ext cx="604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На рисунке изображен график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8;4). В какой точке отрезка  от -7 до -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принимает наименьше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task-4/ps/task-4.7"/>
          <p:cNvPicPr/>
          <p:nvPr/>
        </p:nvPicPr>
        <p:blipFill>
          <a:blip r:embed="rId1"/>
          <a:stretch/>
        </p:blipFill>
        <p:spPr>
          <a:xfrm>
            <a:off x="1332000" y="2133720"/>
            <a:ext cx="640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(-7;14). Найдите количество точек максимума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 на отрезке от -6 до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task-5/ps/task-5.1"/>
          <p:cNvPicPr/>
          <p:nvPr/>
        </p:nvPicPr>
        <p:blipFill>
          <a:blip r:embed="rId1"/>
          <a:stretch/>
        </p:blipFill>
        <p:spPr>
          <a:xfrm>
            <a:off x="900000" y="2133720"/>
            <a:ext cx="6912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. На рисунке изображен график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18;6). Найдите количество точек мини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на отрезке от -13 до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ask-5/ps/task-5.3"/>
          <p:cNvPicPr/>
          <p:nvPr/>
        </p:nvPicPr>
        <p:blipFill>
          <a:blip r:embed="rId1"/>
          <a:stretch/>
        </p:blipFill>
        <p:spPr>
          <a:xfrm>
            <a:off x="755640" y="2133720"/>
            <a:ext cx="756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(-11;11). Найдите количество точек экстремума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 на отрезке от -10 до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task-5/ps/task-5.5"/>
          <p:cNvPicPr/>
          <p:nvPr/>
        </p:nvPicPr>
        <p:blipFill>
          <a:blip r:embed="rId1"/>
          <a:stretch/>
        </p:blipFill>
        <p:spPr>
          <a:xfrm>
            <a:off x="611280" y="1916280"/>
            <a:ext cx="7777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(-11;11). Найдите количество точек экстремума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 на отрезке от -10 до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task-5/ps/task-5.5"/>
          <p:cNvPicPr/>
          <p:nvPr/>
        </p:nvPicPr>
        <p:blipFill>
          <a:blip r:embed="rId1"/>
          <a:stretch/>
        </p:blipFill>
        <p:spPr>
          <a:xfrm>
            <a:off x="900000" y="2060640"/>
            <a:ext cx="727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и, определенной на интервале   (-5;7). Найдите промежутки убывания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. В ответе укажите сумму целых точек, входящих в эти промеж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sk-6/ps/task-6.9"/>
          <p:cNvPicPr/>
          <p:nvPr/>
        </p:nvPicPr>
        <p:blipFill>
          <a:blip r:embed="rId1"/>
          <a:stretch/>
        </p:blipFill>
        <p:spPr>
          <a:xfrm>
            <a:off x="468360" y="2060640"/>
            <a:ext cx="7559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 рисунке изображен график 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(-9;8).. Найдите количество точек, в которых касательная к графику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 параллельна прямой              у=-х+8 или совпадает с ней.(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A.E10.B8.90_dop/innerimg0.jpg"/>
          <p:cNvPicPr/>
          <p:nvPr/>
        </p:nvPicPr>
        <p:blipFill>
          <a:blip r:embed="rId1"/>
          <a:stretch/>
        </p:blipFill>
        <p:spPr>
          <a:xfrm>
            <a:off x="1187280" y="2781360"/>
            <a:ext cx="5670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 (-11;3). Найдите промежутки возрастания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. В ответе укажите длину наибольшего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task-7/ps/task-7.1"/>
          <p:cNvPicPr/>
          <p:nvPr/>
        </p:nvPicPr>
        <p:blipFill>
          <a:blip r:embed="rId1"/>
          <a:stretch/>
        </p:blipFill>
        <p:spPr>
          <a:xfrm>
            <a:off x="1042920" y="1989000"/>
            <a:ext cx="7274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(-2;12). Найдите промежутки убывания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. В ответе укажите длину наибольшего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task-7/ps/task-7.3"/>
          <p:cNvPicPr/>
          <p:nvPr/>
        </p:nvPicPr>
        <p:blipFill>
          <a:blip r:embed="rId1"/>
          <a:stretch/>
        </p:blipFill>
        <p:spPr>
          <a:xfrm>
            <a:off x="755640" y="1916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(-10;2). Найдите количество точек, в которых касательная к графику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параллельна прямой                           у=-2х-11 или совпадает с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ask-8/ps/task-8.1"/>
          <p:cNvPicPr/>
          <p:nvPr/>
        </p:nvPicPr>
        <p:blipFill>
          <a:blip r:embed="rId1"/>
          <a:stretch/>
        </p:blipFill>
        <p:spPr>
          <a:xfrm>
            <a:off x="468360" y="2060640"/>
            <a:ext cx="799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. На рисунке изображен график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4;8). Найдите точку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на отрезке от -2до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task-9/ps/task-9.2"/>
          <p:cNvPicPr/>
          <p:nvPr/>
        </p:nvPicPr>
        <p:blipFill>
          <a:blip r:embed="rId1"/>
          <a:stretch/>
        </p:blipFill>
        <p:spPr>
          <a:xfrm>
            <a:off x="611280" y="1989000"/>
            <a:ext cx="799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. На рисунке изображё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и касательная к нему в точке с абсциссой х0. Найдите значение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в точке х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task-14/ps/task-14.26"/>
          <p:cNvPicPr/>
          <p:nvPr/>
        </p:nvPicPr>
        <p:blipFill>
          <a:blip r:embed="rId1"/>
          <a:stretch/>
        </p:blipFill>
        <p:spPr>
          <a:xfrm>
            <a:off x="539640" y="1916280"/>
            <a:ext cx="4608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. На рисунке изображё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и касательная к нему в точке с абсциссой х0. Найдите значение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в точке х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ask-14/ps/task-14.4"/>
          <p:cNvPicPr/>
          <p:nvPr/>
        </p:nvPicPr>
        <p:blipFill>
          <a:blip r:embed="rId1"/>
          <a:stretch/>
        </p:blipFill>
        <p:spPr>
          <a:xfrm>
            <a:off x="2124000" y="1916280"/>
            <a:ext cx="3521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. На рисунке изображё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и касательная к нему в точке с абсциссой х0. Найдите значение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в точке х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task-14/ps/task-14.52"/>
          <p:cNvPicPr/>
          <p:nvPr/>
        </p:nvPicPr>
        <p:blipFill>
          <a:blip r:embed="rId1"/>
          <a:stretch/>
        </p:blipFill>
        <p:spPr>
          <a:xfrm>
            <a:off x="2050920" y="1844640"/>
            <a:ext cx="446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8. На рисунке изображё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и касательная к нему в точке с абсциссой х0. Найдите значение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в точке х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task-14/ps/task-14.2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. На рисунке изображен 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. Прямая, проходящая через начало координат, касается графика этой функции в точке с абсциссой 8. Найдите значение производной в точке х=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protob8-23"/>
          <p:cNvPicPr/>
          <p:nvPr/>
        </p:nvPicPr>
        <p:blipFill>
          <a:blip r:embed="rId1"/>
          <a:stretch/>
        </p:blipFill>
        <p:spPr>
          <a:xfrm>
            <a:off x="2452680" y="2309760"/>
            <a:ext cx="42386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. Найдите абсциссу точки, в которой касательная к граф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 параллельна прямой  у=2х-2  или совпадает с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protob8-24"/>
          <p:cNvPicPr/>
          <p:nvPr/>
        </p:nvPicPr>
        <p:blipFill>
          <a:blip r:embed="rId1"/>
          <a:stretch/>
        </p:blipFill>
        <p:spPr>
          <a:xfrm>
            <a:off x="2327400" y="1989000"/>
            <a:ext cx="4489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 рисунке изображен график 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  определенной на интервале     (-9;8).. В какой точке отрезка  от -5 до -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  принимает наименьшее зна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MA.E10.B8.92_dop/innerimg0.jpg"/>
          <p:cNvPicPr/>
          <p:nvPr/>
        </p:nvPicPr>
        <p:blipFill>
          <a:blip r:embed="rId1"/>
          <a:stretch/>
        </p:blipFill>
        <p:spPr>
          <a:xfrm>
            <a:off x="900000" y="2492280"/>
            <a:ext cx="7272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1. На рисунке изображен график производ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. Найдите абсциссу точки, в которой касательная к граф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 параллельна оси абсцисс или совпадает с 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protob8-23"/>
          <p:cNvPicPr/>
          <p:nvPr/>
        </p:nvPicPr>
        <p:blipFill>
          <a:blip r:embed="rId1"/>
          <a:stretch/>
        </p:blipFill>
        <p:spPr>
          <a:xfrm>
            <a:off x="2301840" y="1916280"/>
            <a:ext cx="45608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. На рисунке изображен графи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(-5;5). Найдите количество точек, в которых производна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равна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MA.E10.B8.102_dop/innerimg0.jpg"/>
          <p:cNvPicPr/>
          <p:nvPr/>
        </p:nvPicPr>
        <p:blipFill>
          <a:blip r:embed="rId1"/>
          <a:stretch/>
        </p:blipFill>
        <p:spPr>
          <a:xfrm>
            <a:off x="2266920" y="2496960"/>
            <a:ext cx="46101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 рисунке изображен график 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(-6;6). В какой точке отрезка от 3 до 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  принимает наибольше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A.E10.B8.96_dop/innerimg0.jpg"/>
          <p:cNvPicPr/>
          <p:nvPr/>
        </p:nvPicPr>
        <p:blipFill>
          <a:blip r:embed="rId1"/>
          <a:stretch/>
        </p:blipFill>
        <p:spPr>
          <a:xfrm>
            <a:off x="4952880" y="1600200"/>
            <a:ext cx="3427560" cy="218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 рисунке изображен график 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    (-6;6). Найдите точку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на интервале  (-4;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MA.E10.B8.98_dop/innerimg0.jpg"/>
          <p:cNvPicPr/>
          <p:nvPr/>
        </p:nvPicPr>
        <p:blipFill>
          <a:blip r:embed="rId1"/>
          <a:stretch/>
        </p:blipFill>
        <p:spPr>
          <a:xfrm>
            <a:off x="1992240" y="2509920"/>
            <a:ext cx="51818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 рисунке изображен график 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 определенной на интервале (-5;5). Найдите количество точек, в которых касательная к графику функции параллельна прямой у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MA.E10.B8.102_dop/innerimg0.jpg"/>
          <p:cNvPicPr/>
          <p:nvPr/>
        </p:nvPicPr>
        <p:blipFill>
          <a:blip r:embed="rId1"/>
          <a:stretch/>
        </p:blipFill>
        <p:spPr>
          <a:xfrm>
            <a:off x="826920" y="2133720"/>
            <a:ext cx="7129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, На рисунке изображен график 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, определенной на интервале (-5;5). Определите количество целых точек, в которых производная функ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 отрицате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.E10.B8.104_dop/innerimg0.jpg"/>
          <p:cNvPicPr/>
          <p:nvPr/>
        </p:nvPicPr>
        <p:blipFill>
          <a:blip r:embed="rId1"/>
          <a:stretch/>
        </p:blipFill>
        <p:spPr>
          <a:xfrm>
            <a:off x="755640" y="2060640"/>
            <a:ext cx="7345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На рисунке изображен график 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    (-5;5). В какой точке отрезка от -4 до                -1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принимает наименьше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.E10.B8.106_dop/innerimg0.jpg"/>
          <p:cNvPicPr/>
          <p:nvPr/>
        </p:nvPicPr>
        <p:blipFill>
          <a:blip r:embed="rId1"/>
          <a:stretch/>
        </p:blipFill>
        <p:spPr>
          <a:xfrm>
            <a:off x="2268360" y="2470320"/>
            <a:ext cx="4629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На рисунке изображен график 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, определенной на интервале     (-5;5). Найдите количество точек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 на отрезке от -4 до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MA.E10.B8.108_dop/innerimg0.jpg"/>
          <p:cNvPicPr/>
          <p:nvPr/>
        </p:nvPicPr>
        <p:blipFill>
          <a:blip r:embed="rId1"/>
          <a:stretch/>
        </p:blipFill>
        <p:spPr>
          <a:xfrm>
            <a:off x="2268360" y="2470320"/>
            <a:ext cx="4629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7:32:38Z</dcterms:created>
  <dc:creator>User</dc:creator>
  <dc:description/>
  <dc:language>en-US</dc:language>
  <cp:lastModifiedBy>admin</cp:lastModifiedBy>
  <dcterms:modified xsi:type="dcterms:W3CDTF">2012-03-09T07:47:55Z</dcterms:modified>
  <cp:revision>7</cp:revision>
  <dc:subject/>
  <dc:title>Слайд 1</dc:title>
</cp:coreProperties>
</file>