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0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2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6.jpeg" ContentType="image/jpeg"/>
  <Override PartName="/ppt/media/image8.png" ContentType="image/png"/>
  <Override PartName="/ppt/media/image14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86C11-41DA-4CBB-8335-69A2B40A8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312F9-6CC3-4949-8728-0D609D547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BC160-4C01-4B4D-8AB7-2E4C860B2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CFF01-A55D-4B9C-852C-8285CE6C6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ED988-9911-4EC4-9FF6-E05F644EF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43260-0B56-4643-A97F-75F75934A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6F700-6D34-432E-8341-D41D18D66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2B729-933A-49F8-A3AB-26E8705F7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44CE0-9BCA-4A81-AF38-3C4A4C0DD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B9DEF-4626-4023-BDAF-878E0B3E5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DDE1B-9AB1-4D1A-85C4-BE909D4A7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06EBE-7B8D-4F52-8A28-5297A598F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599F9-EBE7-41C6-A8D2-B495E8D86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187C5-3246-42D8-A504-001A08DD9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50EFD-3D44-4438-A753-009D27362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72AAF-D686-4963-97F4-7C5DE5340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5BF9A-B7AF-4A8A-8CCC-8FCC62798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C6373-8E89-4790-9E32-A2A2F8A5D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2375D-FD15-40DF-867D-212803234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39041-E0BD-4911-9091-A2C8AEE7F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BBB49-EBD7-45F8-AD46-E63C2A4A6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C1B60-D4B7-4692-96BC-120E8F2C1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3D103-BFD9-4C7D-BC21-A18BD4ACE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AD8A0-635C-41AA-8072-B33A4E162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935E9-2FCD-4E8E-9807-DC78EFB9889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B0A32-373C-40C3-B004-BB18E731DA7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hyperlink" Target="http://images.google.ru/imgres?imgurl=http://content.foto.mail.ru/mail/artemanatolevich/855/i-860.jpg&amp;imgrefurl=http://foto.mail.ru/mail/artemanatolevich/855/860.html&amp;usg=__21puFOQhJI549Gd_NQFnnpaAIyQ=&amp;h=600&amp;w=450&amp;sz=30&amp;hl=ru&amp;start=623&amp;um=1&amp;tbnid=6Cree3rp9Cu5gM:&amp;tbnh=135&amp;tbnw=101&amp;prev=/images%3Fq%3D%25D0%25B2%25D0%25B8%25D0%25B4%25D1%258B%2B%25D0%25BA%25D1%2583%25D0%25BA%25D0%25BE%25D0%25BB%2B%25D1%2584%25D0%25BE%25D1%2582%25D0%25BE%25D0%25B3%25D1%2580%25D0%25B0%25D1%2584%25D0%25B8%25D0%25B8%26ndsp%3D20%26hl%3Dru%26lr%3D%26sa%3DN%26start%3D620%26um%3D1%26newwindow%3D1" TargetMode="External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7.jpe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440" y="404640"/>
            <a:ext cx="8134200" cy="60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800000"/>
                </a:solidFill>
                <a:latin typeface="Tahoma"/>
              </a:rPr>
              <a:t>МОУ Яковлевская средняя общеобразовательная школа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0" lang="en-US" sz="4000" spc="-1" strike="noStrike">
                <a:solidFill>
                  <a:srgbClr val="800000"/>
                </a:solidFill>
                <a:latin typeface="Tahoma"/>
              </a:rPr>
              <a:t>«Театр на ладошке. Конструирование пальчиковых кукол на основе туловища – трубочки»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800000"/>
                </a:solidFill>
                <a:latin typeface="Tahoma"/>
              </a:rPr>
              <a:t>2009 год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684360" y="4292640"/>
            <a:ext cx="2592360" cy="20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Tahoma"/>
              </a:rPr>
              <a:t>БОЛЬШАЯ НАПОЛЬНАЯ КУКЛА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468360" y="1700280"/>
            <a:ext cx="2576520" cy="453708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5219640" y="1700280"/>
            <a:ext cx="3591000" cy="269244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564000" y="3429000"/>
            <a:ext cx="2187360" cy="29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6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6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4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9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4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Tahoma"/>
              </a:rPr>
              <a:t>ЛЮДИ-КУКЛЫ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395280" y="1484280"/>
            <a:ext cx="4189320" cy="31417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 (700x495, 95Kb)"/>
          <p:cNvPicPr/>
          <p:nvPr/>
        </p:nvPicPr>
        <p:blipFill>
          <a:blip r:embed="rId3"/>
          <a:stretch/>
        </p:blipFill>
        <p:spPr>
          <a:xfrm>
            <a:off x="4643280" y="3645000"/>
            <a:ext cx="4125960" cy="29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9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9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9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4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Tahoma"/>
              </a:rPr>
              <a:t>Театр кукол Образцова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5508720" y="1773360"/>
            <a:ext cx="2646360" cy="39607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826920" y="2060640"/>
            <a:ext cx="4272120" cy="336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Театр кукол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– это вид театрального зрелища, в котором действуют куклы, управляемые актёрами – кукловодами, обычно скрытыми от зрителей ширмой. Куклы различаются устройством и системой их управления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Tahoma"/>
              </a:rPr>
              <a:t>ВЕРХОВЫЕ и НАПОЛЬНЫЕ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684360" y="1628640"/>
            <a:ext cx="7704000" cy="460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Tahoma"/>
              </a:rPr>
              <a:t>ПЕРЧАТОЧНЫЕ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1835280" y="1844640"/>
            <a:ext cx="511308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4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Tahoma"/>
              </a:rPr>
              <a:t>ПАЛЬЧИКОВЫЕ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3203640" y="2852640"/>
            <a:ext cx="3016080" cy="242280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6372360" y="3357720"/>
            <a:ext cx="2622240" cy="31669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539640" y="1484280"/>
            <a:ext cx="2395800" cy="31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9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4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9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Tahoma"/>
              </a:rPr>
              <a:t>ТЕНЕВЫЕ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3995640" y="4437000"/>
            <a:ext cx="2303640" cy="208908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5148360" y="1628640"/>
            <a:ext cx="3492360" cy="255276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4"/>
          <a:stretch/>
        </p:blipFill>
        <p:spPr>
          <a:xfrm>
            <a:off x="539640" y="1557360"/>
            <a:ext cx="4176720" cy="26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0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0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4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9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4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Tahoma"/>
              </a:rPr>
              <a:t>ТРОСТЕВЫЕ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2124000" y="1557360"/>
            <a:ext cx="348948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3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3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9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Tahoma"/>
              </a:rPr>
              <a:t>МАРИОНЕТКИ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755640" y="2133720"/>
            <a:ext cx="3959280" cy="27972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5292720" y="1916280"/>
            <a:ext cx="2716200" cy="40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4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4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4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9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8T16:18:01Z</dcterms:created>
  <dc:creator>Guest</dc:creator>
  <dc:description/>
  <dc:language>en-US</dc:language>
  <cp:lastModifiedBy>Guest</cp:lastModifiedBy>
  <dcterms:modified xsi:type="dcterms:W3CDTF">2009-11-30T17:02:08Z</dcterms:modified>
  <cp:revision>8</cp:revision>
  <dc:subject/>
  <dc:title>Слайд 1</dc:title>
</cp:coreProperties>
</file>