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26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155-C920-47E6-99E3-5780C500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120-86F3-4003-A1E2-315BF3EC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0F3-04A1-4D08-B0E9-E93F391A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7F6-EE40-44A3-A39D-82F1EBB2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B0D-91B0-4CD8-900B-F06AD0A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85C-0B8F-47F5-988E-8839C78B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9C8-DE45-4A2C-B66D-78EF6085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879-7EB9-4692-9A6A-EB94092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8C3-5C55-4249-A628-B4B884F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6DF-8190-475A-9601-9F71AFE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C2C-8B8F-408E-9560-2D16276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C99-44C3-4806-BD79-8E2D1E3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cc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46C2-7990-4834-9A34-87FF4F54A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slide" Target="slide19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" Target="slide7.xm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редняя общеобразовательная школа №5</a:t>
            </a:r>
            <a:br>
              <a:rPr sz="2400"/>
            </a:b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 углублённым изучением отдельных предметов</a:t>
            </a:r>
            <a:br>
              <a:rPr sz="2400"/>
            </a:b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мен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Дмитрия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Холод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235692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ШЕНИЕ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ение и об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63240" y="5429160"/>
            <a:ext cx="56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33"/>
                </a:solidFill>
                <a:latin typeface="Arial"/>
              </a:rPr>
              <a:t>УЧИТЕЛЬ МАТЕМАТИКИ, РУКОВОДИТЕЛЬ  ШМО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33"/>
                </a:solidFill>
                <a:latin typeface="Arial"/>
              </a:rPr>
              <a:t>РОВЕНКО Нина Викторов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в самое большое целое число удовлетворяющее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+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x+1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укажите год основания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ПЕРЕСЛАВЛЬ-ЗАЛЕ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Выгнутая вниз стрелка 5"/>
          <p:cNvSpPr/>
          <p:nvPr/>
        </p:nvSpPr>
        <p:spPr>
          <a:xfrm>
            <a:off x="7643880" y="5929200"/>
            <a:ext cx="1000080" cy="500040"/>
          </a:xfrm>
          <a:custGeom>
            <a:avLst/>
            <a:gdLst>
              <a:gd name="textAreaLeft" fmla="*/ 203040 w 1000080"/>
              <a:gd name="textAreaRight" fmla="*/ 734400 w 10000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993600" y="5643720"/>
            <a:ext cx="65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Город Переславль – Залесский основан 1152 год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РОСТОВ ВЕЛИ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12"/>
          <p:cNvPicPr/>
          <p:nvPr/>
        </p:nvPicPr>
        <p:blipFill>
          <a:blip r:embed="rId1"/>
          <a:stretch/>
        </p:blipFill>
        <p:spPr>
          <a:xfrm>
            <a:off x="571680" y="928800"/>
            <a:ext cx="4101840" cy="3076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20050806_050"/>
          <p:cNvPicPr/>
          <p:nvPr/>
        </p:nvPicPr>
        <p:blipFill>
          <a:blip r:embed="rId2"/>
          <a:stretch/>
        </p:blipFill>
        <p:spPr>
          <a:xfrm>
            <a:off x="4786200" y="3500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может весить (в тоннах) Ростовский колокол ответит нам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(1-3m)-(m-12m</a:t>
            </a:r>
            <a:r>
              <a:rPr b="0" lang="en-US" sz="32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9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РОСТОВ ВЕЛИ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Выгнутая вниз стрелка 5"/>
          <p:cNvSpPr/>
          <p:nvPr/>
        </p:nvSpPr>
        <p:spPr>
          <a:xfrm>
            <a:off x="7572240" y="5929200"/>
            <a:ext cx="1000440" cy="500040"/>
          </a:xfrm>
          <a:custGeom>
            <a:avLst/>
            <a:gdLst>
              <a:gd name="textAreaLeft" fmla="*/ 203040 w 1000440"/>
              <a:gd name="textAreaRight" fmla="*/ 734760 w 10004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453680"/>
                <a:lnTo>
                  <a:pt x="21321" y="5400"/>
                </a:lnTo>
                <a:lnTo>
                  <a:pt x="18900" y="0"/>
                </a:lnTo>
                <a:lnTo>
                  <a:pt x="15921" y="5400"/>
                </a:lnTo>
                <a:lnTo>
                  <a:pt x="17271" y="5400"/>
                </a:lnTo>
                <a:arcTo wR="8775" hR="21600" stAng="1946320" swAng="3236521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657360" y="585792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асса колоколов от 0 до 32 тон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2876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УЗДАЛЬ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суздаль2"/>
          <p:cNvPicPr/>
          <p:nvPr/>
        </p:nvPicPr>
        <p:blipFill>
          <a:blip r:embed="rId1"/>
          <a:stretch/>
        </p:blipFill>
        <p:spPr>
          <a:xfrm>
            <a:off x="5572080" y="2286000"/>
            <a:ext cx="2274840" cy="3430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домик в суздали"/>
          <p:cNvPicPr/>
          <p:nvPr/>
        </p:nvPicPr>
        <p:blipFill>
          <a:blip r:embed="rId2"/>
          <a:stretch/>
        </p:blipFill>
        <p:spPr>
          <a:xfrm>
            <a:off x="1143000" y="2214720"/>
            <a:ext cx="22273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воздей понадобилось суздальским мастерам в 1766 году для постройки Никольской  церкви, вы узнаете, решив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венство: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2+x)-6(3-x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УЗД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3078360" cy="356544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низ стрелка 6"/>
          <p:cNvSpPr/>
          <p:nvPr/>
        </p:nvSpPr>
        <p:spPr>
          <a:xfrm>
            <a:off x="5000760" y="6286680"/>
            <a:ext cx="642960" cy="357120"/>
          </a:xfrm>
          <a:custGeom>
            <a:avLst/>
            <a:gdLst>
              <a:gd name="textAreaLeft" fmla="*/ 127080 w 642960"/>
              <a:gd name="textAreaRight" fmla="*/ 471240 w 64296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413035"/>
                <a:lnTo>
                  <a:pt x="21329" y="5400"/>
                </a:lnTo>
                <a:lnTo>
                  <a:pt x="18600" y="0"/>
                </a:lnTo>
                <a:lnTo>
                  <a:pt x="15329" y="5400"/>
                </a:lnTo>
                <a:lnTo>
                  <a:pt x="16829" y="5400"/>
                </a:lnTo>
                <a:arcTo wR="8550" hR="21600" stAng="1986965" swAng="317094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587880" y="578628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рковь построена без гвозде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КОСТ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кострома"/>
          <p:cNvPicPr/>
          <p:nvPr/>
        </p:nvPicPr>
        <p:blipFill>
          <a:blip r:embed="rId1"/>
          <a:stretch/>
        </p:blipFill>
        <p:spPr>
          <a:xfrm>
            <a:off x="4357800" y="2286000"/>
            <a:ext cx="4133880" cy="2805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красные ряды (кострома)"/>
          <p:cNvPicPr/>
          <p:nvPr/>
        </p:nvPicPr>
        <p:blipFill>
          <a:blip r:embed="rId2"/>
          <a:stretch/>
        </p:blipFill>
        <p:spPr>
          <a:xfrm>
            <a:off x="571680" y="1857240"/>
            <a:ext cx="301284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меньшее целое число удовлетворяющее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жет в каком году построен этот памя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КОСТ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1763640" y="2997360"/>
                <a:ext cx="1224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9" name="Picture 7" descr="kostroma_susanin_2"/>
          <p:cNvPicPr/>
          <p:nvPr/>
        </p:nvPicPr>
        <p:blipFill>
          <a:blip r:embed="rId2"/>
          <a:stretch/>
        </p:blipFill>
        <p:spPr>
          <a:xfrm>
            <a:off x="6572160" y="1285920"/>
            <a:ext cx="2132280" cy="4017960"/>
          </a:xfrm>
          <a:prstGeom prst="rect">
            <a:avLst/>
          </a:prstGeom>
          <a:ln w="0">
            <a:noFill/>
          </a:ln>
        </p:spPr>
      </p:pic>
      <p:sp>
        <p:nvSpPr>
          <p:cNvPr id="200" name="Выгнутая вниз стрелка 8"/>
          <p:cNvSpPr/>
          <p:nvPr/>
        </p:nvSpPr>
        <p:spPr>
          <a:xfrm>
            <a:off x="8001000" y="6286680"/>
            <a:ext cx="642960" cy="357120"/>
          </a:xfrm>
          <a:custGeom>
            <a:avLst/>
            <a:gdLst>
              <a:gd name="textAreaLeft" fmla="*/ 127080 w 642960"/>
              <a:gd name="textAreaRight" fmla="*/ 471240 w 64296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413035"/>
                <a:lnTo>
                  <a:pt x="21329" y="5400"/>
                </a:lnTo>
                <a:lnTo>
                  <a:pt x="18600" y="0"/>
                </a:lnTo>
                <a:lnTo>
                  <a:pt x="15329" y="5400"/>
                </a:lnTo>
                <a:lnTo>
                  <a:pt x="16829" y="5400"/>
                </a:lnTo>
                <a:arcTo wR="8550" hR="21600" stAng="1986965" swAng="317094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00040" y="58579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амятник существует с 1967 года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2968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ть самостоятельно неравен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4(1 – х) – 3(х + 2)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&lt; 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25800" y="2421000"/>
            <a:ext cx="429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4 – 4x – 3x – 6 &lt; 5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4x – 3x &lt; 5 – 4 + 6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7x &lt; 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x &gt; - 1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3780000" y="5013360"/>
            <a:ext cx="712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51280" y="5013360"/>
            <a:ext cx="22334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419640" y="5013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195640" y="5084640"/>
            <a:ext cx="39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920920" y="493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816920" y="594036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(-1; +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Выгнутая вниз стрелка 12"/>
          <p:cNvSpPr/>
          <p:nvPr/>
        </p:nvSpPr>
        <p:spPr>
          <a:xfrm>
            <a:off x="7715160" y="578628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ярославль 3"/>
          <p:cNvPicPr/>
          <p:nvPr/>
        </p:nvPicPr>
        <p:blipFill>
          <a:blip r:embed="rId2"/>
          <a:stretch/>
        </p:blipFill>
        <p:spPr>
          <a:xfrm>
            <a:off x="214200" y="142920"/>
            <a:ext cx="3303720" cy="2643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                         </a:t>
            </a: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ЯРОСЛ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ду образован Ярослав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это  четырехзначное число, цифра сотен которого равна нулю. Цифра тысяч равна цифре единиц и это наименьшее целое число принадлежащее промежутк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(0,245;7,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цифра десятков – наибольшее целое число этого же промежу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71880" y="5715000"/>
          <a:ext cx="2017800" cy="57636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3280"/>
                <a:gridCol w="505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27"/>
          <p:cNvSpPr/>
          <p:nvPr/>
        </p:nvSpPr>
        <p:spPr>
          <a:xfrm>
            <a:off x="3143160" y="578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4643280" y="578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645360" y="578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145400" y="578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гнутая вниз стрелка 21"/>
          <p:cNvSpPr/>
          <p:nvPr/>
        </p:nvSpPr>
        <p:spPr>
          <a:xfrm>
            <a:off x="7858080" y="6143760"/>
            <a:ext cx="642960" cy="357120"/>
          </a:xfrm>
          <a:custGeom>
            <a:avLst/>
            <a:gdLst>
              <a:gd name="textAreaLeft" fmla="*/ 127080 w 642960"/>
              <a:gd name="textAreaRight" fmla="*/ 471240 w 64296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413035"/>
                <a:lnTo>
                  <a:pt x="21329" y="5400"/>
                </a:lnTo>
                <a:lnTo>
                  <a:pt x="18600" y="0"/>
                </a:lnTo>
                <a:lnTo>
                  <a:pt x="15329" y="5400"/>
                </a:lnTo>
                <a:lnTo>
                  <a:pt x="16829" y="5400"/>
                </a:lnTo>
                <a:arcTo wR="8550" hR="21600" stAng="1986965" swAng="317094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и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30,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93(а, б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96(б, 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786120" cy="4000680"/>
          </a:xfrm>
          <a:prstGeom prst="rect">
            <a:avLst/>
          </a:prstGeom>
          <a:ln w="0">
            <a:noFill/>
          </a:ln>
        </p:spPr>
      </p:pic>
      <p:sp>
        <p:nvSpPr>
          <p:cNvPr id="225" name="Выгнутая вниз стрелка 7"/>
          <p:cNvSpPr/>
          <p:nvPr/>
        </p:nvSpPr>
        <p:spPr>
          <a:xfrm>
            <a:off x="8072280" y="6143760"/>
            <a:ext cx="571680" cy="357120"/>
          </a:xfrm>
          <a:custGeom>
            <a:avLst/>
            <a:gdLst>
              <a:gd name="textAreaLeft" fmla="*/ 109440 w 571680"/>
              <a:gd name="textAreaRight" fmla="*/ 417600 w 571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-3360022"/>
                <a:lnTo>
                  <a:pt x="21337" y="5400"/>
                </a:lnTo>
                <a:lnTo>
                  <a:pt x="18225" y="0"/>
                </a:lnTo>
                <a:lnTo>
                  <a:pt x="14587" y="5400"/>
                </a:lnTo>
                <a:lnTo>
                  <a:pt x="16274" y="5400"/>
                </a:lnTo>
                <a:arcTo wR="8269" hR="21600" stAng="2039978" swAng="3086170"/>
                <a:lnTo>
                  <a:pt x="9957" y="21145"/>
                </a:lnTo>
                <a:arcTo wR="8269" hR="21600" stAng="5673852" swAng="5126148"/>
                <a:close/>
              </a:path>
              <a:path fill="darkenLess"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273852"/>
                <a:lnTo>
                  <a:pt x="9957" y="21145"/>
                </a:lnTo>
                <a:arcTo wR="8269" hR="21600" stAng="5673852" swAng="512614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2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2y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187280" y="189000"/>
            <a:ext cx="705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 неравенств</a:t>
            </a:r>
            <a:endParaRPr b="0" i="1" lang="en-US" sz="8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971640" y="1773360"/>
            <a:ext cx="669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y          &lt;       +  6</a:t>
            </a:r>
            <a:endParaRPr b="0" i="1" lang="en-US" sz="8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1042920" y="3357720"/>
            <a:ext cx="46814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y           &lt;  6</a:t>
            </a:r>
            <a:endParaRPr b="0" i="1" lang="en-US" sz="8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79640" y="162864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867280" y="3141720"/>
            <a:ext cx="19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Arial"/>
              </a:rPr>
              <a:t>+4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125440" y="314172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0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2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2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187280" y="189000"/>
            <a:ext cx="705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 неравенств</a:t>
            </a:r>
            <a:endParaRPr b="0" i="1" lang="en-US" sz="8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835280" y="249228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x             18</a:t>
            </a:r>
            <a:endParaRPr b="0" i="1" lang="en-US" sz="8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3276720" y="4292640"/>
            <a:ext cx="19206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x     3</a:t>
            </a:r>
            <a:endParaRPr b="0" i="1" lang="en-US" sz="8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:6      :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9600" spc="-1" strike="noStrike">
                <a:solidFill>
                  <a:srgbClr val="cc3300"/>
                </a:solidFill>
                <a:latin typeface="Arial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4284720" y="2781360"/>
            <a:ext cx="420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&lt;</a:t>
            </a:r>
            <a:endParaRPr b="0" i="1" lang="en-US" sz="8800" spc="1" strike="noStrike">
              <a:ln w="1260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mph" presetID="35" repeatCount="1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 repeatCount="1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200" spc="-1" strike="noStrike">
                <a:solidFill>
                  <a:srgbClr val="009999"/>
                </a:solidFill>
                <a:latin typeface="Arial Unicode MS"/>
              </a:rPr>
              <a:t>:(-3)</a:t>
            </a:r>
            <a:r>
              <a:rPr b="0" lang="en-US" sz="8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8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8000" spc="-1" strike="noStrike">
                <a:solidFill>
                  <a:srgbClr val="009999"/>
                </a:solidFill>
                <a:latin typeface="Arial Unicode MS"/>
              </a:rPr>
              <a:t>:(-3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US" sz="8000" spc="-1" strike="noStrike">
                <a:solidFill>
                  <a:srgbClr val="cc3300"/>
                </a:solidFill>
                <a:latin typeface="Arial Unicode MS"/>
              </a:rPr>
              <a:t>&gt;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187280" y="189000"/>
            <a:ext cx="705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 неравенств</a:t>
            </a:r>
            <a:endParaRPr b="0" i="1" lang="en-US" sz="8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619280" y="278136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3х                15</a:t>
            </a:r>
            <a:endParaRPr b="0" i="1" lang="en-US" sz="8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4284720" y="422100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x      -5</a:t>
            </a:r>
            <a:endParaRPr b="0" i="1" lang="en-US" sz="8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4643280" y="306864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&lt;</a:t>
            </a:r>
            <a:endParaRPr b="0" i="1" lang="en-US" sz="8800" spc="1" strike="noStrike">
              <a:ln w="1260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35" repeatCount="1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вые промеж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7551720" y="581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7"/>
          <p:cNvSpPr/>
          <p:nvPr/>
        </p:nvSpPr>
        <p:spPr>
          <a:xfrm>
            <a:off x="728352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1"/>
          <p:cNvSpPr/>
          <p:nvPr/>
        </p:nvSpPr>
        <p:spPr>
          <a:xfrm>
            <a:off x="6589800" y="542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4"/>
          <p:cNvSpPr/>
          <p:nvPr/>
        </p:nvSpPr>
        <p:spPr>
          <a:xfrm>
            <a:off x="3089160" y="36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76"/>
          <p:cNvGrpSpPr/>
          <p:nvPr/>
        </p:nvGrpSpPr>
        <p:grpSpPr>
          <a:xfrm>
            <a:off x="5219640" y="1557360"/>
            <a:ext cx="2743200" cy="1440000"/>
            <a:chOff x="5219640" y="1557360"/>
            <a:chExt cx="2743200" cy="1440000"/>
          </a:xfrm>
        </p:grpSpPr>
        <p:sp>
          <p:nvSpPr>
            <p:cNvPr id="67" name="AutoShape 83"/>
            <p:cNvSpPr/>
            <p:nvPr/>
          </p:nvSpPr>
          <p:spPr>
            <a:xfrm>
              <a:off x="5219640" y="1557360"/>
              <a:ext cx="27432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2"/>
            <p:cNvSpPr/>
            <p:nvPr/>
          </p:nvSpPr>
          <p:spPr>
            <a:xfrm>
              <a:off x="6362640" y="2421360"/>
              <a:ext cx="114120" cy="9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1"/>
            <p:cNvSpPr/>
            <p:nvPr/>
          </p:nvSpPr>
          <p:spPr>
            <a:xfrm>
              <a:off x="5562720" y="2421360"/>
              <a:ext cx="799920" cy="9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0"/>
            <p:cNvSpPr/>
            <p:nvPr/>
          </p:nvSpPr>
          <p:spPr>
            <a:xfrm>
              <a:off x="5676840" y="2517840"/>
              <a:ext cx="18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9"/>
            <p:cNvSpPr/>
            <p:nvPr/>
          </p:nvSpPr>
          <p:spPr>
            <a:xfrm>
              <a:off x="5676840" y="1749240"/>
              <a:ext cx="15998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 &lt; a </a:t>
              </a:r>
              <a:endParaRPr b="0" i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8"/>
            <p:cNvSpPr/>
            <p:nvPr/>
          </p:nvSpPr>
          <p:spPr>
            <a:xfrm>
              <a:off x="6362640" y="2421360"/>
              <a:ext cx="4564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7"/>
            <p:cNvSpPr/>
            <p:nvPr/>
          </p:nvSpPr>
          <p:spPr>
            <a:xfrm>
              <a:off x="7277040" y="2229120"/>
              <a:ext cx="34308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8"/>
          <p:cNvGrpSpPr/>
          <p:nvPr/>
        </p:nvGrpSpPr>
        <p:grpSpPr>
          <a:xfrm>
            <a:off x="1332000" y="1628640"/>
            <a:ext cx="2743200" cy="1224000"/>
            <a:chOff x="1332000" y="1628640"/>
            <a:chExt cx="2743200" cy="1224000"/>
          </a:xfrm>
        </p:grpSpPr>
        <p:sp>
          <p:nvSpPr>
            <p:cNvPr id="75" name="AutoShape 95"/>
            <p:cNvSpPr/>
            <p:nvPr/>
          </p:nvSpPr>
          <p:spPr>
            <a:xfrm>
              <a:off x="1332000" y="1628640"/>
              <a:ext cx="27432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94"/>
            <p:cNvSpPr/>
            <p:nvPr/>
          </p:nvSpPr>
          <p:spPr>
            <a:xfrm>
              <a:off x="2475000" y="2475720"/>
              <a:ext cx="114120" cy="9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3"/>
            <p:cNvSpPr/>
            <p:nvPr/>
          </p:nvSpPr>
          <p:spPr>
            <a:xfrm>
              <a:off x="2589120" y="2475720"/>
              <a:ext cx="1028160" cy="9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2"/>
            <p:cNvSpPr/>
            <p:nvPr/>
          </p:nvSpPr>
          <p:spPr>
            <a:xfrm>
              <a:off x="1789200" y="2569680"/>
              <a:ext cx="1829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1"/>
            <p:cNvSpPr/>
            <p:nvPr/>
          </p:nvSpPr>
          <p:spPr>
            <a:xfrm>
              <a:off x="1789200" y="1816920"/>
              <a:ext cx="1599840" cy="4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 &gt; a </a:t>
              </a:r>
              <a:endParaRPr b="0" i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0"/>
            <p:cNvSpPr/>
            <p:nvPr/>
          </p:nvSpPr>
          <p:spPr>
            <a:xfrm>
              <a:off x="2475000" y="2475720"/>
              <a:ext cx="4564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3389400" y="2287080"/>
              <a:ext cx="343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117"/>
          <p:cNvSpPr/>
          <p:nvPr/>
        </p:nvSpPr>
        <p:spPr>
          <a:xfrm>
            <a:off x="3500280" y="472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0"/>
          <p:cNvGrpSpPr/>
          <p:nvPr/>
        </p:nvGrpSpPr>
        <p:grpSpPr>
          <a:xfrm>
            <a:off x="1187280" y="4149720"/>
            <a:ext cx="2743200" cy="1486080"/>
            <a:chOff x="1187280" y="4149720"/>
            <a:chExt cx="2743200" cy="1486080"/>
          </a:xfrm>
        </p:grpSpPr>
        <p:sp>
          <p:nvSpPr>
            <p:cNvPr id="84" name="AutoShape 116"/>
            <p:cNvSpPr/>
            <p:nvPr/>
          </p:nvSpPr>
          <p:spPr>
            <a:xfrm>
              <a:off x="1187280" y="4149720"/>
              <a:ext cx="27432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5"/>
            <p:cNvSpPr/>
            <p:nvPr/>
          </p:nvSpPr>
          <p:spPr>
            <a:xfrm>
              <a:off x="2330280" y="4949640"/>
              <a:ext cx="114120" cy="11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14"/>
            <p:cNvSpPr/>
            <p:nvPr/>
          </p:nvSpPr>
          <p:spPr>
            <a:xfrm>
              <a:off x="1530360" y="4949640"/>
              <a:ext cx="799920" cy="11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3"/>
            <p:cNvSpPr/>
            <p:nvPr/>
          </p:nvSpPr>
          <p:spPr>
            <a:xfrm>
              <a:off x="1644480" y="5064480"/>
              <a:ext cx="18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12"/>
            <p:cNvSpPr/>
            <p:nvPr/>
          </p:nvSpPr>
          <p:spPr>
            <a:xfrm>
              <a:off x="2216160" y="4949640"/>
              <a:ext cx="45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1"/>
            <p:cNvSpPr/>
            <p:nvPr/>
          </p:nvSpPr>
          <p:spPr>
            <a:xfrm>
              <a:off x="3244680" y="4720680"/>
              <a:ext cx="343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28"/>
          <p:cNvSpPr/>
          <p:nvPr/>
        </p:nvSpPr>
        <p:spPr>
          <a:xfrm>
            <a:off x="7661160" y="41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20"/>
          <p:cNvGrpSpPr/>
          <p:nvPr/>
        </p:nvGrpSpPr>
        <p:grpSpPr>
          <a:xfrm>
            <a:off x="5292720" y="4149720"/>
            <a:ext cx="2743200" cy="1486080"/>
            <a:chOff x="5292720" y="4149720"/>
            <a:chExt cx="2743200" cy="1486080"/>
          </a:xfrm>
        </p:grpSpPr>
        <p:sp>
          <p:nvSpPr>
            <p:cNvPr id="92" name="AutoShape 127"/>
            <p:cNvSpPr/>
            <p:nvPr/>
          </p:nvSpPr>
          <p:spPr>
            <a:xfrm>
              <a:off x="5292720" y="4149720"/>
              <a:ext cx="27432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26"/>
            <p:cNvSpPr/>
            <p:nvPr/>
          </p:nvSpPr>
          <p:spPr>
            <a:xfrm>
              <a:off x="6435720" y="5064120"/>
              <a:ext cx="114120" cy="11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5"/>
            <p:cNvSpPr/>
            <p:nvPr/>
          </p:nvSpPr>
          <p:spPr>
            <a:xfrm>
              <a:off x="6549840" y="5064120"/>
              <a:ext cx="1028160" cy="11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4"/>
            <p:cNvSpPr/>
            <p:nvPr/>
          </p:nvSpPr>
          <p:spPr>
            <a:xfrm>
              <a:off x="5749920" y="5177880"/>
              <a:ext cx="1829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3"/>
            <p:cNvSpPr/>
            <p:nvPr/>
          </p:nvSpPr>
          <p:spPr>
            <a:xfrm>
              <a:off x="5864040" y="4263480"/>
              <a:ext cx="159984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 ≥ a </a:t>
              </a:r>
              <a:endParaRPr b="0" i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2"/>
            <p:cNvSpPr/>
            <p:nvPr/>
          </p:nvSpPr>
          <p:spPr>
            <a:xfrm>
              <a:off x="6321600" y="5064120"/>
              <a:ext cx="455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1"/>
            <p:cNvSpPr/>
            <p:nvPr/>
          </p:nvSpPr>
          <p:spPr>
            <a:xfrm>
              <a:off x="7350120" y="4835160"/>
              <a:ext cx="343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32"/>
          <p:cNvSpPr/>
          <p:nvPr/>
        </p:nvSpPr>
        <p:spPr>
          <a:xfrm>
            <a:off x="1547640" y="4149720"/>
            <a:ext cx="160020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≤ a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3"/>
          <p:cNvSpPr/>
          <p:nvPr/>
        </p:nvSpPr>
        <p:spPr>
          <a:xfrm>
            <a:off x="1763640" y="29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а; +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∞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5"/>
          <p:cNvSpPr/>
          <p:nvPr/>
        </p:nvSpPr>
        <p:spPr>
          <a:xfrm>
            <a:off x="5940360" y="299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 -</a:t>
            </a:r>
            <a:r>
              <a:rPr b="0" i="1" lang="ru-RU" sz="4000" spc="-1" strike="noStrike" baseline="-6000">
                <a:solidFill>
                  <a:srgbClr val="0000ff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; а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6"/>
          <p:cNvSpPr/>
          <p:nvPr/>
        </p:nvSpPr>
        <p:spPr>
          <a:xfrm>
            <a:off x="1692360" y="566100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-</a:t>
            </a:r>
            <a:r>
              <a:rPr b="0" lang="ru-RU" sz="4000" spc="-1" strike="noStrike" baseline="-8000">
                <a:solidFill>
                  <a:srgbClr val="0000ff"/>
                </a:solidFill>
                <a:latin typeface="Arial"/>
                <a:ea typeface="Arial"/>
              </a:rPr>
              <a:t>∞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; 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]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7"/>
          <p:cNvSpPr/>
          <p:nvPr/>
        </p:nvSpPr>
        <p:spPr>
          <a:xfrm>
            <a:off x="5940360" y="6165720"/>
            <a:ext cx="16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8"/>
          <p:cNvSpPr/>
          <p:nvPr/>
        </p:nvSpPr>
        <p:spPr>
          <a:xfrm>
            <a:off x="5940360" y="566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∞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857160" y="1714680"/>
            <a:ext cx="7512120" cy="4929120"/>
            <a:chOff x="857160" y="1714680"/>
            <a:chExt cx="7512120" cy="4929120"/>
          </a:xfrm>
        </p:grpSpPr>
        <p:sp>
          <p:nvSpPr>
            <p:cNvPr id="107" name="AutoShape 47"/>
            <p:cNvSpPr/>
            <p:nvPr/>
          </p:nvSpPr>
          <p:spPr>
            <a:xfrm>
              <a:off x="857160" y="1714680"/>
              <a:ext cx="751212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6"/>
            <p:cNvSpPr/>
            <p:nvPr/>
          </p:nvSpPr>
          <p:spPr>
            <a:xfrm>
              <a:off x="975240" y="1714680"/>
              <a:ext cx="7167960" cy="449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5"/>
            <p:cNvSpPr/>
            <p:nvPr/>
          </p:nvSpPr>
          <p:spPr>
            <a:xfrm>
              <a:off x="1265760" y="2293920"/>
              <a:ext cx="72396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4"/>
            <p:cNvSpPr/>
            <p:nvPr/>
          </p:nvSpPr>
          <p:spPr>
            <a:xfrm>
              <a:off x="6340680" y="3600000"/>
              <a:ext cx="57924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3"/>
            <p:cNvSpPr/>
            <p:nvPr/>
          </p:nvSpPr>
          <p:spPr>
            <a:xfrm>
              <a:off x="1700280" y="4613760"/>
              <a:ext cx="57996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2"/>
            <p:cNvSpPr/>
            <p:nvPr/>
          </p:nvSpPr>
          <p:spPr>
            <a:xfrm>
              <a:off x="2570400" y="2004840"/>
              <a:ext cx="57996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1"/>
            <p:cNvSpPr/>
            <p:nvPr/>
          </p:nvSpPr>
          <p:spPr>
            <a:xfrm>
              <a:off x="5035320" y="4905000"/>
              <a:ext cx="869760" cy="101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7065000" y="4759200"/>
              <a:ext cx="72396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9"/>
            <p:cNvSpPr/>
            <p:nvPr/>
          </p:nvSpPr>
          <p:spPr>
            <a:xfrm>
              <a:off x="3440160" y="2729160"/>
              <a:ext cx="725040" cy="8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8"/>
            <p:cNvSpPr/>
            <p:nvPr/>
          </p:nvSpPr>
          <p:spPr>
            <a:xfrm>
              <a:off x="5325120" y="2149560"/>
              <a:ext cx="72504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774120" y="2149560"/>
              <a:ext cx="581040" cy="8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6"/>
            <p:cNvSpPr/>
            <p:nvPr/>
          </p:nvSpPr>
          <p:spPr>
            <a:xfrm>
              <a:off x="3585240" y="4614480"/>
              <a:ext cx="725040" cy="86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35"/>
            <p:cNvCxnSpPr/>
            <p:nvPr/>
          </p:nvCxnSpPr>
          <p:spPr>
            <a:xfrm flipH="1" rot="16200000">
              <a:off x="1011600" y="3707640"/>
              <a:ext cx="1450080" cy="362160"/>
            </a:xfrm>
            <a:prstGeom prst="curvedConnector5">
              <a:avLst>
                <a:gd name="adj1" fmla="val 49987"/>
                <a:gd name="adj2" fmla="val 49950"/>
                <a:gd name="adj3" fmla="val 499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AutoShape 34"/>
            <p:cNvCxnSpPr/>
            <p:nvPr/>
          </p:nvCxnSpPr>
          <p:spPr>
            <a:xfrm flipV="1">
              <a:off x="1989720" y="2293560"/>
              <a:ext cx="581040" cy="435600"/>
            </a:xfrm>
            <a:prstGeom prst="curvedConnector5">
              <a:avLst>
                <a:gd name="adj1" fmla="val 49845"/>
                <a:gd name="adj2" fmla="val 49958"/>
                <a:gd name="adj3" fmla="val 498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AutoShape 33"/>
            <p:cNvCxnSpPr/>
            <p:nvPr/>
          </p:nvCxnSpPr>
          <p:spPr>
            <a:xfrm>
              <a:off x="3150360" y="2293560"/>
              <a:ext cx="290160" cy="871560"/>
            </a:xfrm>
            <a:prstGeom prst="curvedConnector5">
              <a:avLst>
                <a:gd name="adj1" fmla="val 49813"/>
                <a:gd name="adj2" fmla="val 50000"/>
                <a:gd name="adj3" fmla="val 498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AutoShape 32"/>
            <p:cNvCxnSpPr/>
            <p:nvPr/>
          </p:nvCxnSpPr>
          <p:spPr>
            <a:xfrm>
              <a:off x="4310280" y="5048280"/>
              <a:ext cx="725760" cy="36468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AutoShape 31"/>
            <p:cNvCxnSpPr/>
            <p:nvPr/>
          </p:nvCxnSpPr>
          <p:spPr>
            <a:xfrm flipV="1" rot="10800000">
              <a:off x="4164480" y="2584080"/>
              <a:ext cx="1160280" cy="581040"/>
            </a:xfrm>
            <a:prstGeom prst="curvedConnector5">
              <a:avLst>
                <a:gd name="adj1" fmla="val 50031"/>
                <a:gd name="adj2" fmla="val 49969"/>
                <a:gd name="adj3" fmla="val 5003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AutoShape 30"/>
            <p:cNvCxnSpPr/>
            <p:nvPr/>
          </p:nvCxnSpPr>
          <p:spPr>
            <a:xfrm>
              <a:off x="6049800" y="2584440"/>
              <a:ext cx="724680" cy="1440"/>
            </a:xfrm>
            <a:prstGeom prst="curvedConnector5">
              <a:avLst>
                <a:gd name="adj1" fmla="val 49900"/>
                <a:gd name="adj2" fmla="val 33333"/>
                <a:gd name="adj3" fmla="val 499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AutoShape 29"/>
            <p:cNvCxnSpPr/>
            <p:nvPr/>
          </p:nvCxnSpPr>
          <p:spPr>
            <a:xfrm rot="5400000">
              <a:off x="6557400" y="3093120"/>
              <a:ext cx="578880" cy="435240"/>
            </a:xfrm>
            <a:prstGeom prst="curvedConnector5">
              <a:avLst>
                <a:gd name="adj1" fmla="val 49844"/>
                <a:gd name="adj2" fmla="val 50000"/>
                <a:gd name="adj3" fmla="val 4984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AutoShape 28"/>
            <p:cNvCxnSpPr/>
            <p:nvPr/>
          </p:nvCxnSpPr>
          <p:spPr>
            <a:xfrm flipH="1" rot="16200000">
              <a:off x="6737760" y="4070520"/>
              <a:ext cx="579960" cy="797400"/>
            </a:xfrm>
            <a:prstGeom prst="curvedConnector5">
              <a:avLst>
                <a:gd name="adj1" fmla="val 49875"/>
                <a:gd name="adj2" fmla="val 50000"/>
                <a:gd name="adj3" fmla="val 498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" name="AutoShape 27"/>
            <p:cNvCxnSpPr/>
            <p:nvPr/>
          </p:nvCxnSpPr>
          <p:spPr>
            <a:xfrm flipV="1">
              <a:off x="5904720" y="4976640"/>
              <a:ext cx="1160280" cy="436320"/>
            </a:xfrm>
            <a:prstGeom prst="curvedConnector5">
              <a:avLst>
                <a:gd name="adj1" fmla="val 49937"/>
                <a:gd name="adj2" fmla="val 49958"/>
                <a:gd name="adj3" fmla="val 49937"/>
              </a:avLst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128" name="Picture 26" descr="сергеев посад"/>
            <p:cNvPicPr/>
            <p:nvPr/>
          </p:nvPicPr>
          <p:blipFill>
            <a:blip r:embed="rId1"/>
            <a:stretch/>
          </p:blipFill>
          <p:spPr>
            <a:xfrm>
              <a:off x="3440160" y="2584440"/>
              <a:ext cx="7678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5" descr="ростов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2004840"/>
              <a:ext cx="9158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4" descr="переяславль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80040" y="2004840"/>
              <a:ext cx="91800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ярославль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194880" y="3309840"/>
              <a:ext cx="88812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г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3440160" y="4470120"/>
              <a:ext cx="104544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1" descr="г"/>
            <p:cNvPicPr/>
            <p:nvPr/>
          </p:nvPicPr>
          <p:blipFill>
            <a:blip r:embed="rId10"/>
            <a:stretch/>
          </p:blipFill>
          <p:spPr>
            <a:xfrm>
              <a:off x="2425320" y="1859040"/>
              <a:ext cx="767160" cy="8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0" descr="Суздаль"/>
            <p:cNvPicPr/>
            <p:nvPr/>
          </p:nvPicPr>
          <p:blipFill>
            <a:blip r:embed="rId11"/>
            <a:stretch/>
          </p:blipFill>
          <p:spPr>
            <a:xfrm>
              <a:off x="1555560" y="4469040"/>
              <a:ext cx="919080" cy="103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555560" y="5483520"/>
              <a:ext cx="1013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уздал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2999520" y="3598920"/>
              <a:ext cx="17139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ергиев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ад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425320" y="2584440"/>
              <a:ext cx="8697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глич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>
              <a:off x="4889520" y="2874960"/>
              <a:ext cx="1396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ереславл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7065000" y="2874960"/>
              <a:ext cx="8697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осто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6929280" y="3714480"/>
              <a:ext cx="1285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Ярославл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3286080" y="5483520"/>
              <a:ext cx="13082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ладими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571800" y="5572080"/>
              <a:ext cx="11602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острома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857480" y="5858280"/>
              <a:ext cx="72504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лес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1500120" y="3285720"/>
              <a:ext cx="8575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Юрьев 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9" descr="г"/>
            <p:cNvPicPr/>
            <p:nvPr/>
          </p:nvPicPr>
          <p:blipFill>
            <a:blip r:embed="rId12"/>
            <a:stretch/>
          </p:blipFill>
          <p:spPr>
            <a:xfrm>
              <a:off x="1119960" y="2149560"/>
              <a:ext cx="101988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8" descr="г"/>
            <p:cNvPicPr/>
            <p:nvPr/>
          </p:nvPicPr>
          <p:blipFill>
            <a:blip r:embed="rId13"/>
            <a:stretch/>
          </p:blipFill>
          <p:spPr>
            <a:xfrm>
              <a:off x="4889520" y="4759200"/>
              <a:ext cx="105336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" descr="кострома"/>
            <p:cNvPicPr/>
            <p:nvPr/>
          </p:nvPicPr>
          <p:blipFill>
            <a:blip r:embed="rId14"/>
            <a:stretch/>
          </p:blipFill>
          <p:spPr>
            <a:xfrm>
              <a:off x="6918840" y="4613760"/>
              <a:ext cx="898560" cy="101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8" name="AutoShape 6"/>
            <p:cNvCxnSpPr/>
            <p:nvPr/>
          </p:nvCxnSpPr>
          <p:spPr>
            <a:xfrm flipH="1" flipV="1" rot="5400000">
              <a:off x="2428200" y="4345920"/>
              <a:ext cx="749880" cy="1575360"/>
            </a:xfrm>
            <a:prstGeom prst="curvedConnector5">
              <a:avLst>
                <a:gd name="adj1" fmla="val -38664"/>
                <a:gd name="adj2" fmla="val 32320"/>
                <a:gd name="adj3" fmla="val -3866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" name="Line 5"/>
            <p:cNvSpPr/>
            <p:nvPr/>
          </p:nvSpPr>
          <p:spPr>
            <a:xfrm>
              <a:off x="4599720" y="1859040"/>
              <a:ext cx="1080" cy="434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"/>
            <p:cNvSpPr/>
            <p:nvPr/>
          </p:nvSpPr>
          <p:spPr>
            <a:xfrm>
              <a:off x="6484320" y="1859040"/>
              <a:ext cx="0" cy="434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"/>
            <p:cNvSpPr/>
            <p:nvPr/>
          </p:nvSpPr>
          <p:spPr>
            <a:xfrm>
              <a:off x="2570400" y="1859040"/>
              <a:ext cx="0" cy="434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"/>
            <p:cNvSpPr/>
            <p:nvPr/>
          </p:nvSpPr>
          <p:spPr>
            <a:xfrm flipV="1">
              <a:off x="975240" y="4001760"/>
              <a:ext cx="7104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i="1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Прямоугольник 51" descr=""/>
          <p:cNvPicPr/>
          <p:nvPr/>
        </p:nvPicPr>
        <p:blipFill>
          <a:blip r:embed="rId15"/>
          <a:stretch/>
        </p:blipFill>
        <p:spPr>
          <a:xfrm>
            <a:off x="334800" y="-6480"/>
            <a:ext cx="8382240" cy="16401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3">
            <a:hlinkClick r:id="rId16" action="ppaction://hlinksldjump"/>
          </p:cNvPr>
          <p:cNvSpPr/>
          <p:nvPr/>
        </p:nvSpPr>
        <p:spPr>
          <a:xfrm>
            <a:off x="3214800" y="2357280"/>
            <a:ext cx="928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1"/>
          <p:cNvSpPr/>
          <p:nvPr/>
        </p:nvSpPr>
        <p:spPr>
          <a:xfrm>
            <a:off x="307440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2"/>
          <p:cNvSpPr/>
          <p:nvPr/>
        </p:nvSpPr>
        <p:spPr>
          <a:xfrm>
            <a:off x="5002920" y="2714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3"/>
          <p:cNvSpPr/>
          <p:nvPr/>
        </p:nvSpPr>
        <p:spPr>
          <a:xfrm>
            <a:off x="6788880" y="2928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4"/>
          <p:cNvSpPr/>
          <p:nvPr/>
        </p:nvSpPr>
        <p:spPr>
          <a:xfrm>
            <a:off x="7003080" y="400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5"/>
          <p:cNvSpPr/>
          <p:nvPr/>
        </p:nvSpPr>
        <p:spPr>
          <a:xfrm>
            <a:off x="6717240" y="542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5715000" y="57862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/р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7"/>
          <p:cNvSpPr/>
          <p:nvPr/>
        </p:nvSpPr>
        <p:spPr>
          <a:xfrm>
            <a:off x="3582360" y="57862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1431000" y="5357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СЕРГИЕВ ПОС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сергей посать"/>
          <p:cNvPicPr/>
          <p:nvPr/>
        </p:nvPicPr>
        <p:blipFill>
          <a:blip r:embed="rId1"/>
          <a:stretch/>
        </p:blipFill>
        <p:spPr>
          <a:xfrm>
            <a:off x="928800" y="2000160"/>
            <a:ext cx="2357280" cy="3554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серг-пас"/>
          <p:cNvPicPr/>
          <p:nvPr/>
        </p:nvPicPr>
        <p:blipFill>
          <a:blip r:embed="rId2"/>
          <a:stretch/>
        </p:blipFill>
        <p:spPr>
          <a:xfrm>
            <a:off x="5286240" y="1998720"/>
            <a:ext cx="24289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века Сергий Радонежский покровительствует, тем кто хочет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+4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2b+8)+13(4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СЕРГИЕВ ПО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00040" y="54291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гий Радонежский покровительствует тем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хочет учиться с 14 век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7"/>
          <p:cNvSpPr/>
          <p:nvPr/>
        </p:nvSpPr>
        <p:spPr>
          <a:xfrm>
            <a:off x="7858080" y="607212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351122"/>
                <a:lnTo>
                  <a:pt x="21339" y="5400"/>
                </a:lnTo>
                <a:lnTo>
                  <a:pt x="18164" y="0"/>
                </a:lnTo>
                <a:lnTo>
                  <a:pt x="14466" y="5400"/>
                </a:lnTo>
                <a:lnTo>
                  <a:pt x="16184" y="5400"/>
                </a:lnTo>
                <a:arcTo wR="8223" hR="21600" stAng="2048878" swAng="3072052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ПЕРЕСЛАВЛЬ-ЗАЛЕ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залесск"/>
          <p:cNvPicPr/>
          <p:nvPr/>
        </p:nvPicPr>
        <p:blipFill>
          <a:blip r:embed="rId1"/>
          <a:stretch/>
        </p:blipFill>
        <p:spPr>
          <a:xfrm>
            <a:off x="5572080" y="2357280"/>
            <a:ext cx="2252880" cy="352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переслава-зал"/>
          <p:cNvPicPr/>
          <p:nvPr/>
        </p:nvPicPr>
        <p:blipFill>
          <a:blip r:embed="rId2"/>
          <a:stretch/>
        </p:blipFill>
        <p:spPr>
          <a:xfrm>
            <a:off x="1000080" y="2357280"/>
            <a:ext cx="2357640" cy="35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9:57:38Z</dcterms:created>
  <dc:creator>Kleo</dc:creator>
  <dc:description/>
  <dc:language>en-US</dc:language>
  <cp:lastModifiedBy>Admin</cp:lastModifiedBy>
  <dcterms:modified xsi:type="dcterms:W3CDTF">2012-01-08T06:24:11Z</dcterms:modified>
  <cp:revision>39</cp:revision>
  <dc:subject/>
  <dc:title>ЗОЛОТОЕ</dc:title>
</cp:coreProperties>
</file>