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16.gif" ContentType="image/gif"/>
  <Override PartName="/ppt/media/image15.gif" ContentType="image/gif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8.png" ContentType="image/png"/>
  <Override PartName="/ppt/media/image5.wmf" ContentType="image/x-wmf"/>
  <Override PartName="/ppt/media/image11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9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01B-7DD3-4096-B3FF-666F8A0628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B0A5-BA42-47AB-8B06-DCA6759D0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E82-6A08-487B-A738-9BB101AA8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6F2-628F-417D-8F70-89AFC332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C0B-06E8-4BD8-A7C5-94B7CE3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659-ECD9-48CA-8B5C-33B35FD8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0C1-D2A8-4165-81AF-66498FEA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830-6BD6-4A70-A6E9-9C974A5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C5F-8F45-4660-B7D2-2EB0FE8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AF8-D701-495F-BF7E-6E20C53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C6F-CDC3-451D-910E-4441415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F2C-76BB-4D60-9CBB-6AEC20C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878-0449-4167-BE37-EC7EBE7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5EB-B0F7-4924-A2A9-2AAA99F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4CD-38E6-4C6B-A359-8C1E43B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76B-D86B-4BD1-814C-07EAD9395BC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21240"/>
            <a:ext cx="914400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вление  образован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 Администрации   города   Губк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редн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щеобразовательная школа № 4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Использование технологии проблемного обучения на уроках русского языка и литературы  как средство  повышения качества знани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008 -2010 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. И. О. авто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квичева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1" descr=""/>
          <p:cNvPicPr/>
          <p:nvPr/>
        </p:nvPicPr>
        <p:blipFill>
          <a:blip r:embed="rId1"/>
          <a:stretch/>
        </p:blipFill>
        <p:spPr>
          <a:xfrm>
            <a:off x="285840" y="3933720"/>
            <a:ext cx="3352680" cy="292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"/>
          <p:cNvPicPr/>
          <p:nvPr/>
        </p:nvPicPr>
        <p:blipFill>
          <a:blip r:embed="rId2"/>
          <a:stretch/>
        </p:blipFill>
        <p:spPr>
          <a:xfrm>
            <a:off x="357120" y="3933720"/>
            <a:ext cx="33530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"/>
          <p:cNvPicPr/>
          <p:nvPr/>
        </p:nvPicPr>
        <p:blipFill>
          <a:blip r:embed="rId1"/>
          <a:stretch/>
        </p:blipFill>
        <p:spPr>
          <a:xfrm>
            <a:off x="139680" y="1212840"/>
            <a:ext cx="8802720" cy="5553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риемы создания проблемной ситуаци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rebuchet MS"/>
              </a:rPr>
              <a:t>Побуждающий диалог от проблемной ситуации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280" y="928800"/>
          <a:ext cx="8829720" cy="5761080"/>
        </p:xfrm>
        <a:graphic>
          <a:graphicData uri="http://schemas.openxmlformats.org/drawingml/2006/table">
            <a:tbl>
              <a:tblPr/>
              <a:tblGrid>
                <a:gridCol w="6643800"/>
                <a:gridCol w="2185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буждения к осознанию противореч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буждение к формулированию учеб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1.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1" i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 фактах: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вас удивило? Что интересного заметили? Какие вы видите факты?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</a:t>
                      </a:r>
                      <a:r>
                        <a:rPr b="1" i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 теориях: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вас удивило?  Сколько существует теорий (точек зрения)?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2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Сколько в нашем классе мнений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3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Вы сначала как думали? А как на самом деле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4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Вы смогли выполнить задание? В чем затруднение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5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Вы смогли выполнить задание? Почему не получается?  Чем это задание похоже на предыдущее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Прием 6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Что вы хотели сделать? Какие знания применили? Задание выполнено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брать подходящее: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ой возникает вопрос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ова будет тема урока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обуждающий к гипотезам диалог     </a:t>
            </a:r>
            <a:br>
              <a:rPr sz="3100"/>
            </a:br>
            <a:r>
              <a:rPr b="1" i="1" lang="ru-RU" sz="1600" spc="-1" strike="noStrike">
                <a:solidFill>
                  <a:srgbClr val="002060"/>
                </a:solidFill>
                <a:latin typeface="Trebuchet MS"/>
              </a:rPr>
              <a:t>Каждая проблема имеет решение. Единственная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rebuchet MS"/>
              </a:rPr>
              <a:t>трудность заключается в том, чтобы его найти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rebuchet MS"/>
              </a:rPr>
              <a:t>Эвви Неф, амер. журналист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1344600"/>
          <a:ext cx="8786880" cy="5280120"/>
        </p:xfrm>
        <a:graphic>
          <a:graphicData uri="http://schemas.openxmlformats.org/drawingml/2006/table">
            <a:tbl>
              <a:tblPr/>
              <a:tblGrid>
                <a:gridCol w="1857600"/>
                <a:gridCol w="2428920"/>
                <a:gridCol w="2428560"/>
                <a:gridCol w="20718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рук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буждение к выдвижению гипот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буждение к проверке гипот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ст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актическо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щее побужд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любым гипотезам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Какие есть гипотезы?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аргументу / контраргументу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гласны с этой гипотезой? Почему?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плану проверк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Как можно проверить эту гипотезу?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сказк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решающей гипотез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аргументу / контраргумент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плану проверк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обще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ающей гипотез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гумента / контраргумент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а проверк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Звенья научного творчеств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2094120"/>
                <a:gridCol w="3305160"/>
                <a:gridCol w="33163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з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держ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новка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зникновение проблемной ситуаци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противореч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рмулировка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блема – вопрос, схватывающий противоречие проблемной ситуации, поставленный для раз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иск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движение гипо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рка гипо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ение – понимание нового зн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ражение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ражение нового знания научным языком в принят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укт – рукопись статьи, доклад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ализация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доставление продукта через публикацию, высту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ализованный продукт реферат, статья, доклад, кни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179280"/>
          <a:ext cx="8715600" cy="6523200"/>
        </p:xfrm>
        <a:graphic>
          <a:graphicData uri="http://schemas.openxmlformats.org/drawingml/2006/table">
            <a:tbl>
              <a:tblPr/>
              <a:tblGrid>
                <a:gridCol w="1857600"/>
                <a:gridCol w="2606400"/>
                <a:gridCol w="2438640"/>
                <a:gridCol w="1812960"/>
              </a:tblGrid>
              <a:tr h="105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блемное обуч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адицион-ное обуч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 Методы постановки проблемы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определения т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развитие  познаватель-ного интере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С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общение темы, целей и задач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83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блемная ситуация (противоречие) → эмоция уди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учитель» (малопродуктив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ученик»  (редко, продуктивно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ждающий диа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митация творческой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водящий диалог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к 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тивирующий пр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 Методы поиска решения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крытия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ждающий к гипотезам диа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водящий диалог  от проблемы и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з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общение знания – репродуктив-ные 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рка гипотез (поиск решения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214720" y="5929200"/>
          <a:ext cx="4857480" cy="736560"/>
        </p:xfrm>
        <a:graphic>
          <a:graphicData uri="http://schemas.openxmlformats.org/drawingml/2006/table">
            <a:tbl>
              <a:tblPr/>
              <a:tblGrid>
                <a:gridCol w="1726920"/>
                <a:gridCol w="1411560"/>
                <a:gridCol w="17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двиг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f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Сравнительная характеристика диалогов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14200" y="878040"/>
          <a:ext cx="8729640" cy="5837040"/>
        </p:xfrm>
        <a:graphic>
          <a:graphicData uri="http://schemas.openxmlformats.org/drawingml/2006/table">
            <a:tbl>
              <a:tblPr/>
              <a:tblGrid>
                <a:gridCol w="1106640"/>
                <a:gridCol w="3751200"/>
                <a:gridCol w="3871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буждающ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дводящ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рук-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дельные вопросы и побудительные предложения, подталкивающие мысль учени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истема посильных ученику вопросов и заданий, подводящих его к открытию мыс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2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зна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ысль ученика делает скачок к неизвестному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живание учеником чувства риска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зможны неожиданные ответы учеников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кращается с появлением нужной мысли учени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шаговое жесткое ведение мысли ученика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живание учеником удивления от открытия в конце диалога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чти невозможны неожиданные ответы учеников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 может быть прекращен, идет до последнего вопроса на обобщени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зуль-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творческих способносте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логического мышл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Еще кое -что…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2920" y="714240"/>
          <a:ext cx="8786880" cy="606600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60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Реакция на неожиданные формулировки: принятие без оценки </a:t>
                      </a: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«так»</a:t>
                      </a: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, побуждение к переформированию </a:t>
                      </a: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«кто думает иначе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После формулирования учебной проблемы в виде вопроса (не совпадающего с формулировкой темы) следует сразу переходить к поиску решения. Открыв новое знание, даем ответ на изначальный вопрос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Тема урока может  быть объявлена не в начале урока!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При выходе из проблемной ситуации </a:t>
                      </a:r>
                      <a:r>
                        <a:rPr b="1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обязательно</a:t>
                      </a: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 обеспечить два творческих действия:  осознание противоречия и  формулирование проблемы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Если проблемная ситуация не возникла (чаще при использ. приема № 5 - учащиеся справились с заданием),  разумен выход «Все это сделали? Чуть позже посмотрим, как вы это сделали. Чем это задание отличается от предыдущих. В чем  его новизна»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Что делать, если вдруг…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1285920"/>
          <a:ext cx="8715600" cy="5357880"/>
        </p:xfrm>
        <a:graphic>
          <a:graphicData uri="http://schemas.openxmlformats.org/drawingml/2006/table">
            <a:tbl>
              <a:tblPr/>
              <a:tblGrid>
                <a:gridCol w="2390760"/>
                <a:gridCol w="6324840"/>
              </a:tblGrid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клинило на ошибка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стимулируйте подсказкой рождение решающей гипотез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дея невразуми-тель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дите автора к переформулированию идеи «попробуй выразить свою мысль иначе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 – и в дам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сли гипотеза одна и сразу верная (сильный класс), «подбросьте «ошибочную идею для провер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ойко молча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ать подсказку или сразу сообщить  правильную гипотезу (в слабом классе), организовать ее проверк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14200" y="0"/>
          <a:ext cx="8929800" cy="6500880"/>
        </p:xfrm>
        <a:graphic>
          <a:graphicData uri="http://schemas.openxmlformats.org/drawingml/2006/table">
            <a:tbl>
              <a:tblPr/>
              <a:tblGrid>
                <a:gridCol w="1047240"/>
                <a:gridCol w="143280"/>
                <a:gridCol w="1331280"/>
                <a:gridCol w="1554480"/>
                <a:gridCol w="1356840"/>
                <a:gridCol w="835920"/>
                <a:gridCol w="1091520"/>
                <a:gridCol w="111240"/>
                <a:gridCol w="1458000"/>
              </a:tblGrid>
              <a:tr h="1236600"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и звенья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3640" rIns="53640" tIns="0" bIns="0" anchor="t">
                      <a:noAutofit/>
                    </a:bodyPr>
                    <a:p>
                      <a:pPr marL="149400" algn="ctr"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й у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9400" algn="ctr"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е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057400"/>
                          <a:tab algn="l" pos="43624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 gridSpan="2" row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учебной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ающий от проблемной ситуации диал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й к теме ди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темы с мотивирующим прием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ающий к гипотезам ди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й от проблемы ди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й без проблемы диал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зн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gridSpan="9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943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ые задан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 вед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темы, вопро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gridSpan="2" row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опорного сиг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edc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ка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ed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rebuchet MS"/>
              </a:rPr>
              <a:t>Диагностика №1</a:t>
            </a:r>
            <a:r>
              <a:rPr b="0" i="1" lang="ru-RU" sz="44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Поведение ученика в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проблемной ситуации на основе наблюден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1" descr=""/>
          <p:cNvPicPr/>
          <p:nvPr/>
        </p:nvPicPr>
        <p:blipFill>
          <a:blip r:embed="rId1"/>
          <a:stretch/>
        </p:blipFill>
        <p:spPr>
          <a:xfrm>
            <a:off x="401760" y="476280"/>
            <a:ext cx="86929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rebuchet MS"/>
              </a:rPr>
              <a:t>Диагностика №2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Наблюдение за активностью и отвлекаемостью учащих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072040" y="4357800"/>
            <a:ext cx="1569960" cy="21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7072200" y="3500280"/>
            <a:ext cx="16131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rebuchet MS"/>
              </a:rPr>
              <a:t>Диагностика №3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Отношение  учащихся к учению.   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Содержимое 7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215040" y="44290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3714840" y="43578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есурсное обеспечение реализации прое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Trebuchet MS"/>
              </a:rPr>
              <a:t>Нормативно- правовое обеспечение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Федеральный компонент государственных образовательных стандартов начального общего, основного общего и среднего (полного) общего образования (приложение к приказу Минобразования России  от 05.03.2004 г. № 1089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2.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приложение к приказу Минобразования России  от 09.03.2004 г. № 1312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3. Приказ Министерства образования и науки РФ от 09.12.2008 г. № 379 «Об утверждении перечня учебников, рекомендованных (допущенных) Министерством образования и науки Российской Федерации к использованию в образовательном процессе в общеобразовательных учреждениях, реализующих образовательные программы и имеющих государственную аккредитацию на 2009 – 2010 учебный год»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4. Концепция модернизации российского образования на период до 2010 года и Концепция профильного обучения на старшей ступени общего образования (приказ МО РФ от 18.07.2002  №2783).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есурсное обеспечение реализации проек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rebuchet MS"/>
              </a:rPr>
              <a:t>Методическое обеспечени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МК под ред. М.М. Разумовской; 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МК под ред. Т.Ф. Курдюмовой,  В.Я. Коровиной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мплект  рабочих  тетрадей  по русскому языку для самостоятельных и проверочных работ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омпьютерные обучающие программы 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«Большая энциклопедия Кирилла и Мефодия",  КМ-школа «Уроки  литературы», «Уроки русского  языка»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rebuchet MS"/>
              </a:rPr>
              <a:t>Материально-техническое обеспечение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бинет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мпьютер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tium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2, монитор 15 дюймов «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NY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»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тер цветной «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P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960», сканер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cer Sean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620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1, ксерокс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shuatec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361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1, проектор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PSON EMP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30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елевизор с видеомагнитофон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активная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art-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ска 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Список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абанский Ю. К. Проблемное обучение как средство повышение эффективности учения школьников. - Ростов-на-Дону, 1970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альперин П.Я. Методы обучения и умственное развитие ребенка. - М.: Изд-во МГУ, 1985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утецкий В. А. Основы педагогической психологии. - М.: Просвещение, 1972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утецкий В. А. Психология обучения и воспитания школьников. - М., 1976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удрявцев Т. В. Проблемное обучение: истоки, сущность, перспективы. - М.: Знание, 1991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рнер И.Я. Дидактические основы методов обучения. М.; Педагогика,1984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льникова Е.Л. Технология проблемного обучения. Школа 2100. Образовательная программа и пути ее реализации. М.: Баласс, 1999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73040" indent="-47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rebuchet MS"/>
            </a:endParaRPr>
          </a:p>
        </p:txBody>
      </p:sp>
      <p:pic>
        <p:nvPicPr>
          <p:cNvPr id="117" name="Рисунок 7" descr="Водяные лилии.jpg"/>
          <p:cNvPicPr/>
          <p:nvPr/>
        </p:nvPicPr>
        <p:blipFill>
          <a:blip r:embed="rId1"/>
          <a:stretch/>
        </p:blipFill>
        <p:spPr>
          <a:xfrm>
            <a:off x="857160" y="2143080"/>
            <a:ext cx="7667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Целью данного педагогического проекта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вляется  изучение и раскрытие теоретических аспектов проблемного обучения в школе для его практического внедрения  в образовательный процесс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403992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Для достижения поставленной цели  были определены следующие </a:t>
            </a:r>
            <a:r>
              <a:rPr b="1" lang="ru-RU" sz="1600" spc="-1" strike="noStrike">
                <a:solidFill>
                  <a:srgbClr val="c00000"/>
                </a:solidFill>
                <a:latin typeface="Trebuchet MS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499760"/>
            <a:ext cx="404208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12855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зучить и проанализировать психолого-педагогическую и методическую литературу по теме проект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 помощью технологии проблемного обучения формировать  творческие способности, продуктивное мышление, воображение, познавательную мотивацию учащихс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  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здавать  условия для приобретения учащимися средств познания и исследования, повышать познавательную активность в процессе овладения знаниям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работать уроки с элементами проблемного обуч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оставить подборку проблемных заданий  для трансляции педагогического опыт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3772080" cy="388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Концепция модернизации российского</a:t>
            </a: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 образования на период  до 2010 года определяет </a:t>
            </a: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цели</a:t>
            </a: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 общего образования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ость «ориентации образования не только на усвоение обучающимся определённой суммы знаний, но и на развитие его личности, его познавательных и созидательных  способносте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щеобразовательная школа должна формировать целостную систему универсальных  знаний, умений и навыков, а также самостоятельной деятельности и личной ответственности обучающихся, т.е. ключевые компетентности, определяющие современное качество образования»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835280" y="260280"/>
            <a:ext cx="63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оположники и разработчики технологии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облем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16000" y="206064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проблемного обучения – иде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ж. Дью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1859—1952) американского психолога, философа и педагога; (1894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икаго, опытная школа) 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58920" y="3933720"/>
            <a:ext cx="7129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Росс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разработке концепции проблемного обучения активное участие принимали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рявцев В. Т.,  И. Я. Лернер, А. М. Матюшкин, М. И. Махмутов,  В. Оконь, М. Н. Скаткин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6" descr=""/>
          <p:cNvPicPr/>
          <p:nvPr/>
        </p:nvPicPr>
        <p:blipFill>
          <a:blip r:embed="rId1"/>
          <a:stretch/>
        </p:blipFill>
        <p:spPr>
          <a:xfrm>
            <a:off x="7805880" y="0"/>
            <a:ext cx="13381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39d"/>
                </a:solidFill>
                <a:latin typeface="Trebuchet MS"/>
              </a:rPr>
              <a:t>Теоретическое обоснование проект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блемное обучение - эт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971640" y="206064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Arial"/>
              </a:rPr>
              <a:t>тип развивающего обучения, содержание которого представлено </a:t>
            </a:r>
            <a:r>
              <a:rPr b="1" lang="ru-RU" sz="2400" spc="-1" strike="noStrike" u="sng">
                <a:solidFill>
                  <a:srgbClr val="9a3d01"/>
                </a:solidFill>
                <a:uFillTx/>
                <a:latin typeface="Arial"/>
              </a:rPr>
              <a:t>системой проблемных задач различного уровня сложности</a:t>
            </a:r>
            <a:r>
              <a:rPr b="1" lang="ru-RU" sz="2400" spc="-1" strike="noStrike">
                <a:solidFill>
                  <a:srgbClr val="9a3d01"/>
                </a:solidFill>
                <a:latin typeface="Arial"/>
              </a:rPr>
              <a:t>, в процессе решения которых учащиеся овладевают новыми знаниями и способами действия, а через это происходит формирование творческих способностей: </a:t>
            </a:r>
            <a:r>
              <a:rPr b="1" lang="ru-RU" sz="2400" spc="-1" strike="noStrike" u="sng">
                <a:solidFill>
                  <a:srgbClr val="9a3d01"/>
                </a:solidFill>
                <a:uFillTx/>
                <a:latin typeface="Arial"/>
              </a:rPr>
              <a:t>продуктивного мышления, воображения, познавательной мотивации, интеллектуальных эмо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929280" y="5072040"/>
            <a:ext cx="1798920" cy="15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Этапы проблемной ситуаци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блемная ситуация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проблем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поиск способов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решение проблем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Р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ешение пробле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зникновение проблемной ситу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ознание сущности затруднения и постановка проблем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хождение способа решения путем догадки или выдвижения               предположений и обоснование гипотезы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казательство гипотез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верка правильности решения пробле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Приемы  создания проблемных ситуаций 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читель подводит школьников к противоречию и предлагает им самим найти способ его разрешен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излагает различные точки зрения на один и тот же вопрос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обуждает учащихся делать сравнения, обобщения, выводы из ситуаций, сопоставлять факты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тавит конкретные вопросы на обобщение, обоснование, конкретизацию, логику рассужден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тавит проблемные задачи с недостаточными или избыточными исходными данным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пецифика проектирования проблемного уро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846680"/>
        </p:xfrm>
        <a:graphic>
          <a:graphicData uri="http://schemas.openxmlformats.org/drawingml/2006/table">
            <a:tbl>
              <a:tblPr/>
              <a:tblGrid>
                <a:gridCol w="1114560"/>
                <a:gridCol w="1500120"/>
                <a:gridCol w="5614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ель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тапы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ворческие звенья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вед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новка учебной проблемы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–  формулирование вопроса или темы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иск реш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– открытие субъективно нового 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роиз-вед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ражение решения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– выражение нового знания в доступной фор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ализация продукта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– представление продукта учителю и клас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риемы создания проблемной ситуации    </a:t>
            </a:r>
            <a:br>
              <a:rPr sz="3200"/>
            </a:b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Ученый не тот, кто дает правильные ответы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а тот, кто ставит правильные вопрос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Клод Леви-Стросс, фр антрополог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" name="Содержимое 4" descr=""/>
          <p:cNvPicPr/>
          <p:nvPr/>
        </p:nvPicPr>
        <p:blipFill>
          <a:blip r:embed="rId1"/>
          <a:stretch/>
        </p:blipFill>
        <p:spPr>
          <a:xfrm>
            <a:off x="66600" y="1139760"/>
            <a:ext cx="9010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06:15:14Z</dcterms:created>
  <dc:creator>Пользователь</dc:creator>
  <dc:description/>
  <dc:language>en-US</dc:language>
  <cp:lastModifiedBy>IYG</cp:lastModifiedBy>
  <dcterms:modified xsi:type="dcterms:W3CDTF">2009-12-21T18:15:54Z</dcterms:modified>
  <cp:revision>301</cp:revision>
  <dc:subject/>
  <dc:title>Проблемный урок</dc:title>
</cp:coreProperties>
</file>