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22C-78B8-4CD9-A97C-44F4ED1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2BD-1993-45F5-AD5A-A77B576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EE8-43C7-4F08-A0E7-6B0E00DF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FCF-652C-4DCB-A8BC-A02CE0B3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E1E3-0FB1-43FC-AC3E-534D217A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339-B83D-447B-80FE-1CEC7F1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AFAA-C8EB-4256-82D6-0DF16C0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E64-1EEC-4845-97B1-EC0BDDE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DE74-543F-4699-8F8D-F17A30C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4D58-5F24-4514-9D23-15753AAA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0EB-FD9F-4800-A398-86AFE84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C43-08E3-46A5-9D8E-C92DE614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97E-4881-4EE5-A8D9-2512574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0093-9FFD-4A1E-B507-20DBE07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670-439C-40BF-8B55-BCD074E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70E-102D-4741-868E-E61B460A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EB9E-1AAB-4CB1-8A85-15F78EC0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FBED-5203-4BDF-BBC0-CF650876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B0C1-1CCE-441B-92A2-EE731FA5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448A-921A-4784-B5AE-C6BAB00D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D299-668E-4C9F-BAA1-3EABCFD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5410-C1F4-4C54-9FD2-86E490E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5F1-9471-41D7-A089-2F33F860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AB7A-FF56-4944-9678-13D75F0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8E1E-B471-452B-AFF3-26E5268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1849-0A5C-4653-AFCD-6D70490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8118-7F78-4523-93D8-DB6C48D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8D91-D20D-4302-B0C7-2121A5D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1CD1-C8E7-4651-8E41-ABD5CB56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F39B-FA9A-41F0-AA78-BB0751AC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6A29-A2BD-466A-B5FE-BD600CFA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EE9C-9009-4540-9F7F-99E8C7E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E0A5-5AD0-4DBB-88B9-2AB8902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76B-2F27-47C9-A9B0-3E36933C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C659-F560-465C-A2D1-9F76D1D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B175-8601-4836-9271-040BB3A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E113-97C2-41B1-A470-5DE8DAE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E4C1-3043-40ED-9164-BBD7575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9F6D-F454-4294-BEA9-D549228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EB3E-6F0A-4573-A8CC-323B311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4B4E-056B-4833-8145-63B0D30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32BD-4FA2-467A-9935-5EB33DBD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697B-6838-4F06-8863-2B066A2B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26A-E0B1-4BE7-9DEE-B540A5B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8E0-07A3-4192-BC85-2B74021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172-B3F7-417E-BE97-EF2D2C4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529-CE55-4C3A-8174-5B8531B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EFD-DC1C-49DF-B491-7D3A864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5ED3-CC96-416A-B58B-007A1AD8F59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2E4-7372-4131-A759-82507399C2E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737-7D90-4A1A-81EC-F67BCE6453B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F3B7-FD5D-426E-B85E-BEC176A163B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31840"/>
            <a:ext cx="8686800" cy="6022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900252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9374400" cy="6297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-407880" y="-85680"/>
            <a:ext cx="9539280" cy="659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-237960" y="-30240"/>
            <a:ext cx="9424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58760" y="347760"/>
            <a:ext cx="81500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91064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4" descr="http://im3-tub-ru.yandex.net/i?id=67766467-52-72"/>
          <p:cNvPicPr/>
          <p:nvPr/>
        </p:nvPicPr>
        <p:blipFill>
          <a:blip r:embed="rId1"/>
          <a:stretch/>
        </p:blipFill>
        <p:spPr>
          <a:xfrm>
            <a:off x="-108000" y="404640"/>
            <a:ext cx="2664000" cy="4464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2843280" y="765000"/>
            <a:ext cx="49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«Учение – это ступеньки к счастью, их нельзя перепрыгнуть, но по ним надо идти»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6059880" y="56926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.А. Казански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i-main-pic" descr="Описание: Картинка 211 из 158978"/>
          <p:cNvPicPr/>
          <p:nvPr/>
        </p:nvPicPr>
        <p:blipFill>
          <a:blip r:embed="rId1"/>
          <a:stretch/>
        </p:blipFill>
        <p:spPr>
          <a:xfrm>
            <a:off x="428760" y="404640"/>
            <a:ext cx="8173800" cy="611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8:54:21Z</dcterms:created>
  <dc:creator>Светлана</dc:creator>
  <dc:description/>
  <dc:language>en-US</dc:language>
  <cp:lastModifiedBy>Светлана</cp:lastModifiedBy>
  <dcterms:modified xsi:type="dcterms:W3CDTF">2012-03-09T08:04:52Z</dcterms:modified>
  <cp:revision>36</cp:revision>
  <dc:subject/>
  <dc:title>Социально-бытовая направленность воспитательной работы во внеурочное время в специальной (коррекционной) общеобразовательной школе VIII вида                         ксенофонтова с.н.</dc:title>
</cp:coreProperties>
</file>