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FF71-4415-4F79-B2BC-95D467B99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624-1E6C-4ED3-B6D8-C0DCF4A57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B181-61A2-4DDB-AA76-04BC1A593B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89C-8792-4797-8610-EC26310B1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A3D1-F11F-4E53-9151-0A430F68CF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EEC-5F0D-4543-AE83-7A739B94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B1D-8B41-4C97-BF4A-B446BE9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B37-8035-4146-B81C-34FDA58C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F79-B9F7-498D-9C57-4B78BC4D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129D-A96D-47EC-BB27-153AB20F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4A0-1774-4937-92B0-D86AADE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0A6A-20F8-4FBC-A1F9-1E994575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A910-16D1-4306-A1EE-78AE61D8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056A-9EAB-44AD-8EFA-72463AE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F0C6-429D-4974-99DB-BC1FF81E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8745-B0BA-41B1-908A-1077EF0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5FC-FD5E-4B12-8946-311D866D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679-AA9F-40CE-B764-AE9B76C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C53-3A20-4527-8EF9-0E7D7279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4B54-11F5-4116-8849-C6066ED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F282-4018-4A6F-8935-95B59DD5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4406-9BB9-4A40-A8E5-022C2381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0F34-B550-463F-B12B-8E09D00B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9ADC-11DB-49B8-A76F-9564DB9B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089D-5FD4-4636-AA39-911AE69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A21F-D0B7-47C0-9238-D9836AB1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5373-0E5D-46EB-A11C-5D1AA91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09F-793B-49B2-9AC2-EF59D890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B92B-C45C-4718-A0CA-F78D1FA8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9E31-66F2-4477-91EF-8FB15A8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F362-4B03-42CF-B1E5-D0FBF36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A80F-C288-4967-920C-88DD7E1C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AFE0-CE7A-4118-B03C-5FEEB02A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AD3F-BA96-48F0-876B-D52A0B1E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7ED6-2B58-4F9A-ADA7-C0DE6E73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90C85-7F83-4ED0-A999-A401326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559C-FAF2-4233-9531-D384E66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E864-DEF3-45EB-8E29-6F75BD65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1DD-D134-41CA-995C-3FCF72F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C743-1941-4D3E-8980-6F605D9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EF438-49C1-4ECA-A202-976E43A8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B19D-1739-427A-BA1A-45AE766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701B-CEF2-4671-A3C0-387BC8E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2006-52F7-466F-B5FD-B3DFDD8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FB70-FD30-4D10-98A7-D9BFC3F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AD1E-3853-4549-AC57-A2376B37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810A-18CA-43B6-92F4-71CF57EC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3888-CD17-4F07-8D9D-98233BDB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A28-9B80-4BF8-A1A4-CCB3143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934-D568-4846-A23C-7181C866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1CB-0A5C-4D10-8CF9-5C91C75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6ED-112C-4800-B51D-A42D136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44C-8DCA-4F50-B336-21245FD0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7C10-BD30-482C-ABD0-4B493DF972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859-E1A4-4439-A478-5615D70BCB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D59-E7F9-4EB2-8691-DACBA0BFD5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FBA-6DD2-4000-855C-78571FC208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7;&#1088;&#1077;&#1079;&#1077;&#1085;&#1090;&#1072;&#1094;&#1080;&#1103;%20&#1091;&#1088;&#1086;&#1082;&#1086;&#1074;%20&#1080;&#1085;&#1092;&#1086;&#1088;&#1084;&#1072;&#1090;&#1080;&#1082;&#1080;.ppt" TargetMode="External"/><Relationship Id="rId2" Type="http://schemas.openxmlformats.org/officeDocument/2006/relationships/hyperlink" Target="file:///&#1055;&#1088;&#1077;&#1079;&#1077;&#1085;&#1090;&#1072;&#1094;&#1080;&#1080;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37960" y="1365120"/>
            <a:ext cx="8796600" cy="190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Модульный кур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«Информатика и ИКТ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редмет «Технология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4 класс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176040" y="1066680"/>
            <a:ext cx="8961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89000" y="993600"/>
            <a:ext cx="86263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19240" y="444600"/>
            <a:ext cx="8712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71360" y="1142640"/>
            <a:ext cx="76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спекты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заци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сональный компьютер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лементы логик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ы и систем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Модули  изучения информатики с применением ПК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омство с компьютером: файлы и папк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текст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рисун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электронных публикац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0280" y="99972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Содержание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1.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2.Основное содержа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3.Требование к  уровню подготовки учащихс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4.Прилож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5.Список литературы для учащихс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6.Список литературы для учител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858160" cy="578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42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Приложение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примерные правила поведения в компьютерном классе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гигиенические требования к использованию персональных компьютер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примерный комплекс упражнений для глаз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рекомендации по организации форм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проведения урок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дидактический материа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разработки урок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-42516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результаты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внедрения материала в образовательную практику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ость</dc:creator>
  <dc:description/>
  <dc:language>en-US</dc:language>
  <cp:lastModifiedBy>Admin</cp:lastModifiedBy>
  <dcterms:modified xsi:type="dcterms:W3CDTF">2012-03-09T10:50:58Z</dcterms:modified>
  <cp:revision>26</cp:revision>
  <dc:subject/>
  <dc:title>Рабочая программа</dc:title>
</cp:coreProperties>
</file>