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9.gif" ContentType="image/gif"/>
  <Override PartName="/ppt/media/image7.png" ContentType="image/png"/>
  <Override PartName="/ppt/media/image37.png" ContentType="image/png"/>
  <Override PartName="/ppt/media/image13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22.jpeg" ContentType="image/jpeg"/>
  <Override PartName="/ppt/media/image39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7615-CB03-4341-A582-3B9D9BD8A3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481-0D8C-43EC-B12B-7CEC4656CA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хотворение Ю.Друни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E8B9-0930-44C5-903B-8BEBECF27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668 году в небольшом селе Дидиново был построен корабль «Орел» - капитан голландец Давид Бутлер – который вышел впервые под трехцветным фла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7818-FC2E-44F4-8C5B-7FEA77B31B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озримая ширь полей. Развесистые белоствольные березы. Разливы рек. Это – Россия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6F22-9058-44C4-B443-F5440930C8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ие цветов флага определил Петр первый. Они обозначали: красный (физический) – отвага и героизм, синий (небесный) – целомудрие, белый (божественный) – благородство и чист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523-1A33-4E4C-9AF5-9662715A9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D466-61A8-426B-8A99-3DA1C3763C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F43-033C-476E-A650-2970358447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9986-7C08-4AFC-A2F7-CD96DEB414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ллектуально-игровая програм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7C0-0568-480D-8640-77F920C5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77E-EB7D-4782-B2DE-EABA389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859-4FCC-4B3A-A7E0-622D7F99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DC4-E3C5-44CB-9462-9B2F3EDA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EE3-0C64-4C97-A18A-DDD795DA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3D1-A9A1-446A-8177-1A2B41B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D08D-1161-4FC7-8025-AF26D38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A511-52AB-41C2-A32A-1E6C46F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E2A2-5514-4360-BFBD-FDD92CE7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0D56-20BE-4BAB-8258-70730F85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00E0-250C-488B-B1A9-C4BBBDF8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E91-E61D-4FDB-A5BD-997E19EC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724E-C501-41D3-8957-8D3A1D9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CBBB-1C07-433E-ACE8-686A7D8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FA7B-B92C-4297-A217-7E1186F7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7AC6-C7DC-494C-99C7-83C26F6C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F8D5-1192-412D-91F6-7954186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530-2749-45B3-B4E8-9FA45A8A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F6F-231C-4C71-84A0-D46AEED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936-A41E-4709-A449-18EB0E4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9C7-D918-4EE2-B590-F16EDB9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B65-0AD8-4045-A7EA-0B70A6B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A2C-33D6-4A1F-BCA2-9B74F4B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BB5-7D6F-4BB0-AEC4-DD635FA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BB2-E51E-4B1D-941A-D16DAEA2A7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37E-BD17-4232-857D-15E7722F6A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Белая гора"/>
          <p:cNvPicPr/>
          <p:nvPr/>
        </p:nvPicPr>
        <p:blipFill>
          <a:blip r:embed="rId1"/>
          <a:stretch/>
        </p:blipFill>
        <p:spPr>
          <a:xfrm>
            <a:off x="-109440" y="0"/>
            <a:ext cx="9385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5072040" y="214200"/>
            <a:ext cx="4286160" cy="433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Только вдумайся,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слушайся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 имя - "Россия"!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 нем и росы,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И синь,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И сиянье,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И сила...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            </a:t>
            </a: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Ю. Друнина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Первое изображение флага Дмитрия Донского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652320"/>
            <a:ext cx="5145120" cy="44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Флаг Алексея Михайловича. 1669 г."/>
          <p:cNvPicPr/>
          <p:nvPr/>
        </p:nvPicPr>
        <p:blipFill>
          <a:blip r:embed="rId1"/>
          <a:stretch/>
        </p:blipFill>
        <p:spPr>
          <a:xfrm>
            <a:off x="500040" y="1428840"/>
            <a:ext cx="8143920" cy="51433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92160"/>
            <a:ext cx="90172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Флаг при Петре I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2"/>
          <a:stretch/>
        </p:blipFill>
        <p:spPr>
          <a:xfrm>
            <a:off x="1627200" y="19080"/>
            <a:ext cx="63277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Флаг при Александре II. 1858 г.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353880" y="-208080"/>
            <a:ext cx="855216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флаг"/>
          <p:cNvPicPr/>
          <p:nvPr/>
        </p:nvPicPr>
        <p:blipFill>
          <a:blip r:embed="rId1"/>
          <a:stretch/>
        </p:blipFill>
        <p:spPr>
          <a:xfrm>
            <a:off x="0" y="1743120"/>
            <a:ext cx="9144000" cy="51148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0" descr=""/>
          <p:cNvPicPr/>
          <p:nvPr/>
        </p:nvPicPr>
        <p:blipFill>
          <a:blip r:embed="rId2"/>
          <a:stretch/>
        </p:blipFill>
        <p:spPr>
          <a:xfrm>
            <a:off x="195120" y="-208080"/>
            <a:ext cx="859500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92860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ударственное знамя Российской импери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856-1917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3" descr="__1856~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Флаг 1917 года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6" descr=""/>
          <p:cNvPicPr/>
          <p:nvPr/>
        </p:nvPicPr>
        <p:blipFill>
          <a:blip r:embed="rId2"/>
          <a:stretch/>
        </p:blipFill>
        <p:spPr>
          <a:xfrm>
            <a:off x="1828800" y="19080"/>
            <a:ext cx="565164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3" descr="Флаг 1924 г.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4" descr=""/>
          <p:cNvPicPr/>
          <p:nvPr/>
        </p:nvPicPr>
        <p:blipFill>
          <a:blip r:embed="rId2"/>
          <a:stretch/>
        </p:blipFill>
        <p:spPr>
          <a:xfrm>
            <a:off x="2189160" y="12600"/>
            <a:ext cx="470520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ис Ельцин (слева) и Александр Коржаков на фоне исторического флага России. Белый дом, Москва, август 199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одержимое 3" descr="200px-1991_coup_yeltsin.jpg"/>
          <p:cNvPicPr/>
          <p:nvPr/>
        </p:nvPicPr>
        <p:blipFill>
          <a:blip r:embed="rId1"/>
          <a:stretch/>
        </p:blipFill>
        <p:spPr>
          <a:xfrm>
            <a:off x="1714680" y="1982880"/>
            <a:ext cx="6500520" cy="48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одержимое 3" descr="Флаг России с 25.12.00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5" descr=""/>
          <p:cNvPicPr/>
          <p:nvPr/>
        </p:nvPicPr>
        <p:blipFill>
          <a:blip r:embed="rId2"/>
          <a:stretch/>
        </p:blipFill>
        <p:spPr>
          <a:xfrm>
            <a:off x="847800" y="19080"/>
            <a:ext cx="780876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6003"/>
          <p:cNvPicPr/>
          <p:nvPr/>
        </p:nvPicPr>
        <p:blipFill>
          <a:blip r:embed="rId1"/>
          <a:stretch/>
        </p:blipFill>
        <p:spPr>
          <a:xfrm>
            <a:off x="-214200" y="-341280"/>
            <a:ext cx="9358200" cy="719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-214200" y="5143680"/>
            <a:ext cx="992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Что же такое Россия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929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5dff"/>
                </a:solidFill>
                <a:latin typeface="Arial"/>
              </a:rPr>
              <a:t>Ответственность за надругательство над флагом Росс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ругательство над Государственным флагом Российской Федерации является преступлени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статье 329 Уголовного кодекса России «Надругательство над Государственным гербом Российской Федерации или Государственным флагом Российской Федерации»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о карается ограничением свободы на срок до двух лет, либо арестом на срок от трёх до шести месяцев, либо лишением свободы на срок до одного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5dff"/>
                </a:solidFill>
                <a:latin typeface="Arial"/>
              </a:rPr>
              <a:t>День Государственного флага 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ая стать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ень Государственного флага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нь Государственного Флага Российской Федерации отмечается 22 августа каждого года с 1994 г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Висло-одерская операция"/>
          <p:cNvPicPr/>
          <p:nvPr/>
        </p:nvPicPr>
        <p:blipFill>
          <a:blip r:embed="rId1"/>
          <a:stretch/>
        </p:blipFill>
        <p:spPr>
          <a:xfrm>
            <a:off x="2147760" y="0"/>
            <a:ext cx="6996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214200" y="214200"/>
            <a:ext cx="89298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мя Побе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штурмовой флаг 150-й ордена Кутузова II-й степени Идрицкой стрелковой дивизии, водружённый 1 мая1945 года над зданием рейхстага в городе Берлине советскими воинами Алексеем Берестом, Михаилом Егоровым и Мелитоном Кант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им законодательством установлено, ч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Знамя Победы является официальным символом победы советского народа и его Вооружённых Сил над фашистской Германией в Великой Отечественной войне 1941— 1945 годов, государственной реликвией Росси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находится на вечном хранении в условиях, обеспечивающих его сохранность и доступность для обозр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2" descr="250px-Soviet_Znamya_Pobedy_svg.png"/>
          <p:cNvPicPr/>
          <p:nvPr/>
        </p:nvPicPr>
        <p:blipFill>
          <a:blip r:embed="rId1"/>
          <a:stretch/>
        </p:blipFill>
        <p:spPr>
          <a:xfrm>
            <a:off x="1214280" y="3357720"/>
            <a:ext cx="62866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Victory_Bann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150PX-~1.JPG"/>
          <p:cNvPicPr/>
          <p:nvPr/>
        </p:nvPicPr>
        <p:blipFill>
          <a:blip r:embed="rId1"/>
          <a:stretch/>
        </p:blipFill>
        <p:spPr>
          <a:xfrm>
            <a:off x="4489560" y="0"/>
            <a:ext cx="465444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" descr=""/>
          <p:cNvPicPr/>
          <p:nvPr/>
        </p:nvPicPr>
        <p:blipFill>
          <a:blip r:embed="rId2"/>
          <a:stretch/>
        </p:blipFill>
        <p:spPr>
          <a:xfrm>
            <a:off x="42840" y="1468440"/>
            <a:ext cx="457848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имвол страны. Ему, как святыне, отдаются высшие государственные почести. Это официальный символ государственной власти, выражающий идею единства и суверенитета государст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300px-MoscowParade2009_3.jpg"/>
          <p:cNvPicPr/>
          <p:nvPr/>
        </p:nvPicPr>
        <p:blipFill>
          <a:blip r:embed="rId1"/>
          <a:stretch/>
        </p:blipFill>
        <p:spPr>
          <a:xfrm>
            <a:off x="0" y="0"/>
            <a:ext cx="4821120" cy="3214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" descr="300px-Victory_Day_Parade_2005-4.jpg"/>
          <p:cNvPicPr/>
          <p:nvPr/>
        </p:nvPicPr>
        <p:blipFill>
          <a:blip r:embed="rId2"/>
          <a:stretch/>
        </p:blipFill>
        <p:spPr>
          <a:xfrm>
            <a:off x="3714840" y="3238560"/>
            <a:ext cx="5429160" cy="3619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3"/>
          <p:cNvSpPr/>
          <p:nvPr/>
        </p:nvSpPr>
        <p:spPr>
          <a:xfrm>
            <a:off x="270000" y="3929040"/>
            <a:ext cx="32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л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азовите дату дня рождения российского бело-сине-красного флаг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20 января 1705 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асположи цвета флага по порядку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3" descr="rusflaga.gif"/>
          <p:cNvPicPr/>
          <p:nvPr/>
        </p:nvPicPr>
        <p:blipFill>
          <a:blip r:embed="rId1"/>
          <a:stretch/>
        </p:blipFill>
        <p:spPr>
          <a:xfrm>
            <a:off x="3714840" y="3429000"/>
            <a:ext cx="3500280" cy="25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березы"/>
          <p:cNvPicPr/>
          <p:nvPr/>
        </p:nvPicPr>
        <p:blipFill>
          <a:blip r:embed="rId1"/>
          <a:stretch/>
        </p:blipFill>
        <p:spPr>
          <a:xfrm>
            <a:off x="-285840" y="-177840"/>
            <a:ext cx="9429840" cy="71503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429840" y="5143680"/>
            <a:ext cx="815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Что же такое Россия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7146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5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Что обозначает цвет флага: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белы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ин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расный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м году святынь русского государства – триколор, снова стал национальным флагом Росс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991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ак назывались первые флаги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Cтя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8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Из каких частей состоит флаг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ревко, полотнище, наверш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5d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назывался корабль, для которого царь Алексей Михайлович велел изготовить бело-сине-красный флаг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“Орел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214200"/>
          <a:ext cx="9144000" cy="6642360"/>
        </p:xfrm>
        <a:graphic>
          <a:graphicData uri="http://schemas.openxmlformats.org/drawingml/2006/table">
            <a:tbl>
              <a:tblPr/>
              <a:tblGrid>
                <a:gridCol w="5643720"/>
                <a:gridCol w="3500280"/>
              </a:tblGrid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38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аким событием связано появление красивого трёхцветного полотнищ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троительством в России мощного военного ф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е старинное русское название флаг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я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490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впервые появился триколор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це XVII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ввёл порядок расположения цветов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ётр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мы отмечаем День Государственного флаг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авгу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838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цвет считался императорским (царским) и какой цвет считался символом вечност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, зол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838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назывался флаг, белый с Лазоревым крестом, который в 1712 г. взвился над военно-морскими кораблями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флагов было в период царствования Петра 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118440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реле 1918 г. по предложению Якова Свердлова был утвержден флаг, позаимствованный у европейских социалистов прошлого века. Как он выглядел и до какого времени просуществов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 флаг, в левом верхнем углу золотая звезда серп и молот. До августа 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0" y="214200"/>
          <a:ext cx="9144000" cy="6642360"/>
        </p:xfrm>
        <a:graphic>
          <a:graphicData uri="http://schemas.openxmlformats.org/drawingml/2006/table">
            <a:tbl>
              <a:tblPr/>
              <a:tblGrid>
                <a:gridCol w="5643720"/>
                <a:gridCol w="3500280"/>
              </a:tblGrid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38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аким событием связано появление красивого трёхцветного полотнищ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троительством в России мощного военного ф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е старинное русское название флаг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я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490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впервые появился триколор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це XVII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ввёл порядок расположения цветов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ётр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мы отмечаем День Государственного флаг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авгу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838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цвет считался императорским (царским) и какой цвет считался символом вечност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, зол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838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назывался флаг, белый с Лазоревым крестом, который в 1712 г. взвился над военно-морскими кораблями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490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флагов было в период царствования Петра 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118440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реле 1918 г. по предложению Якова Свердлова был утвержден флаг, позаимствованный у европейских социалистов прошлого века. Как он выглядел и до какого времени просуществов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 флаг, в левом верхнем углу золотая звезда серп и молот. До августа 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</a:tbl>
          </a:graphicData>
        </a:graphic>
      </p:graphicFrame>
      <p:cxnSp>
        <p:nvCxnSpPr>
          <p:cNvPr id="170" name="Прямая со стрелкой 3"/>
          <p:cNvCxnSpPr/>
          <p:nvPr/>
        </p:nvCxnSpPr>
        <p:spPr>
          <a:xfrm>
            <a:off x="4285800" y="1785960"/>
            <a:ext cx="1715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1" name="Прямая со стрелкой 6"/>
          <p:cNvCxnSpPr/>
          <p:nvPr/>
        </p:nvCxnSpPr>
        <p:spPr>
          <a:xfrm>
            <a:off x="4357440" y="2214720"/>
            <a:ext cx="15721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2" name="Прямая со стрелкой 8"/>
          <p:cNvCxnSpPr/>
          <p:nvPr/>
        </p:nvCxnSpPr>
        <p:spPr>
          <a:xfrm>
            <a:off x="5285880" y="4857840"/>
            <a:ext cx="715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3" name="Прямая со стрелкой 10"/>
          <p:cNvCxnSpPr/>
          <p:nvPr/>
        </p:nvCxnSpPr>
        <p:spPr>
          <a:xfrm>
            <a:off x="5214960" y="5428800"/>
            <a:ext cx="7149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4" name="Прямая со стрелкой 12"/>
          <p:cNvCxnSpPr/>
          <p:nvPr/>
        </p:nvCxnSpPr>
        <p:spPr>
          <a:xfrm>
            <a:off x="5143680" y="1143000"/>
            <a:ext cx="786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5" name="Прямая со стрелкой 14"/>
          <p:cNvCxnSpPr/>
          <p:nvPr/>
        </p:nvCxnSpPr>
        <p:spPr>
          <a:xfrm>
            <a:off x="5214600" y="328572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6" name="Прямая со стрелкой 18"/>
          <p:cNvCxnSpPr/>
          <p:nvPr/>
        </p:nvCxnSpPr>
        <p:spPr>
          <a:xfrm>
            <a:off x="4572000" y="2786040"/>
            <a:ext cx="13579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7" name="Прямая со стрелкой 20"/>
          <p:cNvCxnSpPr/>
          <p:nvPr/>
        </p:nvCxnSpPr>
        <p:spPr>
          <a:xfrm>
            <a:off x="5286240" y="4071960"/>
            <a:ext cx="643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Прямая со стрелкой 22"/>
          <p:cNvCxnSpPr/>
          <p:nvPr/>
        </p:nvCxnSpPr>
        <p:spPr>
          <a:xfrm>
            <a:off x="5285880" y="642888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90960" y="1980720"/>
            <a:ext cx="33526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оложите трех сестер: силу, верность, чистоту – соответственно цветам фла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флаг"/>
          <p:cNvPicPr/>
          <p:nvPr/>
        </p:nvPicPr>
        <p:blipFill>
          <a:blip r:embed="rId1"/>
          <a:stretch/>
        </p:blipFill>
        <p:spPr>
          <a:xfrm>
            <a:off x="380880" y="1981080"/>
            <a:ext cx="533412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90960" y="1980720"/>
            <a:ext cx="33526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Т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, КРАС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028" descr="флаг"/>
          <p:cNvPicPr/>
          <p:nvPr/>
        </p:nvPicPr>
        <p:blipFill>
          <a:blip r:embed="rId1"/>
          <a:stretch/>
        </p:blipFill>
        <p:spPr>
          <a:xfrm>
            <a:off x="380880" y="1981080"/>
            <a:ext cx="533412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Флаги каких стран здесь приведены в качестве пример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- флаг Армении, 2 - флаг Эстонии, 3 - флаг Франции, 4 - флаг Росс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Рисунок 3" descr="http://festival.1september.ru/articles/576225/img1.gif"/>
          <p:cNvPicPr/>
          <p:nvPr/>
        </p:nvPicPr>
        <p:blipFill>
          <a:blip r:embed="rId1"/>
          <a:stretch/>
        </p:blipFill>
        <p:spPr>
          <a:xfrm>
            <a:off x="0" y="4286160"/>
            <a:ext cx="90010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Кама"/>
          <p:cNvPicPr/>
          <p:nvPr/>
        </p:nvPicPr>
        <p:blipFill>
          <a:blip r:embed="rId1"/>
          <a:stretch/>
        </p:blipFill>
        <p:spPr>
          <a:xfrm>
            <a:off x="-357120" y="0"/>
            <a:ext cx="9718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82880" y="5072040"/>
            <a:ext cx="895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Что же такое Россия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13880" y="356760"/>
            <a:ext cx="76438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азовите европейские государства, которые использую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ИКОЛ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 тех же цветов, что и Российский флаг: белый - синий - красный, в любой последова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Рисунок 3" descr="http://festival.1september.ru/articles/576225/img2.gif"/>
          <p:cNvPicPr/>
          <p:nvPr/>
        </p:nvPicPr>
        <p:blipFill>
          <a:blip r:embed="rId1"/>
          <a:stretch/>
        </p:blipFill>
        <p:spPr>
          <a:xfrm>
            <a:off x="0" y="3044880"/>
            <a:ext cx="91440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1143000" y="428760"/>
            <a:ext cx="7358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с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ения (1991 г.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ак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б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лаг Государственного Сообщества Сербии и Черногор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ксембург, Нидерланд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ват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лаг республики Герцег-Босна в мусульманско-хорватской федерации Республики Босния и Герцегови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лаге какого государства эти три цвета (белый - синий - красный) расположены не горизонтально, а вертикаль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лаге Фран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моряки назвали флаг России и флаг Голландии (Нидерландов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сказка: название получается из букв цветов флага при перечислении их сверху вни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сийский флаг - БЕСИК (БЕлый + СИний + Крас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ландский флаг - КРАБЕС (КРАсный + БЕлый + Синий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менялся Российский флаг со времен Петра до наших дн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Рисунок 3" descr="http://festival.1september.ru/articles/576225/img3.gif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1571760" y="55008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 5 3 2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ШЕ ОТЕ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храм"/>
          <p:cNvPicPr/>
          <p:nvPr/>
        </p:nvPicPr>
        <p:blipFill>
          <a:blip r:embed="rId1"/>
          <a:stretch/>
        </p:blipFill>
        <p:spPr>
          <a:xfrm>
            <a:off x="533520" y="304920"/>
            <a:ext cx="3147840" cy="62420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rusflaga.gif"/>
          <p:cNvPicPr/>
          <p:nvPr/>
        </p:nvPicPr>
        <p:blipFill>
          <a:blip r:embed="rId2"/>
          <a:stretch/>
        </p:blipFill>
        <p:spPr>
          <a:xfrm>
            <a:off x="4071960" y="2428920"/>
            <a:ext cx="484812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stuff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1676520" y="6094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Красная площадь"/>
          <p:cNvPicPr/>
          <p:nvPr/>
        </p:nvPicPr>
        <p:blipFill>
          <a:blip r:embed="rId1"/>
          <a:stretch/>
        </p:blipFill>
        <p:spPr>
          <a:xfrm>
            <a:off x="0" y="-1571760"/>
            <a:ext cx="9144000" cy="92138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590400" y="36360"/>
            <a:ext cx="8242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285840" y="285840"/>
            <a:ext cx="8572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дним из основных законов, записанных в Российской Конституции, является Закон о государственной символике. Государственная символика – это герб, флаг и гимн нашего государств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7" descr=""/>
          <p:cNvPicPr/>
          <p:nvPr/>
        </p:nvPicPr>
        <p:blipFill>
          <a:blip r:embed="rId1"/>
          <a:srcRect l="28181" t="33465" r="28879" b="59497"/>
          <a:stretch/>
        </p:blipFill>
        <p:spPr>
          <a:xfrm>
            <a:off x="0" y="50004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rusflaga.gif"/>
          <p:cNvPicPr/>
          <p:nvPr/>
        </p:nvPicPr>
        <p:blipFill>
          <a:blip r:embed="rId2"/>
          <a:stretch/>
        </p:blipFill>
        <p:spPr>
          <a:xfrm>
            <a:off x="642960" y="2643120"/>
            <a:ext cx="578628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http://festival.1september.ru/articles/510154/image4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236160" y="4320"/>
            <a:ext cx="858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c6e"/>
                </a:solidFill>
                <a:latin typeface="Calibri"/>
                <a:ea typeface="Times New Roman"/>
              </a:rPr>
              <a:t>Государственный флаг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c6e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1c6e"/>
                </a:solidFill>
                <a:latin typeface="Calibri"/>
                <a:ea typeface="Times New Roman"/>
              </a:rPr>
              <a:t>и история его поя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5675400" y="3828960"/>
            <a:ext cx="3627360" cy="27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1:55:55Z</dcterms:created>
  <dc:creator>Компьютер 9</dc:creator>
  <dc:description/>
  <dc:language>en-US</dc:language>
  <cp:lastModifiedBy>дом</cp:lastModifiedBy>
  <dcterms:modified xsi:type="dcterms:W3CDTF">2010-12-05T18:36:18Z</dcterms:modified>
  <cp:revision>42</cp:revision>
  <dc:subject/>
  <dc:title>Презентация PowerPoint</dc:title>
</cp:coreProperties>
</file>