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56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40.gif" ContentType="image/gif"/>
  <Override PartName="/ppt/media/image55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estival.1september.ru/articles/582796/" TargetMode="External"/><Relationship Id="rId3" Type="http://schemas.openxmlformats.org/officeDocument/2006/relationships/hyperlink" Target="http://festival.1september.ru/articles/582796/" TargetMode="External"/><Relationship Id="rId4" Type="http://schemas.openxmlformats.org/officeDocument/2006/relationships/hyperlink" Target="http://festival.1september.ru/articles/582796/" TargetMode="External"/><Relationship Id="rId5" Type="http://schemas.openxmlformats.org/officeDocument/2006/relationships/hyperlink" Target="http://festival.1september.ru/articles/582796/" TargetMode="External"/><Relationship Id="rId6" Type="http://schemas.openxmlformats.org/officeDocument/2006/relationships/hyperlink" Target="http://igor-grabar.ru/" TargetMode="External"/><Relationship Id="rId7" Type="http://schemas.openxmlformats.org/officeDocument/2006/relationships/hyperlink" Target="http://igor-grabar.ru/" TargetMode="External"/><Relationship Id="rId8" Type="http://schemas.openxmlformats.org/officeDocument/2006/relationships/hyperlink" Target="http://igor-grabar.ru/" TargetMode="External"/><Relationship Id="rId9" Type="http://schemas.openxmlformats.org/officeDocument/2006/relationships/hyperlink" Target="http://igor-grabar.ru/" TargetMode="External"/><Relationship Id="rId10" Type="http://schemas.openxmlformats.org/officeDocument/2006/relationships/hyperlink" Target="http://www.perovograd.ru/viewpage.php?page_id=52" TargetMode="Externa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67652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5da2"/>
                </a:solidFill>
                <a:latin typeface="Calibri"/>
              </a:rPr>
              <a:t>Презентация </a:t>
            </a:r>
            <a:r>
              <a:rPr b="0" lang="en-US" sz="6000" spc="-1" strike="noStrike">
                <a:solidFill>
                  <a:srgbClr val="005da2"/>
                </a:solidFill>
                <a:latin typeface="Calibri"/>
              </a:rPr>
              <a:t>                 </a:t>
            </a:r>
            <a:r>
              <a:rPr b="0" lang="ru-RU" sz="6000" spc="-1" strike="noStrike">
                <a:solidFill>
                  <a:srgbClr val="005da2"/>
                </a:solidFill>
                <a:latin typeface="Calibri"/>
              </a:rPr>
              <a:t>«СНЕГА РОССИИ»</a:t>
            </a:r>
            <a:endParaRPr b="0" lang="en-US" sz="6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980720" y="4114800"/>
            <a:ext cx="5791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Занятие для детей старшего дошкольного возраста: «Ознакомление с окружающим миром»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Технология: Мультимедийное занятие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Подготовлено воспитателем Дегтяревой О.А.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0" name=""/>
          <p:cNvSpPr/>
          <p:nvPr/>
        </p:nvSpPr>
        <p:spPr>
          <a:xfrm>
            <a:off x="609480" y="457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Tahoma"/>
              </a:rPr>
              <a:t>Государственное бюджет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Tahoma"/>
              </a:rPr>
              <a:t>центр развития ребёнка – детский сад №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Tahoma"/>
              </a:rPr>
              <a:t>Красносельского района г. Санкт-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ТАЙНА РОЖДЕНИЯ СНЕЖИНОК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315200" cy="4629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КАК ОБРАЗУЮТСЯ СНЕЖИНКИ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14440" y="1143000"/>
            <a:ext cx="3446640" cy="4419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105520" y="1143000"/>
            <a:ext cx="3571920" cy="4419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24000" y="456840"/>
            <a:ext cx="76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ВСЕ СНЕЖИНКИ РАЗНЫЕ ПО ФОРМЕ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733920" y="2743200"/>
            <a:ext cx="2361960" cy="2133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2514600" cy="18162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72200" y="3809880"/>
            <a:ext cx="2514600" cy="1986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447920" y="1447920"/>
            <a:ext cx="2209680" cy="2057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371600" y="3886200"/>
            <a:ext cx="2286000" cy="2071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МЕТЕЛЬ, ПОЗЁМКА, ВЬЮГА, ПУРГА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73" name="Текст 2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3429000" cy="2590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4" name="Текст 2" descr=""/>
          <p:cNvPicPr/>
          <p:nvPr/>
        </p:nvPicPr>
        <p:blipFill>
          <a:blip r:embed="rId3"/>
          <a:stretch/>
        </p:blipFill>
        <p:spPr>
          <a:xfrm>
            <a:off x="4800600" y="838080"/>
            <a:ext cx="3962520" cy="2590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5" name="Текст 2" descr=""/>
          <p:cNvPicPr/>
          <p:nvPr/>
        </p:nvPicPr>
        <p:blipFill>
          <a:blip r:embed="rId4"/>
          <a:stretch/>
        </p:blipFill>
        <p:spPr>
          <a:xfrm>
            <a:off x="1295280" y="3505320"/>
            <a:ext cx="342900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6" name="Текст 2" descr=""/>
          <p:cNvPicPr/>
          <p:nvPr/>
        </p:nvPicPr>
        <p:blipFill>
          <a:blip r:embed="rId5"/>
          <a:stretch/>
        </p:blipFill>
        <p:spPr>
          <a:xfrm>
            <a:off x="4800600" y="3505320"/>
            <a:ext cx="396252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КОГДА МНОГО СНЕГА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7467840" cy="46209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СКУЛЬПТУРЫ ИЗ СНЕГ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80" name="Текст 2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3465720" cy="4038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81" name="Текст 2" descr=""/>
          <p:cNvPicPr/>
          <p:nvPr/>
        </p:nvPicPr>
        <p:blipFill>
          <a:blip r:embed="rId3"/>
          <a:stretch/>
        </p:blipFill>
        <p:spPr>
          <a:xfrm>
            <a:off x="1295280" y="1219320"/>
            <a:ext cx="3602160" cy="4038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Текст 2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3427200" cy="4267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83" name="Текст 2" descr=""/>
          <p:cNvPicPr/>
          <p:nvPr/>
        </p:nvPicPr>
        <p:blipFill>
          <a:blip r:embed="rId3"/>
          <a:stretch/>
        </p:blipFill>
        <p:spPr>
          <a:xfrm>
            <a:off x="1219320" y="380880"/>
            <a:ext cx="3549600" cy="4419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6858000" y="3808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ГНОМ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1814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СНУСМУМ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Текст 2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4038480" cy="4038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87" name="Текст 2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3657600" cy="4038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88" name=""/>
          <p:cNvSpPr/>
          <p:nvPr/>
        </p:nvSpPr>
        <p:spPr>
          <a:xfrm flipH="1">
            <a:off x="6172200" y="487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ПАРО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ЗА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СНЕЖНАЯ ПАЛИТР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91" name="Текст 2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746784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2" name="Текст 2" descr=""/>
          <p:cNvPicPr/>
          <p:nvPr/>
        </p:nvPicPr>
        <p:blipFill>
          <a:blip r:embed="rId3"/>
          <a:stretch/>
        </p:blipFill>
        <p:spPr>
          <a:xfrm>
            <a:off x="1295280" y="914400"/>
            <a:ext cx="7467840" cy="2514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7467840" cy="2666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7467840" cy="2667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Задачи: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24000" y="1294920"/>
            <a:ext cx="763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da2"/>
                </a:solidFill>
                <a:latin typeface="Calibri"/>
              </a:rPr>
              <a:t>1. Образовательные: расширить и конкретизировать представления о зиме и о снеге, активизировать словарный запас детей по указанной теме.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da2"/>
                </a:solidFill>
                <a:latin typeface="Calibri"/>
              </a:rPr>
              <a:t>2. Воспитательные: Вызвать у детей познавательный и эмоциональный отклик, чувство сопричастности, гордости за красоту окружающей нас природы. Способствовать тому, чтобы дети соотносили увиденное с собственными чувствами, личным опытом общения с природой, высказывали свои суждения и оценки, обсуждали увиденное друг с другом и со взрослыми.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5da2"/>
                </a:solidFill>
                <a:latin typeface="Calibri"/>
              </a:rPr>
              <a:t>Развивающие: Развивать логическое мышление и умение давать эстетические оценки, соотносить по настроению образы живописи, музыки, поэзии и скульптуры.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СНЕГ ЗИМОЙ БЫВАЕТ РАЗНЫМ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3429000" cy="3603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14800" cy="3951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Текст 2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3576600" cy="4876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9" name="Текст 2" descr=""/>
          <p:cNvPicPr/>
          <p:nvPr/>
        </p:nvPicPr>
        <p:blipFill>
          <a:blip r:embed="rId3"/>
          <a:stretch/>
        </p:blipFill>
        <p:spPr>
          <a:xfrm>
            <a:off x="4724280" y="380880"/>
            <a:ext cx="4038840" cy="2691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724280" y="3124080"/>
            <a:ext cx="4064040" cy="2876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СНЕГ В РУССКОМ ИСКУССТВЕ 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914400"/>
            <a:ext cx="7391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Наша зима у поэтов, композиторов, художников – красавица, волшебница, кудесница, чародейка, порой озорная, порой тихая, словно сон. 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da2"/>
                </a:solidFill>
                <a:latin typeface="Calibri"/>
              </a:rPr>
              <a:t>И.Э. Грабарь «Иней»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716256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0" y="296640"/>
            <a:ext cx="7632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ВОЛШЕБНИЦА ЗИМ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895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Вот север,</a:t>
            </a: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тучи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нагоняя, 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Дохнул, завыл 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и вот сама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Идёт волшебница 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зима…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А.С. Пушкин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5276880" cy="3809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632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ЧАРОДЕЙКА ЗИМ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3640" y="1631520"/>
            <a:ext cx="317988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«Чародейкою Зимою</a:t>
            </a:r>
            <a:br>
              <a:rPr sz="2000"/>
            </a:b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Околдован, лес стоит, </a:t>
            </a:r>
            <a:br>
              <a:rPr sz="2000"/>
            </a:b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И под снежной бахромою,</a:t>
            </a:r>
            <a:br>
              <a:rPr sz="2000"/>
            </a:b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Неподвижною, немою, </a:t>
            </a:r>
            <a:br>
              <a:rPr sz="2000"/>
            </a:b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Чудной жизнью он блестит…»</a:t>
            </a: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5da2"/>
                </a:solidFill>
                <a:latin typeface="Calibri"/>
              </a:rPr>
              <a:t>Ф.И. Тютчев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419360" cy="3848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СНЕГ СЛОВНО СЕРЕБРО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732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«Белая берёза </a:t>
            </a:r>
            <a:br>
              <a:rPr sz="2000"/>
            </a:b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Под моим окном</a:t>
            </a:r>
            <a:br>
              <a:rPr sz="2000"/>
            </a:b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Принакрылась снегом, </a:t>
            </a:r>
            <a:br>
              <a:rPr sz="2000"/>
            </a:b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Точно серебром…»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С.А. Есенин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4495680" cy="4724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0" y="296640"/>
            <a:ext cx="7632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ПУШИСТЫЙ СНЕГ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200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Белый снег</a:t>
            </a:r>
            <a:r>
              <a:rPr b="0" lang="en-US" sz="2400" spc="-1" strike="noStrike">
                <a:solidFill>
                  <a:srgbClr val="005da2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пушистый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В воздухе кружится,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И на землю тихо, падает, ложится.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А под утро снегом поле   забелело,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da2"/>
                </a:solidFill>
                <a:latin typeface="Calibri"/>
              </a:rPr>
              <a:t>Точно пеленою все его одело.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          </a:t>
            </a:r>
            <a:r>
              <a:rPr b="0" lang="en-US" sz="2400" spc="-1" strike="noStrike">
                <a:solidFill>
                  <a:srgbClr val="005da2"/>
                </a:solidFill>
                <a:latin typeface="Calibri"/>
              </a:rPr>
              <a:t>И. Суриков</a:t>
            </a: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81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0" y="533160"/>
            <a:ext cx="763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СНЕГ В КАРТИНАХ РУССКИХ ХУДОЖНИКОВ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da2"/>
                </a:solidFill>
                <a:latin typeface="Calibri"/>
              </a:rPr>
              <a:t>Русская зимушка-зима всегда привлекала внимание художников. Снег в картинах русских художников – многозначный образ, который порой рождает в душе прямо противоположные чувства. На их полотнах русская природа такая как она есть: с её притягательной красотой и суровостью. Вот какой видели зиму русские художники И.Э.Грабарь, И.И. Шишкин, Н.К. Рерих, В.И. Суриков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Игорь Эммануилович Грабарь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9" name="Текст 2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2286000" cy="2514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20" name="Текст 2" descr=""/>
          <p:cNvPicPr/>
          <p:nvPr/>
        </p:nvPicPr>
        <p:blipFill>
          <a:blip r:embed="rId3"/>
          <a:stretch/>
        </p:blipFill>
        <p:spPr>
          <a:xfrm>
            <a:off x="5715000" y="1143000"/>
            <a:ext cx="2286000" cy="2438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21" name="Текст 2" descr=""/>
          <p:cNvPicPr/>
          <p:nvPr/>
        </p:nvPicPr>
        <p:blipFill>
          <a:blip r:embed="rId4"/>
          <a:stretch/>
        </p:blipFill>
        <p:spPr>
          <a:xfrm>
            <a:off x="1371600" y="1066680"/>
            <a:ext cx="3657600" cy="2438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22" name="Текст 2" descr=""/>
          <p:cNvPicPr/>
          <p:nvPr/>
        </p:nvPicPr>
        <p:blipFill>
          <a:blip r:embed="rId5"/>
          <a:stretch/>
        </p:blipFill>
        <p:spPr>
          <a:xfrm>
            <a:off x="4572000" y="3962520"/>
            <a:ext cx="3657600" cy="2209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809880" y="35661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Иней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35326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Февральская лазурь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6327000"/>
            <a:ext cx="34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Мартовский снег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6315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Март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87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Иван Иванович Шишкин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29" name="Текст 2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4343400" cy="4114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30" name="Текст 2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2743200" cy="2514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31" name="Текст 2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78740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352680" y="600444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Зима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62013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На севере диком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5805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Зима в лесу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952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9015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0" y="456840"/>
            <a:ext cx="76327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a2"/>
                </a:solidFill>
                <a:latin typeface="Calibri"/>
              </a:rPr>
              <a:t>Совместная деятельность:</a:t>
            </a: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Наблюдение за зимними явлениями в природе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Беседа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Чтение художественной литературы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Просмотр презентации 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Рассматривание схем, моделей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Знакомство с произведениями живописи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Разучивание стихотворений и песен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Прослушивание музыкальных произведений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Знакомство со скульптурой из снега; постройка крепости из снега на прогулке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Отгадывание загадок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Georgia"/>
              </a:rPr>
              <a:t>Изготовление коллажа</a:t>
            </a:r>
            <a:endParaRPr b="0" lang="en-US" sz="26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Николай Константинович Рерих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37" name="Текст 2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3429000" cy="2438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38" name="Текст 2" descr=""/>
          <p:cNvPicPr/>
          <p:nvPr/>
        </p:nvPicPr>
        <p:blipFill>
          <a:blip r:embed="rId3"/>
          <a:stretch/>
        </p:blipFill>
        <p:spPr>
          <a:xfrm>
            <a:off x="1295280" y="4343400"/>
            <a:ext cx="3303720" cy="1981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39" name="Текст 2" descr=""/>
          <p:cNvPicPr/>
          <p:nvPr/>
        </p:nvPicPr>
        <p:blipFill>
          <a:blip r:embed="rId4"/>
          <a:stretch/>
        </p:blipFill>
        <p:spPr>
          <a:xfrm>
            <a:off x="4876920" y="1600200"/>
            <a:ext cx="3962160" cy="3251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990720" y="3885120"/>
            <a:ext cx="46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Канченджанга. Гимала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90880" y="637452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Гимала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510444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Гималаи. Розовые гор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015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Василий Иванович Суриков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45" name="Текст 2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3718080" cy="314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46" name="Текст 2" descr=""/>
          <p:cNvPicPr/>
          <p:nvPr/>
        </p:nvPicPr>
        <p:blipFill>
          <a:blip r:embed="rId3"/>
          <a:stretch/>
        </p:blipFill>
        <p:spPr>
          <a:xfrm>
            <a:off x="5257800" y="1066680"/>
            <a:ext cx="3441600" cy="4114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1219320" y="4952160"/>
            <a:ext cx="42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Взятие снежного городка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539496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"Церковь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495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0156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da2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005da2"/>
                </a:solidFill>
                <a:latin typeface="Calibri"/>
              </a:rPr>
              <a:t>Снежный Петербург </a:t>
            </a:r>
            <a:br>
              <a:rPr sz="3600"/>
            </a:b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                                       </a:t>
            </a:r>
            <a:r>
              <a:rPr b="0" lang="ru-RU" sz="3600" spc="-1" strike="noStrike">
                <a:solidFill>
                  <a:srgbClr val="005da2"/>
                </a:solidFill>
                <a:latin typeface="Calibri"/>
              </a:rPr>
              <a:t>Павла Еськова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51" name="Текст 2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3165480" cy="2438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52" name="Текст 2" descr=""/>
          <p:cNvPicPr/>
          <p:nvPr/>
        </p:nvPicPr>
        <p:blipFill>
          <a:blip r:embed="rId3"/>
          <a:stretch/>
        </p:blipFill>
        <p:spPr>
          <a:xfrm>
            <a:off x="2286000" y="3809880"/>
            <a:ext cx="2860560" cy="1981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53" name="Текст 2" descr=""/>
          <p:cNvPicPr/>
          <p:nvPr/>
        </p:nvPicPr>
        <p:blipFill>
          <a:blip r:embed="rId4"/>
          <a:stretch/>
        </p:blipFill>
        <p:spPr>
          <a:xfrm>
            <a:off x="1295280" y="762120"/>
            <a:ext cx="4038840" cy="2341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590920" y="5791320"/>
            <a:ext cx="34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«Вечером в скве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276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«Зимний дворец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«Русский музе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Снежные мелодии 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П.И. Чайковский очень любил русскую природу, он ее обожествлял, считал ее живым существом. И, наверное, неслучайно, из любви к природе сочинил он целый альбом, который назвал “Времена года”.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Отгадай загадку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Он слетает белой стаей</a:t>
            </a:r>
            <a:br>
              <a:rPr sz="3200"/>
            </a:b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И сверкает на лету.</a:t>
            </a:r>
            <a:br>
              <a:rPr sz="3200"/>
            </a:b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Он звездой прохладной тает</a:t>
            </a:r>
            <a:br>
              <a:rPr sz="3200"/>
            </a:b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На ладони и во рту.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5880" y="3276720"/>
            <a:ext cx="25196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Отгадк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da2"/>
                </a:solidFill>
                <a:latin typeface="Calibri"/>
              </a:rPr>
              <a:t>  </a:t>
            </a:r>
            <a:r>
              <a:rPr b="0" lang="en-US" sz="7200" spc="-1" strike="noStrike">
                <a:solidFill>
                  <a:srgbClr val="005da2"/>
                </a:solidFill>
                <a:latin typeface="Calibri"/>
              </a:rPr>
              <a:t>СНЕГ!</a:t>
            </a:r>
            <a:endParaRPr b="0" lang="en-US" sz="7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Georgia"/>
              </a:rPr>
              <a:t>Подумай</a:t>
            </a:r>
            <a:r>
              <a:rPr b="0" lang="en-US" sz="3600" spc="-1" strike="noStrike">
                <a:solidFill>
                  <a:srgbClr val="005da2"/>
                </a:solidFill>
                <a:latin typeface="Georgia"/>
              </a:rPr>
              <a:t> и ответь:</a:t>
            </a:r>
            <a:br>
              <a:rPr sz="3600"/>
            </a:b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Покружились звёздочки</a:t>
            </a:r>
            <a:br>
              <a:rPr sz="3200"/>
            </a:b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В воздухе немножко,</a:t>
            </a:r>
            <a:br>
              <a:rPr sz="3200"/>
            </a:b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Сели и растаяли на моей ладошке.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95880" y="3124080"/>
            <a:ext cx="25084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Правильно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da2"/>
                </a:solidFill>
                <a:latin typeface="Calibri"/>
              </a:rPr>
              <a:t>СНЕЖИНКИ!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172200" y="609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828800" y="2819520"/>
            <a:ext cx="3886200" cy="2741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092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Georgia"/>
              </a:rPr>
              <a:t>Подумай</a:t>
            </a:r>
            <a:r>
              <a:rPr b="0" lang="en-US" sz="3600" spc="-1" strike="noStrike">
                <a:solidFill>
                  <a:srgbClr val="005da2"/>
                </a:solidFill>
                <a:latin typeface="Georgia"/>
              </a:rPr>
              <a:t> и ответь:</a:t>
            </a:r>
            <a:br>
              <a:rPr sz="3600"/>
            </a:b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a2"/>
                </a:solidFill>
                <a:latin typeface="Calibri"/>
              </a:rPr>
              <a:t>Как называются фигуры, изготовленные из снега?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19920" y="3124080"/>
            <a:ext cx="2340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Молодцы!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a2"/>
                </a:solidFill>
                <a:latin typeface="Calibri"/>
              </a:rPr>
              <a:t>СКУЛЬПТУРА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600200" y="2286000"/>
            <a:ext cx="474984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24000" y="45720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a2"/>
                </a:solidFill>
                <a:latin typeface="Calibri"/>
              </a:rPr>
              <a:t>Самостоятельная деятельность: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Рассматривание иллюстративного материала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Изготовление снежинок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Изучение мнемотаблицы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Рисование зимнего пейзажа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Отгадай ребус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5410080" cy="2813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858000" y="609480"/>
            <a:ext cx="1914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Правильно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da2"/>
                </a:solidFill>
                <a:latin typeface="Calibri"/>
              </a:rPr>
              <a:t>МЕТЕЛЬ</a:t>
            </a:r>
            <a:endParaRPr b="0" lang="en-US" sz="7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Arial"/>
              </a:rPr>
              <a:t>Информационные ресурсы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http://allforchildren.ru/why/why52.php      почему наступает зима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festival.1september.ru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articles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582796/</a:t>
            </a: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«мелодии зимы»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igor-grabar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 картины И.Грабаря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perovograd.ru/viewpage.php?page_id=52</a:t>
            </a:r>
            <a:r>
              <a:rPr b="0" lang="ru-RU" sz="2800" spc="-1" strike="noStrike">
                <a:solidFill>
                  <a:srgbClr val="005da2"/>
                </a:solidFill>
                <a:latin typeface="Arial"/>
              </a:rPr>
              <a:t> «Фотоальбом картины русских художников»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a2"/>
                </a:solidFill>
                <a:latin typeface="Calibri"/>
              </a:rPr>
              <a:t>ЗИМА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48" name="Текст 2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315200" cy="4537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ПОЧЕМУ НАСТУПАЕТ ЗИМ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da2"/>
                </a:solidFill>
                <a:latin typeface="Calibri"/>
              </a:rPr>
              <a:t>движение Земли вокруг Солнца. 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7467840" cy="4190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657600" cy="2819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121932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ahoma"/>
              </a:rPr>
              <a:t>Земля по-разному подставляет солнечным лучам сво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ОСНОВНАЯ ПРИМЕТА ЗИМЫ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5943600" cy="43149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ЧТО ТАКОЕ СНЕГ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54097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da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da2"/>
                </a:solidFill>
                <a:latin typeface="Calibri"/>
              </a:rPr>
              <a:t>Снег - это очень много красивых снежинок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7672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952880" y="1828800"/>
            <a:ext cx="373392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7:13:33Z</dcterms:created>
  <dc:creator>Sergey</dc:creator>
  <dc:description/>
  <dc:language>en-US</dc:language>
  <cp:lastModifiedBy>Sergey</cp:lastModifiedBy>
  <dcterms:modified xsi:type="dcterms:W3CDTF">2012-03-09T07:27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