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12A-3332-49D6-8723-EE8E809B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DE2-0E17-4C50-8B50-DE46007F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148-4828-410E-8E71-967DE382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B64-3A55-4C96-B6DB-FCA81416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EF45-78DE-47CD-8D36-13273BE6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86DD-255B-4859-8109-7F98B442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1F39-E413-4B80-8542-1696EE50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7D77-DA9F-427B-8B12-B136979B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1EE6-44FE-4ABC-A469-46AA9048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B5CA-7B04-43DC-B2C2-F9F3EAE0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22E3-E137-45A4-8D37-48B4FE6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706-484F-455F-A967-1B4514E0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1888-078A-4A8D-BD02-00BEEA23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62A5-242E-4116-8DCB-24ECB10F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57AE-C404-4367-83E7-CD187784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1FD8-E022-4699-9FB6-728862D8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4690-3D13-483C-B80F-1BAED69B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4B7-8032-4B9B-8728-B8FE525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1D6-7F40-49D9-8BF7-2E0C5ED5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D85-48C0-4B97-A9E6-0E59BB4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AA1-D29F-4289-96F7-188AD805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FFC-416A-4788-A41D-533D3B0C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221-AC70-4F5F-8CC3-C0C8C28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73C-6B77-4A24-AD5A-5545A6D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E4C66E-CD05-44D1-924A-D5E9CBFD22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54C54-191D-4C8F-93DC-5010DA9B3C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50;&#1085;&#1103;&#1079;&#1100;_&#1042;&#1083;&#1072;&#1076;&#1080;&#1084;&#1080;&#1088;_%28&#1087;&#1077;&#1088;&#1089;&#1086;&#1085;&#1072;&#1078;%29" TargetMode="External"/><Relationship Id="rId3" Type="http://schemas.openxmlformats.org/officeDocument/2006/relationships/hyperlink" Target="http://ru.wikipedia.org/wiki/&#1048;&#1083;&#1100;&#1103;_&#1052;&#1091;&#1088;&#1086;&#1084;&#1077;&#1094;" TargetMode="External"/><Relationship Id="rId4" Type="http://schemas.openxmlformats.org/officeDocument/2006/relationships/hyperlink" Target="http://ru.wikipedia.org/wiki/&#1040;&#1083;&#1105;&#1096;&#1072;_&#1055;&#1086;&#1087;&#1086;&#1074;&#1080;&#1095;" TargetMode="External"/><Relationship Id="rId5" Type="http://schemas.openxmlformats.org/officeDocument/2006/relationships/hyperlink" Target="http://ru.wikipedia.org/wiki/&#1044;&#1086;&#1073;&#1088;&#1099;&#1085;&#1103;_&#1053;&#1080;&#1082;&#1080;&#1090;&#1080;&#1095;" TargetMode="External"/><Relationship Id="rId6" Type="http://schemas.openxmlformats.org/officeDocument/2006/relationships/hyperlink" Target="http://ru.wikipedia.org/wiki/&#1047;&#1084;&#1077;&#1081;_&#1043;&#1086;&#1088;&#1099;&#1085;&#1099;&#1095;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20760"/>
            <a:ext cx="914400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Знакомство с былиной </a:t>
            </a: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«Три богатыря и Шамаханская Цариц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60360" y="3902040"/>
            <a:ext cx="2340000" cy="25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743200" y="3124080"/>
            <a:ext cx="5486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0720" y="539640"/>
            <a:ext cx="7020000" cy="4938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800" y="5991120"/>
            <a:ext cx="82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как говорится: «Стали они жить – поживать, да добра наживать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-5254560"/>
            <a:ext cx="8510400" cy="122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ffffcc"/>
                </a:solidFill>
                <a:uFillTx/>
                <a:latin typeface="Arial"/>
              </a:rPr>
              <a:t>Шамаханская цариц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— прекрасная царица из восточной страны, владеющая колдовскими чарами. </a:t>
            </a:r>
            <a:br>
              <a:rPr sz="2000"/>
            </a:b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Князь Киев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— не историческая личность. Князь жадный, хитрый, при этом трусливый. </a:t>
            </a:r>
            <a:br>
              <a:rPr sz="2000"/>
            </a:b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Илья Муроме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— самый старший богатырь. Добрый, бескорыстный, верит в судьбу, приметы и землю русскую. </a:t>
            </a:r>
            <a:br>
              <a:rPr sz="2000"/>
            </a:b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Алёша Попови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— самый младший богатырь, весьма глуп, но весел и честен. </a:t>
            </a:r>
            <a:br>
              <a:rPr sz="2000"/>
            </a:b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Добрыня Никити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— богатырь, который любит поспать и считает, что сон придаёт силы. Как правило, Добрыня не только сильный, но и образованный, много знает и умеет. </a:t>
            </a:r>
            <a:br>
              <a:rPr sz="2000"/>
            </a:br>
            <a:r>
              <a:rPr b="1" lang="ru-RU" sz="2000" spc="-1" strike="noStrike" u="sng">
                <a:solidFill>
                  <a:srgbClr val="ffffcc"/>
                </a:solidFill>
                <a:uFillTx/>
                <a:latin typeface="Arial"/>
              </a:rPr>
              <a:t>Гай Юлий Цезар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— просто Юлий, фантастический конь Алёши Поповича, который умеет говорить. </a:t>
            </a:r>
            <a:br>
              <a:rPr sz="2000"/>
            </a:b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Змей Горыны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— старый друг Добрыни. Красный дракон. Страдает разтроением личности. Владеет богатырской силой (возможно, он сильнее богатырей)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12680" y="179280"/>
            <a:ext cx="49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Главные геро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04840"/>
            <a:ext cx="85104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о, по мнению богатырей, несложное, а проветриться не мешает! Но скоро, как известно, только сказка сказывает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619280"/>
            <a:ext cx="66927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нравившиеся герои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огатыри 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героизм, уважение друг к другу и преданность Роди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ь Юли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- за позитивное отношение ко всему, т.к. в нашей жизни это важно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600" y="-65160"/>
            <a:ext cx="8510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много иллюстрац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900000"/>
            <a:ext cx="558000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40000" y="360360"/>
            <a:ext cx="6840360" cy="567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73040" y="622764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нязь «прыгает на четырёх лапках» перед цариц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00000" y="360360"/>
            <a:ext cx="7151760" cy="52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44680" y="5754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ажный богатырь – илья Муромец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20720" y="360360"/>
            <a:ext cx="7740720" cy="5040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28800" y="560232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мей Горыныч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60360" y="539640"/>
            <a:ext cx="6840720" cy="4859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2160" y="5791320"/>
            <a:ext cx="74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ь Юлий очарован таинственной незнакомко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5T17:55:5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