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YWINNER.WAV" ContentType="audio/x-wav"/>
  <Override PartName="/ppt/media/drumroll.wav" ContentType="audio/x-wav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F017-8D86-424A-BBB4-8D3747FF19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2AB-EB7C-4930-AA9B-20D294A373EA}" type="slidenum">
              <a:rPr b="0" lang="ru-RU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B09B-4D22-45E9-9C86-E651A825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2E15-3AC5-483E-A6F9-D6E53AE8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E14B-0CCF-4E6F-B044-D0B1A073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3F67-AA00-49D4-89C8-8A3CA559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8B48-C7CD-46C5-8028-041FDCC2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10CE-1753-4AD2-848A-E3D63289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A33-CBBE-4ECB-9D2D-BB0AD6B6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D612-FB13-4457-9C7D-0C2BFFC1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7BF9-2211-4270-A061-28DA417B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ECDB-4801-44B1-89D5-E019D118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60DB-5160-4629-89CD-2ED5785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F330-B111-4E56-9057-91CDEBAD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CDC6-70F0-43C4-B74B-662BE80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3C54-F0EB-4320-937F-F1A1504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F6E2-2191-4F9F-BC03-51CE0AE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5167-BFB3-4DFC-95C7-82E1E1CB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B23-6C71-43A2-88AC-89E2FDD6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954A-1067-4BE7-8CA2-2F5D466E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6700-F40E-4234-8B07-22332A3B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8F23-CD4C-492A-B863-A738CAA2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D6AF-1C40-42B3-ACEA-E905A86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8FD4-F234-4240-B04E-17DB74B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88C8-20E2-4FE6-88F7-E5FD5BC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6511-73FC-47D8-905A-75257CFD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13CC-2040-4DAB-967D-2085467A88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C16-87BE-4185-B73F-5644EA386959}" type="slidenum">
              <a:rPr b="0" lang="ru-RU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YWINN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99"/>
                </a:solidFill>
                <a:latin typeface="Garamond"/>
              </a:rPr>
              <a:t>Молодец !</a:t>
            </a:r>
            <a:endParaRPr b="1" lang="en-US" sz="5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Garamond"/>
              </a:rPr>
              <a:t>Правильный ответ!</a:t>
            </a: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" name="AutoShape 6">
            <a:hlinkClick r:id="" action="ppaction://hlinkshowjump?jump=previousslide"/>
          </p:cNvPr>
          <p:cNvSpPr/>
          <p:nvPr/>
        </p:nvSpPr>
        <p:spPr>
          <a:xfrm>
            <a:off x="6948360" y="5734080"/>
            <a:ext cx="971640" cy="576360"/>
          </a:xfrm>
          <a:custGeom>
            <a:avLst/>
            <a:gdLst>
              <a:gd name="textAreaLeft" fmla="*/ 37080 w 971640"/>
              <a:gd name="textAreaRight" fmla="*/ 934560 w 9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6404" h="21600">
                <a:moveTo>
                  <a:pt x="0" y="0"/>
                </a:moveTo>
                <a:lnTo>
                  <a:pt x="36404" y="0"/>
                </a:lnTo>
                <a:lnTo>
                  <a:pt x="36404" y="21600"/>
                </a:lnTo>
                <a:lnTo>
                  <a:pt x="0" y="21600"/>
                </a:lnTo>
                <a:close/>
              </a:path>
              <a:path fill="lightenLess" w="36404" h="21600">
                <a:moveTo>
                  <a:pt x="0" y="0"/>
                </a:moveTo>
                <a:lnTo>
                  <a:pt x="36404" y="0"/>
                </a:lnTo>
                <a:lnTo>
                  <a:pt x="35004" y="1400"/>
                </a:lnTo>
                <a:lnTo>
                  <a:pt x="1400" y="1400"/>
                </a:lnTo>
                <a:close/>
              </a:path>
              <a:path fill="darken" w="36404" h="21600">
                <a:moveTo>
                  <a:pt x="36404" y="0"/>
                </a:moveTo>
                <a:lnTo>
                  <a:pt x="36404" y="21600"/>
                </a:lnTo>
                <a:lnTo>
                  <a:pt x="35004" y="20200"/>
                </a:lnTo>
                <a:lnTo>
                  <a:pt x="35004" y="1400"/>
                </a:lnTo>
                <a:close/>
              </a:path>
              <a:path fill="darkenLess" w="36404" h="21600">
                <a:moveTo>
                  <a:pt x="3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04" y="20200"/>
                </a:lnTo>
                <a:close/>
              </a:path>
              <a:path fill="lighten" w="3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04" h="21600">
                <a:moveTo>
                  <a:pt x="11196" y="3794"/>
                </a:moveTo>
                <a:lnTo>
                  <a:pt x="25209" y="10800"/>
                </a:lnTo>
                <a:lnTo>
                  <a:pt x="1119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YWINN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8)Сколько видов может быть на чертеже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23317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8 вид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6 вид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4 вид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2 вид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AutoShape 5">
            <a:hlinkClick r:id="rId1" action="ppaction://hlinksldjump"/>
          </p:cNvPr>
          <p:cNvSpPr/>
          <p:nvPr/>
        </p:nvSpPr>
        <p:spPr>
          <a:xfrm>
            <a:off x="4286160" y="24289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AutoShape 6">
            <a:hlinkClick r:id="rId2" action="ppaction://hlinksldjump"/>
          </p:cNvPr>
          <p:cNvSpPr/>
          <p:nvPr/>
        </p:nvSpPr>
        <p:spPr>
          <a:xfrm>
            <a:off x="4286160" y="364320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9" name="AutoShape 7">
            <a:hlinkClick r:id="rId3" action="ppaction://hlinksldjump"/>
          </p:cNvPr>
          <p:cNvSpPr/>
          <p:nvPr/>
        </p:nvSpPr>
        <p:spPr>
          <a:xfrm>
            <a:off x="4286160" y="428616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0" name="AutoShape 8">
            <a:hlinkClick r:id="rId4" action="ppaction://hlinksldjump"/>
          </p:cNvPr>
          <p:cNvSpPr/>
          <p:nvPr/>
        </p:nvSpPr>
        <p:spPr>
          <a:xfrm>
            <a:off x="4286160" y="3000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Garamond"/>
              </a:rPr>
              <a:t>9)Что это значит М 1:2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кол-во забитых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       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командами мяче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увеличено в 2 раз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уменьшено в 2 раз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в натуральную величину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AutoShape 5">
            <a:hlinkClick r:id="rId1" action="ppaction://hlinksldjump"/>
          </p:cNvPr>
          <p:cNvSpPr/>
          <p:nvPr/>
        </p:nvSpPr>
        <p:spPr>
          <a:xfrm>
            <a:off x="6429240" y="2286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4" name="AutoShape 6">
            <a:hlinkClick r:id="rId2" action="ppaction://hlinksldjump"/>
          </p:cNvPr>
          <p:cNvSpPr/>
          <p:nvPr/>
        </p:nvSpPr>
        <p:spPr>
          <a:xfrm>
            <a:off x="6429240" y="32148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6429240" y="43578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AutoShape 8">
            <a:hlinkClick r:id="rId4" action="ppaction://hlinksldjump"/>
          </p:cNvPr>
          <p:cNvSpPr/>
          <p:nvPr/>
        </p:nvSpPr>
        <p:spPr>
          <a:xfrm>
            <a:off x="6429240" y="378612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0)Линии невидимого контура на чертеже изображают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сплошная основн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сплошная тонк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штрихпунктирн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штрихов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9" name="AutoShape 6">
            <a:hlinkClick r:id="rId1" action="ppaction://hlinksldjump"/>
          </p:cNvPr>
          <p:cNvSpPr/>
          <p:nvPr/>
        </p:nvSpPr>
        <p:spPr>
          <a:xfrm>
            <a:off x="5000760" y="2214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AutoShape 7">
            <a:hlinkClick r:id="rId2" action="ppaction://hlinksldjump"/>
          </p:cNvPr>
          <p:cNvSpPr/>
          <p:nvPr/>
        </p:nvSpPr>
        <p:spPr>
          <a:xfrm>
            <a:off x="500076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8">
            <a:hlinkClick r:id="rId3" action="ppaction://hlinksldjump"/>
          </p:cNvPr>
          <p:cNvSpPr/>
          <p:nvPr/>
        </p:nvSpPr>
        <p:spPr>
          <a:xfrm>
            <a:off x="500076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AutoShape 9">
            <a:hlinkClick r:id="rId4" action="ppaction://hlinksldjump"/>
          </p:cNvPr>
          <p:cNvSpPr/>
          <p:nvPr/>
        </p:nvSpPr>
        <p:spPr>
          <a:xfrm>
            <a:off x="5000760" y="4071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1)Линии обрыва на чертеже изображают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сплошной волнист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сплошной тонк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сплошной основн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штрихпунктирн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AutoShape 5">
            <a:hlinkClick r:id="rId1" action="ppaction://hlinksldjump"/>
          </p:cNvPr>
          <p:cNvSpPr/>
          <p:nvPr/>
        </p:nvSpPr>
        <p:spPr>
          <a:xfrm>
            <a:off x="5500800" y="27147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6">
            <a:hlinkClick r:id="rId2" action="ppaction://hlinksldjump"/>
          </p:cNvPr>
          <p:cNvSpPr/>
          <p:nvPr/>
        </p:nvSpPr>
        <p:spPr>
          <a:xfrm>
            <a:off x="5500800" y="3357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7" name="AutoShape 7">
            <a:hlinkClick r:id="rId3" action="ppaction://hlinksldjump"/>
          </p:cNvPr>
          <p:cNvSpPr/>
          <p:nvPr/>
        </p:nvSpPr>
        <p:spPr>
          <a:xfrm>
            <a:off x="5500800" y="4000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AutoShape 8">
            <a:hlinkClick r:id="rId4" action="ppaction://hlinksldjump"/>
          </p:cNvPr>
          <p:cNvSpPr/>
          <p:nvPr/>
        </p:nvSpPr>
        <p:spPr>
          <a:xfrm>
            <a:off x="5500800" y="21430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2)Какой вид на чертеже является главным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вид сверху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вид справ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вид сперед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вид сзад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5715000" y="21430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571500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5715000" y="4000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71500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3)Сколько видов должно быть на чертеже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сколько достаточно, чтобы иметь полное представление о детал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2 вид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3 вид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5 видов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671508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6715080" y="4000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6715080" y="4643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671508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4)С чего необходимо начинать выполнение чертежа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с нанесения контуров детал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с нанесения осевых лини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с нанесения размеров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с пятиминутного перерыва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6429240" y="2286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6429240" y="3500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6429240" y="4143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642924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15)Сначала весь чертёж выполняют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1884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пунктирными линиям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толстыми линиям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тонкими линиями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ручк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715000" y="250020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715000" y="30718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5715000" y="428616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5715000" y="371484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Garamond"/>
              </a:rPr>
              <a:t>Спасибо за ваши знания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!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04" name="MSj00821810000[1].mid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92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ru-RU" sz="7200" spc="-1" strike="noStrike">
                <a:solidFill>
                  <a:srgbClr val="ffff00"/>
                </a:solidFill>
                <a:latin typeface="Garamond"/>
              </a:rPr>
              <a:t>Подумай ещё !!!</a:t>
            </a:r>
            <a:endParaRPr b="1" lang="en-US" sz="7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-4291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3300"/>
                </a:solidFill>
                <a:uFillTx/>
                <a:latin typeface="Garamond"/>
              </a:rPr>
              <a:t>Ответ неверный!</a:t>
            </a:r>
            <a:endParaRPr b="0" lang="en-US" sz="5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26920" y="566100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10800"/>
                </a:moveTo>
                <a:lnTo>
                  <a:pt x="26224" y="3794"/>
                </a:lnTo>
                <a:lnTo>
                  <a:pt x="2622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1)Наглядное изображение, на котором видны сразу три стороны, называют: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4000" y="32126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чертёж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натюрморт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технический рисунок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000514"/>
                </a:solidFill>
                <a:latin typeface="Garamond"/>
              </a:rPr>
              <a:t>эскиз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5" name="AutoShape 14">
            <a:hlinkClick r:id="rId1" action="ppaction://hlinksldjump"/>
          </p:cNvPr>
          <p:cNvSpPr/>
          <p:nvPr/>
        </p:nvSpPr>
        <p:spPr>
          <a:xfrm>
            <a:off x="557208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6" name="AutoShape 15">
            <a:hlinkClick r:id="rId2" action="ppaction://hlinksldjump"/>
          </p:cNvPr>
          <p:cNvSpPr/>
          <p:nvPr/>
        </p:nvSpPr>
        <p:spPr>
          <a:xfrm>
            <a:off x="5572080" y="4071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AutoShape 16">
            <a:hlinkClick r:id="rId3" action="ppaction://hlinksldjump"/>
          </p:cNvPr>
          <p:cNvSpPr/>
          <p:nvPr/>
        </p:nvSpPr>
        <p:spPr>
          <a:xfrm>
            <a:off x="5572080" y="5286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8" name="AutoShape 17">
            <a:hlinkClick r:id="rId4" action="ppaction://hlinksldjump"/>
          </p:cNvPr>
          <p:cNvSpPr/>
          <p:nvPr/>
        </p:nvSpPr>
        <p:spPr>
          <a:xfrm>
            <a:off x="5572080" y="4643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152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2)Графическое изображение, выполненное от руки без соблюдения размеров, но с соблюдением пропорций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Чертёж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Натюрморт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Эскиз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Технический рисунок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" name="AutoShape 5">
            <a:hlinkClick r:id="rId1" action="ppaction://hlinksldjump"/>
          </p:cNvPr>
          <p:cNvSpPr/>
          <p:nvPr/>
        </p:nvSpPr>
        <p:spPr>
          <a:xfrm>
            <a:off x="4714920" y="300024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AutoShape 6">
            <a:hlinkClick r:id="rId2" action="ppaction://hlinksldjump"/>
          </p:cNvPr>
          <p:cNvSpPr/>
          <p:nvPr/>
        </p:nvSpPr>
        <p:spPr>
          <a:xfrm>
            <a:off x="4714920" y="357192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AutoShape 7">
            <a:hlinkClick r:id="rId3" action="ppaction://hlinksldjump"/>
          </p:cNvPr>
          <p:cNvSpPr/>
          <p:nvPr/>
        </p:nvSpPr>
        <p:spPr>
          <a:xfrm>
            <a:off x="4786200" y="471492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4" name="AutoShape 8">
            <a:hlinkClick r:id="rId4" action="ppaction://hlinksldjump"/>
          </p:cNvPr>
          <p:cNvSpPr/>
          <p:nvPr/>
        </p:nvSpPr>
        <p:spPr>
          <a:xfrm>
            <a:off x="4786200" y="414324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3)Графическое изображение, выполненное строго по размерам в масштабе, с применением чертёжных инструментов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040" y="285768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А)технический рисунок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чертёж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пейзаж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эскиз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AutoShape 6">
            <a:hlinkClick r:id="rId1" action="ppaction://hlinksldjump"/>
          </p:cNvPr>
          <p:cNvSpPr/>
          <p:nvPr/>
        </p:nvSpPr>
        <p:spPr>
          <a:xfrm>
            <a:off x="571500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8" name="AutoShape 7">
            <a:hlinkClick r:id="rId2" action="ppaction://hlinksldjump"/>
          </p:cNvPr>
          <p:cNvSpPr/>
          <p:nvPr/>
        </p:nvSpPr>
        <p:spPr>
          <a:xfrm>
            <a:off x="5715000" y="4143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AutoShape 8">
            <a:hlinkClick r:id="rId3" action="ppaction://hlinksldjump"/>
          </p:cNvPr>
          <p:cNvSpPr/>
          <p:nvPr/>
        </p:nvSpPr>
        <p:spPr>
          <a:xfrm>
            <a:off x="5715000" y="47149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AutoShape 9">
            <a:hlinkClick r:id="rId4" action="ppaction://hlinksldjump"/>
          </p:cNvPr>
          <p:cNvSpPr/>
          <p:nvPr/>
        </p:nvSpPr>
        <p:spPr>
          <a:xfrm>
            <a:off x="5715000" y="3500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4)Контуры детали на чертеже изображают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сплошной основн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сплошной тонк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штрихпунктирная тонк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штриховая тонк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6072120" y="2928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AutoShape 6">
            <a:hlinkClick r:id="rId2" action="ppaction://hlinksldjump"/>
          </p:cNvPr>
          <p:cNvSpPr/>
          <p:nvPr/>
        </p:nvSpPr>
        <p:spPr>
          <a:xfrm>
            <a:off x="6072120" y="35719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AutoShape 7">
            <a:hlinkClick r:id="rId3" action="ppaction://hlinksldjump"/>
          </p:cNvPr>
          <p:cNvSpPr/>
          <p:nvPr/>
        </p:nvSpPr>
        <p:spPr>
          <a:xfrm>
            <a:off x="6072120" y="42148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AutoShape 8">
            <a:hlinkClick r:id="rId4" action="ppaction://hlinksldjump"/>
          </p:cNvPr>
          <p:cNvSpPr/>
          <p:nvPr/>
        </p:nvSpPr>
        <p:spPr>
          <a:xfrm>
            <a:off x="6072120" y="2357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5)Размерные и выносные линии на чертеже изображают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сплошной основн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сплошной тонк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штрихпунктирная тонк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штриховая тонк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AutoShape 6">
            <a:hlinkClick r:id="rId1" action="ppaction://hlinksldjump"/>
          </p:cNvPr>
          <p:cNvSpPr/>
          <p:nvPr/>
        </p:nvSpPr>
        <p:spPr>
          <a:xfrm>
            <a:off x="7072200" y="24289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AutoShape 7">
            <a:hlinkClick r:id="rId2" action="ppaction://hlinksldjump"/>
          </p:cNvPr>
          <p:cNvSpPr/>
          <p:nvPr/>
        </p:nvSpPr>
        <p:spPr>
          <a:xfrm>
            <a:off x="7072200" y="364320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AutoShape 8">
            <a:hlinkClick r:id="rId3" action="ppaction://hlinksldjump"/>
          </p:cNvPr>
          <p:cNvSpPr/>
          <p:nvPr/>
        </p:nvSpPr>
        <p:spPr>
          <a:xfrm>
            <a:off x="7072200" y="42148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AutoShape 9">
            <a:hlinkClick r:id="rId4" action="ppaction://hlinksldjump"/>
          </p:cNvPr>
          <p:cNvSpPr/>
          <p:nvPr/>
        </p:nvSpPr>
        <p:spPr>
          <a:xfrm>
            <a:off x="7072200" y="30002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6)Осевые и центровые линии на чертеже изображают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 сплошной основн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 сплошной тонкой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 штриховая тонк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 штрихпунктирная тонка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AutoShape 5">
            <a:hlinkClick r:id="rId1" action="ppaction://hlinksldjump"/>
          </p:cNvPr>
          <p:cNvSpPr/>
          <p:nvPr/>
        </p:nvSpPr>
        <p:spPr>
          <a:xfrm>
            <a:off x="6429240" y="278604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6">
            <a:hlinkClick r:id="rId2" action="ppaction://hlinksldjump"/>
          </p:cNvPr>
          <p:cNvSpPr/>
          <p:nvPr/>
        </p:nvSpPr>
        <p:spPr>
          <a:xfrm>
            <a:off x="6429240" y="4000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AutoShape 7">
            <a:hlinkClick r:id="rId3" action="ppaction://hlinksldjump"/>
          </p:cNvPr>
          <p:cNvSpPr/>
          <p:nvPr/>
        </p:nvSpPr>
        <p:spPr>
          <a:xfrm>
            <a:off x="642924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AutoShape 8">
            <a:hlinkClick r:id="rId4" action="ppaction://hlinksldjump"/>
          </p:cNvPr>
          <p:cNvSpPr/>
          <p:nvPr/>
        </p:nvSpPr>
        <p:spPr>
          <a:xfrm>
            <a:off x="6429240" y="4643280"/>
            <a:ext cx="755640" cy="43200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7769" h="21600">
                <a:moveTo>
                  <a:pt x="0" y="0"/>
                </a:moveTo>
                <a:lnTo>
                  <a:pt x="37769" y="0"/>
                </a:lnTo>
                <a:lnTo>
                  <a:pt x="37769" y="21600"/>
                </a:lnTo>
                <a:lnTo>
                  <a:pt x="0" y="21600"/>
                </a:lnTo>
                <a:close/>
              </a:path>
              <a:path fill="lightenLess" w="37769" h="21600">
                <a:moveTo>
                  <a:pt x="0" y="0"/>
                </a:moveTo>
                <a:lnTo>
                  <a:pt x="37769" y="0"/>
                </a:lnTo>
                <a:lnTo>
                  <a:pt x="36369" y="1400"/>
                </a:lnTo>
                <a:lnTo>
                  <a:pt x="1400" y="1400"/>
                </a:lnTo>
                <a:close/>
              </a:path>
              <a:path fill="darken" w="37769" h="21600">
                <a:moveTo>
                  <a:pt x="37769" y="0"/>
                </a:moveTo>
                <a:lnTo>
                  <a:pt x="37769" y="21600"/>
                </a:lnTo>
                <a:lnTo>
                  <a:pt x="36369" y="20200"/>
                </a:lnTo>
                <a:lnTo>
                  <a:pt x="36369" y="1400"/>
                </a:lnTo>
                <a:close/>
              </a:path>
              <a:path fill="darkenLess" w="37769" h="21600">
                <a:moveTo>
                  <a:pt x="3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9" y="20200"/>
                </a:lnTo>
                <a:close/>
              </a:path>
              <a:path fill="lighten" w="3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9" h="21600">
                <a:moveTo>
                  <a:pt x="11878" y="3794"/>
                </a:moveTo>
                <a:lnTo>
                  <a:pt x="25891" y="10800"/>
                </a:lnTo>
                <a:lnTo>
                  <a:pt x="1187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7)Отношение линейных размеров к действительным называют 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)графический документ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в)симметрия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с)масштаб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aramond"/>
              </a:rPr>
              <a:t>д)пиломатериал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5857920" y="221472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2" name="AutoShape 6">
            <a:hlinkClick r:id="rId2" action="ppaction://hlinksldjump"/>
          </p:cNvPr>
          <p:cNvSpPr/>
          <p:nvPr/>
        </p:nvSpPr>
        <p:spPr>
          <a:xfrm>
            <a:off x="5857920" y="285768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7">
            <a:hlinkClick r:id="rId3" action="ppaction://hlinksldjump"/>
          </p:cNvPr>
          <p:cNvSpPr/>
          <p:nvPr/>
        </p:nvSpPr>
        <p:spPr>
          <a:xfrm>
            <a:off x="5857920" y="407196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4" name="AutoShape 8">
            <a:hlinkClick r:id="rId4" action="ppaction://hlinksldjump"/>
          </p:cNvPr>
          <p:cNvSpPr/>
          <p:nvPr/>
        </p:nvSpPr>
        <p:spPr>
          <a:xfrm>
            <a:off x="5857920" y="3429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1894" y="3794"/>
                </a:moveTo>
                <a:lnTo>
                  <a:pt x="25906" y="10800"/>
                </a:lnTo>
                <a:lnTo>
                  <a:pt x="118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7:28:07Z</dcterms:created>
  <dc:creator>User</dc:creator>
  <dc:description/>
  <dc:language>en-US</dc:language>
  <cp:lastModifiedBy>Галина</cp:lastModifiedBy>
  <dcterms:modified xsi:type="dcterms:W3CDTF">2012-03-05T12:20:59Z</dcterms:modified>
  <cp:revision>183</cp:revision>
  <dc:subject/>
  <dc:title>Старинная узорчатая твердая сталь для клинков</dc:title>
</cp:coreProperties>
</file>