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BCF-A7B1-4895-9557-8997FF16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F7-87BA-4757-B8F9-7CF060C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311-42D2-4F1B-80B5-D1F14D40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4A5-093F-43B5-90D3-F4FE8E34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579-EE8E-4041-9A9C-5DCC4DA2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7B1-378D-41B0-82EE-2780E2D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BAA-E1AF-420C-9C19-7C7FBE6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DCE-F6E3-4FD2-A0EF-49BE584A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43C-221B-4E42-82FB-165056C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1E8-82E4-4F92-9C28-AE9562AA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5D4-890C-41D6-A577-5C4045F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D45-6DD3-4717-9108-D6BC2B5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369-52DD-436C-B43C-77C6BF226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2" descr="flover_0039[1].gif"/>
          <p:cNvPicPr/>
          <p:nvPr/>
        </p:nvPicPr>
        <p:blipFill>
          <a:blip r:embed="rId2"/>
          <a:stretch/>
        </p:blipFill>
        <p:spPr>
          <a:xfrm rot="17128200">
            <a:off x="5021280" y="3103200"/>
            <a:ext cx="2174760" cy="5108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1000080" y="857160"/>
            <a:ext cx="7591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ез солнца не цветут цветы, без любви нет счасть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женщины нет любв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матери нет ни поэта, ни героя.Вся гордость мир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матерей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:\Documents and Settings\Admin\Рабочий стол\КАЙЫРГАЗЫ\Ramki\photo475.gif"/>
          <p:cNvPicPr/>
          <p:nvPr/>
        </p:nvPicPr>
        <p:blipFill>
          <a:blip r:embed="rId1"/>
          <a:stretch/>
        </p:blipFill>
        <p:spPr>
          <a:xfrm>
            <a:off x="0" y="3678120"/>
            <a:ext cx="3786120" cy="3179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071720" y="588600"/>
            <a:ext cx="785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ньте все и выслушайте сто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Сохраненное во всей кра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Слово это древнее, свято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рямитесь! Встаньте! Встаньте вс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Слово это сроду не обманет, в нем сокрыты жизни суще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 нем исток всего. Ему конца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:\Documents and Settings\Admin\Рабочий стол\КАЙЫРГАЗЫ\Ramki\photo280.gif"/>
          <p:cNvPicPr/>
          <p:nvPr/>
        </p:nvPicPr>
        <p:blipFill>
          <a:blip r:embed="rId2"/>
          <a:stretch/>
        </p:blipFill>
        <p:spPr>
          <a:xfrm rot="687000">
            <a:off x="5402160" y="4330440"/>
            <a:ext cx="3283200" cy="2224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n033[1].gif"/>
          <p:cNvPicPr/>
          <p:nvPr/>
        </p:nvPicPr>
        <p:blipFill>
          <a:blip r:embed="rId1"/>
          <a:stretch/>
        </p:blipFill>
        <p:spPr>
          <a:xfrm rot="20578800">
            <a:off x="466200" y="3069720"/>
            <a:ext cx="2273400" cy="3532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286000" y="857160"/>
            <a:ext cx="5429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станьте! Я произношу его.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а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оспеваю то. Что вечно н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И хотя совсем не гимн по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Но в душе родившееся сл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Обретает музыку сво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Слово это – зов и заклинань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 этом слове – сущего ду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Это искра первого сознан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Первая улыбка малы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\Рабочий стол\КАЙЫРГАЗЫ\Ramki\photo45.gif"/>
          <p:cNvPicPr/>
          <p:nvPr/>
        </p:nvPicPr>
        <p:blipFill>
          <a:blip r:embed="rId2"/>
          <a:stretch/>
        </p:blipFill>
        <p:spPr>
          <a:xfrm>
            <a:off x="428760" y="1357200"/>
            <a:ext cx="2286000" cy="226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44440"/>
            <a:ext cx="8124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C:\Documents and Settings\Admin\Рабочий стол\КАЙЫРГАЗЫ\фотошоп\valentine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8"/>
          <p:cNvSpPr/>
          <p:nvPr/>
        </p:nvSpPr>
        <p:spPr>
          <a:xfrm>
            <a:off x="3643200" y="943560"/>
            <a:ext cx="4071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Люблю тебя, мама, за что - я не зна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Наверно, за то, что живу и мечта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И радуюсь солнцу, и светлому д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За что, тебя, я родная любл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За небо, за ветер, за воздух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Люблю тебя, мама, ты - лучший мой друг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одержимое 2"/>
          <p:cNvSpPr/>
          <p:nvPr/>
        </p:nvSpPr>
        <p:spPr>
          <a:xfrm>
            <a:off x="1285920" y="28584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диван"/>
          <p:cNvPicPr/>
          <p:nvPr/>
        </p:nvPicPr>
        <p:blipFill>
          <a:blip r:embed="rId2"/>
          <a:stretch/>
        </p:blipFill>
        <p:spPr>
          <a:xfrm flipH="1" rot="16530000">
            <a:off x="5924160" y="150120"/>
            <a:ext cx="318960" cy="93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8">
            <a:hlinkClick r:id="rId3" action="ppaction://hlinksldjump"/>
          </p:cNvPr>
          <p:cNvSpPr/>
          <p:nvPr/>
        </p:nvSpPr>
        <p:spPr>
          <a:xfrm>
            <a:off x="8388360" y="6176880"/>
            <a:ext cx="576360" cy="420840"/>
          </a:xfrm>
          <a:custGeom>
            <a:avLst/>
            <a:gdLst>
              <a:gd name="textAreaLeft" fmla="*/ 27000 w 576360"/>
              <a:gd name="textAreaRight" fmla="*/ 549360 w 57636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29575" h="21600">
                <a:moveTo>
                  <a:pt x="0" y="0"/>
                </a:moveTo>
                <a:lnTo>
                  <a:pt x="29575" y="0"/>
                </a:lnTo>
                <a:lnTo>
                  <a:pt x="29575" y="21600"/>
                </a:lnTo>
                <a:lnTo>
                  <a:pt x="0" y="21600"/>
                </a:lnTo>
                <a:close/>
              </a:path>
              <a:path fill="lightenLess" w="29575" h="21600">
                <a:moveTo>
                  <a:pt x="0" y="0"/>
                </a:moveTo>
                <a:lnTo>
                  <a:pt x="29575" y="0"/>
                </a:lnTo>
                <a:lnTo>
                  <a:pt x="28175" y="1400"/>
                </a:lnTo>
                <a:lnTo>
                  <a:pt x="1400" y="1400"/>
                </a:lnTo>
                <a:close/>
              </a:path>
              <a:path fill="darken" w="29575" h="21600">
                <a:moveTo>
                  <a:pt x="29575" y="0"/>
                </a:moveTo>
                <a:lnTo>
                  <a:pt x="29575" y="21600"/>
                </a:lnTo>
                <a:lnTo>
                  <a:pt x="28175" y="20200"/>
                </a:lnTo>
                <a:lnTo>
                  <a:pt x="28175" y="1400"/>
                </a:lnTo>
                <a:close/>
              </a:path>
              <a:path fill="darkenLess" w="29575" h="21600">
                <a:moveTo>
                  <a:pt x="29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75" y="20200"/>
                </a:lnTo>
                <a:close/>
              </a:path>
              <a:path fill="lighten" w="29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75" h="21600">
                <a:moveTo>
                  <a:pt x="7781" y="7493"/>
                </a:moveTo>
                <a:lnTo>
                  <a:pt x="11289" y="7493"/>
                </a:lnTo>
                <a:lnTo>
                  <a:pt x="11289" y="12828"/>
                </a:lnTo>
                <a:cubicBezTo>
                  <a:pt x="11289" y="13751"/>
                  <a:pt x="12090" y="14482"/>
                  <a:pt x="13125" y="14482"/>
                </a:cubicBezTo>
                <a:lnTo>
                  <a:pt x="14788" y="14482"/>
                </a:lnTo>
                <a:cubicBezTo>
                  <a:pt x="15823" y="14482"/>
                  <a:pt x="16624" y="13751"/>
                  <a:pt x="16624" y="12828"/>
                </a:cubicBezTo>
                <a:lnTo>
                  <a:pt x="16624" y="7493"/>
                </a:lnTo>
                <a:lnTo>
                  <a:pt x="14788" y="7493"/>
                </a:lnTo>
                <a:lnTo>
                  <a:pt x="18295" y="3985"/>
                </a:lnTo>
                <a:lnTo>
                  <a:pt x="21968" y="7493"/>
                </a:lnTo>
                <a:lnTo>
                  <a:pt x="20132" y="7493"/>
                </a:lnTo>
                <a:lnTo>
                  <a:pt x="20132" y="12828"/>
                </a:lnTo>
                <a:cubicBezTo>
                  <a:pt x="20132" y="15596"/>
                  <a:pt x="17555" y="18155"/>
                  <a:pt x="14788" y="18155"/>
                </a:cubicBezTo>
                <a:lnTo>
                  <a:pt x="13125" y="18155"/>
                </a:lnTo>
                <a:cubicBezTo>
                  <a:pt x="10358" y="18155"/>
                  <a:pt x="7781" y="15596"/>
                  <a:pt x="778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C:\Documents and Settings\Admin\Рабочий стол\КАЙЫРГАЗЫ\фотошоп\valentin_5_0[1]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 rot="286200">
            <a:off x="1317600" y="1063440"/>
            <a:ext cx="465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Ни для кого не секрет, что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нская любовь </a:t>
            </a: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самая чистая и сильная на свете. Но пор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погружаясь в ежедневную суету, мы забываем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что и мама нуждается в нашем добром сло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улыбке, участии. А ведь это совсем не трудн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2241000" y="880920"/>
            <a:ext cx="55162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 доме добрыми делами зан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Тихо ходит по квартире добр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Утро доброе у 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Добрый день и добр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Добрый вечер, ночь доб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Было доброе вч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И откуда, спросишь 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В доме столько добр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Что от этой добр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Приживаются цв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Рыбки, ежики, птенц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Я тебе отвечу прям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08b8"/>
                </a:solidFill>
                <a:latin typeface="Times New Roman"/>
                <a:ea typeface="Times New Roman"/>
              </a:rPr>
              <a:t>Это –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а, мама, мама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Documents and Settings\Admin\Рабочий стол\КАЙЫРГАЗЫ\Ramki\29.gif"/>
          <p:cNvPicPr/>
          <p:nvPr/>
        </p:nvPicPr>
        <p:blipFill>
          <a:blip r:embed="rId1"/>
          <a:stretch/>
        </p:blipFill>
        <p:spPr>
          <a:xfrm>
            <a:off x="0" y="0"/>
            <a:ext cx="264312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Admin\Рабочий стол\КАЙЫРГАЗЫ\фотошоп\valentine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774720" y="1085760"/>
            <a:ext cx="4967280" cy="307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0:03:28Z</dcterms:created>
  <dc:creator>Шежгутова И.И.</dc:creator>
  <dc:description/>
  <dc:language>en-US</dc:language>
  <cp:lastModifiedBy>Shynar</cp:lastModifiedBy>
  <dcterms:modified xsi:type="dcterms:W3CDTF">2012-03-06T09:23:09Z</dcterms:modified>
  <cp:revision>231</cp:revision>
  <dc:subject/>
  <dc:title>Урок русского языка в 8 классе. «Односоставные предложения. Повторение и обобщение.»</dc:title>
</cp:coreProperties>
</file>