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6366-94DF-4FB3-A015-13AF8A391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C2EA-4B1B-4FB6-83B1-5F8F22358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507A-4BE9-4DAF-9214-156F67C61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3B40-4850-430B-A94F-37B550648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F9D8-8A6B-4E3C-9F89-B7D26E704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42A3-D690-4642-B1CB-ED0B7C5AB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8790-E212-4879-9A6E-9D4B1FCD6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10AA-A9FC-4EE4-AB30-2E7ACF590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A95B-2C0A-45A3-A3A3-11ED502D4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2854-8857-4CE0-B99E-93B7610B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CE91-94F6-4B67-9CB7-14D39519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695A-DB16-4FA2-B1DE-C89614F8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5B482-D639-4DC4-9E59-0B299C275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Times New Roman"/>
              </a:rPr>
              <a:t>Африканские живот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Добро пожаловать в Афри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Прогуляемся по Африке и посмотр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чем занимаются там мест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жите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6560" y="404280"/>
            <a:ext cx="7993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             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                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Орангутанг на отдыхе.</a:t>
            </a:r>
            <a:br>
              <a:rPr sz="3200"/>
            </a:b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                             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                              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Сижу себе, отдыхаю, никого не трогаю.</a:t>
            </a:r>
            <a:br>
              <a:rPr sz="2000"/>
            </a:b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                                                Солнце припекает. Голову печет. Нашел</a:t>
            </a:r>
            <a:br>
              <a:rPr sz="2000"/>
            </a:b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                                                тряпочку. Надел на голову. Красота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84360" y="1413000"/>
            <a:ext cx="2950920" cy="503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imes New Roman"/>
              </a:rPr>
              <a:t>                     </a:t>
            </a:r>
            <a:br>
              <a:rPr sz="4000"/>
            </a:br>
            <a:r>
              <a:rPr b="1" lang="en-US" sz="4000" spc="-1" strike="noStrike">
                <a:solidFill>
                  <a:srgbClr val="009900"/>
                </a:solidFill>
                <a:latin typeface="Times New Roman"/>
              </a:rPr>
              <a:t>Лев в ярости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042920" y="1125360"/>
            <a:ext cx="6985080" cy="463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Кормление крокоди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57200" y="1606680"/>
            <a:ext cx="8218440" cy="451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Горилла с детёныш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Жираф целует детёныш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368316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То ли мой, то ли соседск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26920" y="1557360"/>
            <a:ext cx="7417080" cy="4525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15:26:21Z</dcterms:created>
  <dc:creator>пользователь</dc:creator>
  <dc:description/>
  <dc:language>en-US</dc:language>
  <cp:lastModifiedBy>пользователь</cp:lastModifiedBy>
  <dcterms:modified xsi:type="dcterms:W3CDTF">2012-03-05T15:47:31Z</dcterms:modified>
  <cp:revision>2</cp:revision>
  <dc:subject/>
  <dc:title>Африканские животные</dc:title>
</cp:coreProperties>
</file>