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718-33D1-4E0E-8146-A88709BF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0A1-0835-474E-A8B2-5F7A8C3A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69C-0BC0-4747-80FE-069877CC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670-9F4D-4899-B830-3A82C442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C6589-CC99-4187-852B-E0610F0D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5B76B-3C5D-410C-BCDC-B9EF13A2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8B1ED-72AA-47CC-B47E-C16929FD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54D57-1CAF-4B56-B935-25547B61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AA41C-4969-46E6-8C19-9ED07ED0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23461-5E07-430C-87CE-95F0EB07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B2B5F-9223-42B5-986E-5E7542D1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882-828E-48B0-ABD7-99D4B410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DDBDA-325B-4857-A34B-10020D63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DA968-4717-4BB1-BEBE-DBFD85A4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D4E9A-EE1B-468F-B8E9-089F6102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4F55C-1189-4403-870D-1B06628A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EB1DF-12C4-45B7-9A73-ADD7A654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A9C-D5D2-4E86-A7C8-A1CB952A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495-127F-488F-A337-FCDFB356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F76-A82A-4887-B697-8536A595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78A-AA9B-4F40-82ED-530554D2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BE9-AF07-4979-9D7C-927DE13C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894-48D4-4271-A47E-E74CE8FF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3C3-24BC-457C-B37E-F64961AA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4C8D-7C64-4A1B-AF84-049AED3682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1579-283E-4D0B-80C7-21E5219C52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Библ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( греческое слово)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книги»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потому что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ибл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ключает большое количество священных кни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3592440"/>
            <a:ext cx="31687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ервая книга «Быти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Рассказывает о том, как в мире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все начало быть»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как Господь создал мир, позволил мир быть, дал миру быт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 начале творения ми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4000" y="59497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«В начале сотворил Бог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ебо и землю"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813780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115640" y="6021000"/>
            <a:ext cx="72723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ир невидимый – мир анге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569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рхангел Михаил-архистратиг, победител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025640"/>
            <a:ext cx="7777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12000" y="1904760"/>
            <a:ext cx="26748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РХАНГЕЛ МИХАИЛ С 12 СЦЕНАМИ ЕГО ДЕЯНИЙ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562932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День первый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5884560"/>
            <a:ext cx="82915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 будет свет:  И стал свет. И назвал Бог свет днем, а тьму ночь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4214880" cy="523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46800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2:54:36Z</dcterms:created>
  <dc:creator>пользователь</dc:creator>
  <dc:description/>
  <dc:language>en-US</dc:language>
  <cp:lastModifiedBy>пользователь</cp:lastModifiedBy>
  <dcterms:modified xsi:type="dcterms:W3CDTF">2012-03-09T18:50:16Z</dcterms:modified>
  <cp:revision>4</cp:revision>
  <dc:subject/>
  <dc:title>О начале творения мира.</dc:title>
</cp:coreProperties>
</file>