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40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5CA-74EB-465E-A31C-C69670BC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A80-80BC-4651-99D5-CC9676E7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130-746C-49EC-8880-2C58AFE8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8CB-DBAB-4B72-9EF4-D6641252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148A-96DE-4DA8-8CAE-3B95E14D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C4ED-444B-4EF3-B93B-3E5C6572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78DC-B3AF-4085-A582-5317947E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8E22-AA32-43A3-8B87-608A8D43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D09D-114A-41D0-B93B-8B61E3C7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4960-4305-49C6-988B-D104887D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DBE1-3398-40AA-B49C-DCDAC7EA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160-4DAA-4AB9-8E6E-15B31827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2A7A-132F-4461-8352-47578516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2222-511B-4DAD-9402-510014FB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E917-0E49-407D-8888-E6D85168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D507-36F7-49AB-A39B-35571D95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7F01-DFC2-4C41-BFFB-FD3832FA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60568-DE0D-470C-82B3-856AE911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27829-5E91-4A9B-BEAB-9058ECA3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7CC2B-54D1-4AD5-8974-420BE2BB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6CD60-50B6-4205-8CFF-846227D5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F3409-31B3-4FA5-99AC-B15914F6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6B9-8646-4339-BC89-95EB916B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F3490-CDF3-455B-B4DF-CA54B8C0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9D464-DB36-4A65-A95E-6A190AA9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030DA-2383-4756-AC4F-05AB60CF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E2DD1-AD3A-44ED-A6A3-B08AB08C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C6A34-7959-4881-8151-91D7F4E3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1D58F-8B72-4FAC-A2DB-3933738E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6F1E7-87A6-4AED-88CA-55E6F25B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F8E2A-8A68-42AB-AAEF-FDA647CF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CFDF9-8160-4E20-94B1-221BD1DD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CE85B-DCA5-40DF-92C5-1495CDBA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C4D-A3FD-4414-A0AB-C5FBCE55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2364A-14A2-4F49-9131-12B28527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B35DC-29EF-40C3-9CB5-5AAFBC26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3EB4C-3102-4E7F-A355-E9FE2161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7A9B-70C6-41AB-ADB0-B850CD56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580F-1B1F-40BA-993E-93ED4B60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FBBAC-DFDF-4BCE-A6AD-D346C354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E4239-43B1-40F0-971F-61226A1F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ACC53-73A7-49D4-B170-DFA8FE45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0232C-84F8-4229-B6D6-C805246F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B993-BA9A-4293-A56B-97D8A871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E2B-79BD-465E-82BF-D20C7BFE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801-5DAD-4A32-9670-077140AA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977-D15C-4431-A660-220EA7D8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B74-74DC-405A-8345-3CD1AECF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7F3F-E048-4F31-82B9-F7032296861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D218-4F2B-4872-963F-5F604472598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1A2C-BE87-4E5F-AFE1-C871E75969B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0771-FBCF-41BF-A13F-82777E1D94A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3200" spc="-1" strike="noStrike">
                <a:solidFill>
                  <a:srgbClr val="04617b"/>
                </a:solidFill>
                <a:latin typeface="Century"/>
              </a:rPr>
              <a:t>ГБОУ СОШ №4 пгт Алексеевка г.о.Кинель Самарская область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entury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entury"/>
              </a:rPr>
              <a:t>«Изучение химического состава мыла и синтезирование в лабораторных  условиях»</a:t>
            </a:r>
            <a:br>
              <a:rPr sz="2900"/>
            </a:br>
            <a:br>
              <a:rPr sz="2900"/>
            </a:br>
            <a:r>
              <a:rPr b="1" lang="ru-RU" sz="2400" spc="-1" strike="noStrike">
                <a:solidFill>
                  <a:srgbClr val="c00000"/>
                </a:solidFill>
                <a:latin typeface="Trebuchet MS"/>
              </a:rPr>
              <a:t>  Выполнили: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rebuchet MS"/>
              </a:rPr>
              <a:t>Бойко Виктория, 9 «А» класс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rebuchet MS"/>
              </a:rPr>
              <a:t>Машурова Дарья, 9 «А» класс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Trebuchet MS"/>
              </a:rPr>
              <a:t> </a:t>
            </a:r>
            <a:br>
              <a:rPr sz="1800"/>
            </a:br>
            <a:r>
              <a:rPr b="1" lang="ru-RU" sz="2400" spc="-1" strike="noStrike">
                <a:solidFill>
                  <a:srgbClr val="546422"/>
                </a:solidFill>
                <a:latin typeface="Trebuchet MS"/>
              </a:rPr>
              <a:t>Руководитель:</a:t>
            </a:r>
            <a:br>
              <a:rPr sz="2400"/>
            </a:br>
            <a:r>
              <a:rPr b="1" lang="ru-RU" sz="2400" spc="-1" strike="noStrike">
                <a:solidFill>
                  <a:srgbClr val="546422"/>
                </a:solidFill>
                <a:latin typeface="Trebuchet MS"/>
              </a:rPr>
              <a:t>Петина Оксана Викторовна</a:t>
            </a:r>
            <a:br>
              <a:rPr sz="2400"/>
            </a:br>
            <a:r>
              <a:rPr b="1" lang="ru-RU" sz="2400" spc="-1" strike="noStrike">
                <a:solidFill>
                  <a:srgbClr val="546422"/>
                </a:solidFill>
                <a:latin typeface="Trebuchet MS"/>
              </a:rPr>
              <a:t>учитель химии и экологии</a:t>
            </a:r>
            <a:br>
              <a:rPr sz="2400"/>
            </a:br>
            <a:r>
              <a:rPr b="0" lang="ru-RU" sz="2900" spc="-1" strike="noStrike">
                <a:solidFill>
                  <a:srgbClr val="04617b"/>
                </a:solidFill>
                <a:latin typeface="Trebuchet MS"/>
              </a:rPr>
              <a:t> </a:t>
            </a: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rebuchet MS"/>
              </a:rPr>
              <a:t> 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15" name="Picture 4" descr="1294121220_152046272_2---"/>
          <p:cNvPicPr/>
          <p:nvPr/>
        </p:nvPicPr>
        <p:blipFill>
          <a:blip r:embed="rId1"/>
          <a:stretch/>
        </p:blipFill>
        <p:spPr>
          <a:xfrm>
            <a:off x="285840" y="428760"/>
            <a:ext cx="1965240" cy="1311120"/>
          </a:xfrm>
          <a:prstGeom prst="rect">
            <a:avLst/>
          </a:prstGeom>
          <a:ln w="76320">
            <a:solidFill>
              <a:srgbClr val="e2d700"/>
            </a:solidFill>
            <a:miter/>
          </a:ln>
        </p:spPr>
      </p:pic>
      <p:pic>
        <p:nvPicPr>
          <p:cNvPr id="216" name="Рисунок 3" descr="IMG_8220.JPG"/>
          <p:cNvPicPr/>
          <p:nvPr/>
        </p:nvPicPr>
        <p:blipFill>
          <a:blip r:embed="rId2"/>
          <a:stretch/>
        </p:blipFill>
        <p:spPr>
          <a:xfrm>
            <a:off x="500040" y="2857680"/>
            <a:ext cx="33418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500040" y="1000080"/>
            <a:ext cx="8143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РИГОТОВЛЕНИЕ ЖИДКОГ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Ы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ziepes001_a"/>
          <p:cNvPicPr/>
          <p:nvPr/>
        </p:nvPicPr>
        <p:blipFill>
          <a:blip r:embed="rId1"/>
          <a:stretch/>
        </p:blipFill>
        <p:spPr>
          <a:xfrm>
            <a:off x="6572160" y="5143680"/>
            <a:ext cx="2571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4" descr="C:\Documents and Settings\1\Рабочий стол\мыло фото\мыло2\IMGP5812.JPG"/>
          <p:cNvPicPr/>
          <p:nvPr/>
        </p:nvPicPr>
        <p:blipFill>
          <a:blip r:embed="rId1"/>
          <a:stretch/>
        </p:blipFill>
        <p:spPr>
          <a:xfrm>
            <a:off x="285840" y="714240"/>
            <a:ext cx="3571920" cy="26784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C:\Documents and Settings\1\Рабочий стол\мыло фото\мыло2\IMGP5814.JPG"/>
          <p:cNvPicPr/>
          <p:nvPr/>
        </p:nvPicPr>
        <p:blipFill>
          <a:blip r:embed="rId2"/>
          <a:stretch/>
        </p:blipFill>
        <p:spPr>
          <a:xfrm>
            <a:off x="3786120" y="642960"/>
            <a:ext cx="2724120" cy="254304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6" descr="C:\Documents and Settings\1\Рабочий стол\мыло фото\мыло2\IMGP5818.JPG"/>
          <p:cNvPicPr/>
          <p:nvPr/>
        </p:nvPicPr>
        <p:blipFill>
          <a:blip r:embed="rId3"/>
          <a:stretch/>
        </p:blipFill>
        <p:spPr>
          <a:xfrm>
            <a:off x="6438960" y="642960"/>
            <a:ext cx="2705040" cy="25430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0" y="357264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Изготовление жидкого мыла</a:t>
            </a:r>
            <a:r>
              <a:rPr b="1" i="1" lang="ru-RU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071960" y="33584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                 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Нагревание на водяной б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7" descr="C:\Documents and Settings\1\Рабочий стол\мыло фото\мыло2\IMGP5824.JPG"/>
          <p:cNvPicPr/>
          <p:nvPr/>
        </p:nvPicPr>
        <p:blipFill>
          <a:blip r:embed="rId4"/>
          <a:stretch/>
        </p:blipFill>
        <p:spPr>
          <a:xfrm>
            <a:off x="928800" y="4000680"/>
            <a:ext cx="2800080" cy="240012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8" descr="C:\Documents and Settings\1\Рабочий стол\мыло фото\мыло2\IMGP5826.JPG"/>
          <p:cNvPicPr/>
          <p:nvPr/>
        </p:nvPicPr>
        <p:blipFill>
          <a:blip r:embed="rId5"/>
          <a:stretch/>
        </p:blipFill>
        <p:spPr>
          <a:xfrm>
            <a:off x="5143680" y="3857760"/>
            <a:ext cx="2871720" cy="24620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8"/>
          <p:cNvSpPr/>
          <p:nvPr/>
        </p:nvSpPr>
        <p:spPr>
          <a:xfrm>
            <a:off x="857160" y="650088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авление эфирных ма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9"/>
          <p:cNvSpPr/>
          <p:nvPr/>
        </p:nvSpPr>
        <p:spPr>
          <a:xfrm>
            <a:off x="5214960" y="6429240"/>
            <a:ext cx="29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ие мы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4617b"/>
                </a:solidFill>
                <a:latin typeface="Trebuchet MS"/>
              </a:rPr>
              <a:t>Изготовление мыла в домашних условиях</a:t>
            </a:r>
            <a:br>
              <a:rPr sz="2800"/>
            </a:br>
            <a:r>
              <a:rPr b="0" i="1" lang="ru-RU" sz="2200" spc="-1" strike="noStrike">
                <a:solidFill>
                  <a:srgbClr val="04617b"/>
                </a:solidFill>
                <a:latin typeface="Trebuchet MS"/>
              </a:rPr>
              <a:t> Натереть мыльную  основу на тёрке</a:t>
            </a:r>
            <a:endParaRPr b="0" lang="en-US" sz="22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61" name="Содержимое 8" descr="http://open.home-media.ru/user_images/0000/2841/IMG_0218.jpg"/>
          <p:cNvPicPr/>
          <p:nvPr/>
        </p:nvPicPr>
        <p:blipFill>
          <a:blip r:embed="rId1"/>
          <a:stretch/>
        </p:blipFill>
        <p:spPr>
          <a:xfrm>
            <a:off x="4643280" y="4714920"/>
            <a:ext cx="3071880" cy="21430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" descr="x_60ccabec.jpg"/>
          <p:cNvPicPr/>
          <p:nvPr/>
        </p:nvPicPr>
        <p:blipFill>
          <a:blip r:embed="rId2"/>
          <a:stretch/>
        </p:blipFill>
        <p:spPr>
          <a:xfrm>
            <a:off x="571680" y="1643040"/>
            <a:ext cx="4192560" cy="31449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x_480efecd.jpg"/>
          <p:cNvPicPr/>
          <p:nvPr/>
        </p:nvPicPr>
        <p:blipFill>
          <a:blip r:embed="rId3"/>
          <a:stretch/>
        </p:blipFill>
        <p:spPr>
          <a:xfrm>
            <a:off x="1143000" y="4500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5" descr="x_d6d93692.jpg"/>
          <p:cNvPicPr/>
          <p:nvPr/>
        </p:nvPicPr>
        <p:blipFill>
          <a:blip r:embed="rId4"/>
          <a:stretch/>
        </p:blipFill>
        <p:spPr>
          <a:xfrm>
            <a:off x="5000760" y="1500120"/>
            <a:ext cx="2514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825804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r>
              <a:rPr b="0" i="1" lang="ru-RU" sz="4000" spc="-1" strike="noStrike">
                <a:solidFill>
                  <a:srgbClr val="04617b"/>
                </a:solidFill>
                <a:latin typeface="Trebuchet MS"/>
              </a:rPr>
              <a:t>Залить стружку кипятком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66" name="Содержимое 3" descr="http://open.home-media.ru/user_images/0000/2849/IMG_0224.jpg"/>
          <p:cNvPicPr/>
          <p:nvPr/>
        </p:nvPicPr>
        <p:blipFill>
          <a:blip r:embed="rId1"/>
          <a:stretch/>
        </p:blipFill>
        <p:spPr>
          <a:xfrm>
            <a:off x="1285920" y="1857240"/>
            <a:ext cx="6429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4617b"/>
                </a:solidFill>
                <a:latin typeface="Trebuchet MS"/>
              </a:rPr>
              <a:t> </a:t>
            </a:r>
            <a:r>
              <a:rPr b="0" i="1" lang="ru-RU" sz="3600" spc="-1" strike="noStrike">
                <a:solidFill>
                  <a:srgbClr val="04617b"/>
                </a:solidFill>
                <a:latin typeface="Trebuchet MS"/>
              </a:rPr>
              <a:t>Ковшик – контейнер поместить на водяную баню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68" name="Содержимое 3" descr="http://open.home-media.ru/user_images/0000/2845/IMG_0222.jpg"/>
          <p:cNvPicPr/>
          <p:nvPr/>
        </p:nvPicPr>
        <p:blipFill>
          <a:blip r:embed="rId1"/>
          <a:stretch/>
        </p:blipFill>
        <p:spPr>
          <a:xfrm>
            <a:off x="1071720" y="1643040"/>
            <a:ext cx="7143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4617b"/>
                </a:solidFill>
                <a:latin typeface="Trebuchet MS"/>
              </a:rPr>
              <a:t> </a:t>
            </a:r>
            <a:r>
              <a:rPr b="0" i="1" lang="ru-RU" sz="3600" spc="-1" strike="noStrike">
                <a:solidFill>
                  <a:srgbClr val="04617b"/>
                </a:solidFill>
                <a:latin typeface="Trebuchet MS"/>
              </a:rPr>
              <a:t>Дождаться полного растворения основы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70" name="Содержимое 3" descr="http://open.home-media.ru/user_images/0000/2853/IMG_0226.jpg"/>
          <p:cNvPicPr/>
          <p:nvPr/>
        </p:nvPicPr>
        <p:blipFill>
          <a:blip r:embed="rId1"/>
          <a:stretch/>
        </p:blipFill>
        <p:spPr>
          <a:xfrm>
            <a:off x="1714680" y="2286000"/>
            <a:ext cx="5643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258040" cy="15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4617b"/>
                </a:solidFill>
                <a:latin typeface="Trebuchet MS"/>
              </a:rPr>
              <a:t>Добавить   масло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одсолнечно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(1-2 ст. ложки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ливково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Миндально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блепихово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3" name="Содержимое 4" descr="x_93ff4259.jpg"/>
          <p:cNvPicPr/>
          <p:nvPr/>
        </p:nvPicPr>
        <p:blipFill>
          <a:blip r:embed="rId1"/>
          <a:stretch/>
        </p:blipFill>
        <p:spPr>
          <a:xfrm>
            <a:off x="500040" y="1428840"/>
            <a:ext cx="4011480" cy="300816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5" descr="x_43ce14a8.jpg"/>
          <p:cNvPicPr/>
          <p:nvPr/>
        </p:nvPicPr>
        <p:blipFill>
          <a:blip r:embed="rId2"/>
          <a:stretch/>
        </p:blipFill>
        <p:spPr>
          <a:xfrm>
            <a:off x="500040" y="4500720"/>
            <a:ext cx="400068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1151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4617b"/>
                </a:solidFill>
                <a:latin typeface="Trebuchet MS"/>
              </a:rPr>
              <a:t>Снять с огня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76" name="Содержимое 5" descr="http://open.home-media.ru/user_images/0000/2851/IMG_0225.jpg"/>
          <p:cNvPicPr/>
          <p:nvPr/>
        </p:nvPicPr>
        <p:blipFill>
          <a:blip r:embed="rId1"/>
          <a:stretch/>
        </p:blipFill>
        <p:spPr>
          <a:xfrm>
            <a:off x="1428840" y="2357280"/>
            <a:ext cx="62150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4617b"/>
                </a:solidFill>
                <a:latin typeface="Trebuchet MS"/>
              </a:rPr>
              <a:t>Добавить: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57520" y="1428840"/>
            <a:ext cx="37861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Молотый коф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всяные хлопья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ушёные травы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ухие цветы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расители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9" name="Содержимое 4" descr="x_31aea566.jpg"/>
          <p:cNvPicPr/>
          <p:nvPr/>
        </p:nvPicPr>
        <p:blipFill>
          <a:blip r:embed="rId1"/>
          <a:stretch/>
        </p:blipFill>
        <p:spPr>
          <a:xfrm>
            <a:off x="500040" y="1000080"/>
            <a:ext cx="3743280" cy="258120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5" descr="x_2bb47ae0.jpg"/>
          <p:cNvPicPr/>
          <p:nvPr/>
        </p:nvPicPr>
        <p:blipFill>
          <a:blip r:embed="rId2"/>
          <a:stretch/>
        </p:blipFill>
        <p:spPr>
          <a:xfrm>
            <a:off x="857160" y="3429000"/>
            <a:ext cx="29718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428760" y="432000"/>
            <a:ext cx="800100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основании полученных результатов можно сделать следующие вывод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тезированное нами в лабораторных условиях, твёрдое и жидкое мыла отличаются как по строению и составу молекул, так и по исследованным нами свойств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еют отличия по способу получения. При изготовлении жидкого мыла отсутствуют некоторые стадии варки твёрдого мы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варки мыла использовались разные виды сырья.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окраски индикатора фенолфталеина не наблюдается, следовательно, полученное нами мыло не содержит щёло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чше и быстрее растворяется жидкое мы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Жидкое и твёрдое мыла способны эмульгировать жи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ходе эксперимента было получено мыло в домашних условиях на мыльной основ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71680" y="1285560"/>
            <a:ext cx="81151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Целью нашей работы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является изучение химического состава мыла и его синтезирование в лабораторных условиях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5" descr="ziepes001_a"/>
          <p:cNvPicPr/>
          <p:nvPr/>
        </p:nvPicPr>
        <p:blipFill>
          <a:blip r:embed="rId1"/>
          <a:stretch/>
        </p:blipFill>
        <p:spPr>
          <a:xfrm>
            <a:off x="6178680" y="4857840"/>
            <a:ext cx="2679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97256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СПАСИБО ЗА ВНИМАНИЕ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83" name="Picture 5" descr="ziepes001_a"/>
          <p:cNvPicPr/>
          <p:nvPr/>
        </p:nvPicPr>
        <p:blipFill>
          <a:blip r:embed="rId1"/>
          <a:stretch/>
        </p:blipFill>
        <p:spPr>
          <a:xfrm>
            <a:off x="7286760" y="5357880"/>
            <a:ext cx="1857240" cy="1238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b8c97af4080552fddc9b3592a43be1a6e48d6df442ac245f0aa97cd184de04fa"/>
          <p:cNvPicPr/>
          <p:nvPr/>
        </p:nvPicPr>
        <p:blipFill>
          <a:blip r:embed="rId2"/>
          <a:stretch/>
        </p:blipFill>
        <p:spPr>
          <a:xfrm>
            <a:off x="1714680" y="2428920"/>
            <a:ext cx="571500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8186760" cy="16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Trebuchet MS"/>
              </a:rPr>
              <a:t>Задачи исследования</a:t>
            </a:r>
            <a:endParaRPr b="0" lang="en-US" sz="5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85520" y="2071800"/>
            <a:ext cx="79009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ля достижения цели были поставлены следующие задачи: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обрать изучить литературу о синтезе, строении и свойствах мыл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лучить мыло из разных веществ в лабораторных условия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равнить химический состав и свойств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5" descr="ziepes001_a"/>
          <p:cNvPicPr/>
          <p:nvPr/>
        </p:nvPicPr>
        <p:blipFill>
          <a:blip r:embed="rId1"/>
          <a:stretch/>
        </p:blipFill>
        <p:spPr>
          <a:xfrm>
            <a:off x="6823080" y="5500800"/>
            <a:ext cx="2035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57842825_1"/>
          <p:cNvPicPr/>
          <p:nvPr/>
        </p:nvPicPr>
        <p:blipFill>
          <a:blip r:embed="rId1"/>
          <a:stretch/>
        </p:blipFill>
        <p:spPr>
          <a:xfrm>
            <a:off x="0" y="500040"/>
            <a:ext cx="4932360" cy="33051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223" name="Picture 8" descr="b50dd1c7-9db3-11de-b2c5-001cc011426b"/>
          <p:cNvPicPr/>
          <p:nvPr/>
        </p:nvPicPr>
        <p:blipFill>
          <a:blip r:embed="rId2"/>
          <a:stretch/>
        </p:blipFill>
        <p:spPr>
          <a:xfrm>
            <a:off x="4932360" y="3789360"/>
            <a:ext cx="4211640" cy="30686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224" name="Прямоугольник 5"/>
          <p:cNvSpPr/>
          <p:nvPr/>
        </p:nvSpPr>
        <p:spPr>
          <a:xfrm>
            <a:off x="5143680" y="71424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сметическое средство — для очищения и ухода за кожей (туалетное мыл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357120" y="4071960"/>
            <a:ext cx="43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684e"/>
                </a:solidFill>
                <a:latin typeface="Arial"/>
              </a:rPr>
              <a:t>средство бытовой химии — моющее средство (хозяйственное мыло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14778914.jpg"/>
          <p:cNvPicPr/>
          <p:nvPr/>
        </p:nvPicPr>
        <p:blipFill>
          <a:blip r:embed="rId1"/>
          <a:stretch/>
        </p:blipFill>
        <p:spPr>
          <a:xfrm>
            <a:off x="571680" y="928800"/>
            <a:ext cx="4305240" cy="25002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0_497ce_75afb100_L.jpg"/>
          <p:cNvPicPr/>
          <p:nvPr/>
        </p:nvPicPr>
        <p:blipFill>
          <a:blip r:embed="rId2"/>
          <a:stretch/>
        </p:blipFill>
        <p:spPr>
          <a:xfrm>
            <a:off x="4929120" y="928800"/>
            <a:ext cx="3716280" cy="25081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82cfc587e58c07eae82a2b5705897e28_600.jpg"/>
          <p:cNvPicPr/>
          <p:nvPr/>
        </p:nvPicPr>
        <p:blipFill>
          <a:blip r:embed="rId3"/>
          <a:stretch/>
        </p:blipFill>
        <p:spPr>
          <a:xfrm>
            <a:off x="4000680" y="3643200"/>
            <a:ext cx="2268360" cy="30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L17p10p00"/>
          <p:cNvPicPr/>
          <p:nvPr/>
        </p:nvPicPr>
        <p:blipFill>
          <a:blip r:embed="rId4"/>
          <a:stretch/>
        </p:blipFill>
        <p:spPr>
          <a:xfrm>
            <a:off x="285840" y="3786120"/>
            <a:ext cx="3671640" cy="2755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5"/>
          <a:stretch/>
        </p:blipFill>
        <p:spPr>
          <a:xfrm>
            <a:off x="6286680" y="3643200"/>
            <a:ext cx="26110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ПРАКТИЧЕСКАЯ ЧАСТЬ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eorgia"/>
              </a:rPr>
              <a:t>ПРИГОТОВЛЕНИЕ ТВЕРДОГО МЫЛА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5" descr="ziepes001_a"/>
          <p:cNvPicPr/>
          <p:nvPr/>
        </p:nvPicPr>
        <p:blipFill>
          <a:blip r:embed="rId1"/>
          <a:stretch/>
        </p:blipFill>
        <p:spPr>
          <a:xfrm>
            <a:off x="6786720" y="5286240"/>
            <a:ext cx="2357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3" descr="C:\Documents and Settings\1\Рабочий стол\мыло фото\Мыло\IMGP5785.jpg"/>
          <p:cNvPicPr/>
          <p:nvPr/>
        </p:nvPicPr>
        <p:blipFill>
          <a:blip r:embed="rId1"/>
          <a:stretch/>
        </p:blipFill>
        <p:spPr>
          <a:xfrm>
            <a:off x="0" y="571680"/>
            <a:ext cx="1989000" cy="28810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2" descr="C:\Documents and Settings\1\Рабочий стол\мыло фото\Мыло\IMGP5784.jpg"/>
          <p:cNvPicPr/>
          <p:nvPr/>
        </p:nvPicPr>
        <p:blipFill>
          <a:blip r:embed="rId2"/>
          <a:stretch/>
        </p:blipFill>
        <p:spPr>
          <a:xfrm>
            <a:off x="2000160" y="571680"/>
            <a:ext cx="2632320" cy="29286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5" descr="C:\Documents and Settings\1\Рабочий стол\мыло фото\Мыло\IMGP5787.JPG"/>
          <p:cNvPicPr/>
          <p:nvPr/>
        </p:nvPicPr>
        <p:blipFill>
          <a:blip r:embed="rId3"/>
          <a:stretch/>
        </p:blipFill>
        <p:spPr>
          <a:xfrm>
            <a:off x="0" y="3429000"/>
            <a:ext cx="4707000" cy="27147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0" y="621504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лавление жира  на водяной ба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5"/>
          <p:cNvSpPr/>
          <p:nvPr/>
        </p:nvSpPr>
        <p:spPr>
          <a:xfrm>
            <a:off x="4929120" y="785880"/>
            <a:ext cx="3571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агревании на водяной бане дадим жиру расплавиться и при энергичном перемешивании малыми порциями добавим к нему нагретый раствор 25 г едкого натра в 30 мл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6"/>
          <p:cNvSpPr/>
          <p:nvPr/>
        </p:nvSpPr>
        <p:spPr>
          <a:xfrm>
            <a:off x="5000760" y="3000240"/>
            <a:ext cx="3786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ревание на водяной бан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ченную смесь при непрерывном перемешивании стеклянной палочкой будем 30 минут нагревать на кипящей водяной бане, добавляя горячую воду по мере выкипания. Затем прильем 100 мл 20 %-ного раствора поваренной соли и снова нагреем смесь до полного отделения мы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7" descr="C:\Documents and Settings\1\Рабочий стол\мыло фото\Мыло\IMGP5794.JPG"/>
          <p:cNvPicPr/>
          <p:nvPr/>
        </p:nvPicPr>
        <p:blipFill>
          <a:blip r:embed="rId1"/>
          <a:stretch/>
        </p:blipFill>
        <p:spPr>
          <a:xfrm>
            <a:off x="214200" y="642960"/>
            <a:ext cx="3009960" cy="22575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9" descr="C:\Documents and Settings\1\Рабочий стол\мыло фото\Мыло\IMGP5801.JPG"/>
          <p:cNvPicPr/>
          <p:nvPr/>
        </p:nvPicPr>
        <p:blipFill>
          <a:blip r:embed="rId2"/>
          <a:stretch/>
        </p:blipFill>
        <p:spPr>
          <a:xfrm>
            <a:off x="428760" y="3071880"/>
            <a:ext cx="2562120" cy="21715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0" descr="C:\Documents and Settings\1\Рабочий стол\мыло фото\Мыло\IMGP5802.JPG"/>
          <p:cNvPicPr/>
          <p:nvPr/>
        </p:nvPicPr>
        <p:blipFill>
          <a:blip r:embed="rId3"/>
          <a:stretch/>
        </p:blipFill>
        <p:spPr>
          <a:xfrm>
            <a:off x="3214800" y="3071880"/>
            <a:ext cx="2562120" cy="21715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3357720" y="509760"/>
            <a:ext cx="542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Рисунок. Нагревание на водяной бане, после добавления хлорида нат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Промывание.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 Промоем мыло малым количеством холо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1" descr="C:\Documents and Settings\1\Рабочий стол\мыло фото\Мыло\IMGP5804.JPG"/>
          <p:cNvPicPr/>
          <p:nvPr/>
        </p:nvPicPr>
        <p:blipFill>
          <a:blip r:embed="rId4"/>
          <a:stretch/>
        </p:blipFill>
        <p:spPr>
          <a:xfrm>
            <a:off x="6000840" y="3071880"/>
            <a:ext cx="23860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2" descr="C:\Documents and Settings\1\Рабочий стол\мыло фото\Мыло\IMGP5805.JPG"/>
          <p:cNvPicPr/>
          <p:nvPr/>
        </p:nvPicPr>
        <p:blipFill>
          <a:blip r:embed="rId1"/>
          <a:stretch/>
        </p:blipFill>
        <p:spPr>
          <a:xfrm>
            <a:off x="285840" y="642960"/>
            <a:ext cx="4000320" cy="21049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3" descr="C:\Documents and Settings\1\Рабочий стол\мыло фото\Мыло\IMGP5809.JPG"/>
          <p:cNvPicPr/>
          <p:nvPr/>
        </p:nvPicPr>
        <p:blipFill>
          <a:blip r:embed="rId2"/>
          <a:stretch/>
        </p:blipFill>
        <p:spPr>
          <a:xfrm>
            <a:off x="285840" y="2928960"/>
            <a:ext cx="4011480" cy="30081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285840" y="59292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ование и добавление душистых вещест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4714920" y="785880"/>
            <a:ext cx="3857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бавление душистых вещест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бавим к нему немного растворенного в спирте душистого вещества. Можно выбрать тминное, анисовое или фенхельное ма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09:17:28Z</dcterms:created>
  <dc:creator>Admin</dc:creator>
  <dc:description/>
  <dc:language>en-US</dc:language>
  <cp:lastModifiedBy>1</cp:lastModifiedBy>
  <dcterms:modified xsi:type="dcterms:W3CDTF">2012-03-10T19:49:24Z</dcterms:modified>
  <cp:revision>110</cp:revision>
  <dc:subject/>
  <dc:title>Волшебный мир кристаллов</dc:title>
</cp:coreProperties>
</file>