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A542-F430-4BB5-8B9C-AC74F84930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м российском законодательстве источниками права являются НОРМАТИВНЫЕ АКТЫ, ДОГОВОРЫ, частично прецед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C10D-4506-4851-8CD1-CED22B4CEA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размышл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озникает пра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тановится источниками пра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озникло раньше: право или государст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BAC4-D687-4D3D-B0F4-B2D1FAE598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– это совокупность норм п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ы поведения возникают в процессе существования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ы поведения – это и обычаи, и нормы морали, и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– это нормы поведения, обязательные к исполн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исходят от уполномоченных государственных орган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государство контролирует их исполнение и наказывает за нару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официально вступает в силу после опублик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3605-A6E4-4945-9D99-2631EA171D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 – это совокупность всех законов, действующих в обществе в определенный момент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9189-83BE-4AE9-A12B-CB90E0D89E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в какой-то отдельной отрасли не приводят к изменению системы вце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E569-C3B3-497F-814C-78146BBE55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91EE-95D9-4D7E-8D37-43391A7E43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EF95-8734-4C4A-9DA0-E81DFD06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E211-FEF7-4DE1-AAD1-32E42578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523D-6FFB-470A-9396-5916B33CE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08F7-D6B8-422F-A94B-F03DBDE44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BE32-B664-45C4-9FF8-8FBB1A0A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CC21-D502-4EA4-A794-58328704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D18A-18E3-4F0E-84B7-B623DABD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0191-E57A-44FC-A0AC-84A605B4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9C02-AC0A-4482-B787-4C983BF8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8E42-2F7E-493B-A91B-ABF85D9C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C8A9-BD72-43C1-98BB-05DAB8F9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4EF2-8398-457E-B473-F11F6F21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FD20-F661-4463-A10D-185F952C82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ТО ТАКОЕ ПРА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Object 3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381024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ВИД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ВЫХ НОР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8580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УПРАВОМОЧИВАЮЩ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ОБЯЗЫВАЮЩ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ЗАПРЕЩАЮЩ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5562720" y="2286000"/>
            <a:ext cx="304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ОСТАВЛЯЮЩИЕ ВОЗМОЖНОСТЬ ДЕЙСТВОВА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ЕБУЮЩИЕ ОПРЕДЕЛЕННОГО ПОВЕД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ТАНАВЛИВАЮТ ЗАПРЕТЫ НА НА СОВЕРШЕНИЕ ДЕЙСТВ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Group 5"/>
          <p:cNvGrpSpPr/>
          <p:nvPr/>
        </p:nvGrpSpPr>
        <p:grpSpPr>
          <a:xfrm>
            <a:off x="533520" y="152280"/>
            <a:ext cx="1770120" cy="1563840"/>
            <a:chOff x="533520" y="152280"/>
            <a:chExt cx="1770120" cy="1563840"/>
          </a:xfrm>
        </p:grpSpPr>
        <p:sp>
          <p:nvSpPr>
            <p:cNvPr id="117" name="Freeform 6"/>
            <p:cNvSpPr/>
            <p:nvPr/>
          </p:nvSpPr>
          <p:spPr>
            <a:xfrm>
              <a:off x="533520" y="152280"/>
              <a:ext cx="1770120" cy="1563840"/>
            </a:xfrm>
            <a:prstGeom prst="pi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7"/>
            <p:cNvSpPr/>
            <p:nvPr/>
          </p:nvSpPr>
          <p:spPr>
            <a:xfrm>
              <a:off x="700200" y="672480"/>
              <a:ext cx="131868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</a:rPr>
                <a:t>НОРМ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</a:rPr>
                <a:t>ПРАВ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3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3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3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3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3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3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3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3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857160" y="1238400"/>
            <a:ext cx="611532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ИСТОЧНИКИ  ПРА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314280" y="1771560"/>
            <a:ext cx="1486080" cy="1305000"/>
            <a:chOff x="314280" y="1771560"/>
            <a:chExt cx="1486080" cy="1305000"/>
          </a:xfrm>
        </p:grpSpPr>
        <p:sp>
          <p:nvSpPr>
            <p:cNvPr id="121" name="Line 4"/>
            <p:cNvSpPr/>
            <p:nvPr/>
          </p:nvSpPr>
          <p:spPr>
            <a:xfrm flipH="1">
              <a:off x="1000080" y="1771560"/>
              <a:ext cx="40968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5"/>
            <p:cNvSpPr/>
            <p:nvPr/>
          </p:nvSpPr>
          <p:spPr>
            <a:xfrm>
              <a:off x="314280" y="2190600"/>
              <a:ext cx="1486080" cy="88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ahoma"/>
                </a:rPr>
                <a:t>НОРМАТИВНЫЕ </a:t>
              </a:r>
              <a:r>
                <a:rPr b="0" lang="ru-RU" sz="1800" spc="-1" strike="noStrike">
                  <a:solidFill>
                    <a:srgbClr val="ff0000"/>
                  </a:solidFill>
                  <a:latin typeface="Tahoma"/>
                </a:rPr>
                <a:t>АКТЫ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6"/>
          <p:cNvGrpSpPr/>
          <p:nvPr/>
        </p:nvGrpSpPr>
        <p:grpSpPr>
          <a:xfrm>
            <a:off x="104760" y="3095640"/>
            <a:ext cx="1114560" cy="809280"/>
            <a:chOff x="104760" y="3095640"/>
            <a:chExt cx="1114560" cy="809280"/>
          </a:xfrm>
        </p:grpSpPr>
        <p:sp>
          <p:nvSpPr>
            <p:cNvPr id="124" name="Text Box 7"/>
            <p:cNvSpPr/>
            <p:nvPr/>
          </p:nvSpPr>
          <p:spPr>
            <a:xfrm>
              <a:off x="104760" y="3457440"/>
              <a:ext cx="111456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ЗАКО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8"/>
            <p:cNvSpPr/>
            <p:nvPr/>
          </p:nvSpPr>
          <p:spPr>
            <a:xfrm>
              <a:off x="447480" y="309564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9"/>
          <p:cNvGrpSpPr/>
          <p:nvPr/>
        </p:nvGrpSpPr>
        <p:grpSpPr>
          <a:xfrm>
            <a:off x="1127160" y="3095640"/>
            <a:ext cx="1235160" cy="1095480"/>
            <a:chOff x="1127160" y="3095640"/>
            <a:chExt cx="1235160" cy="1095480"/>
          </a:xfrm>
        </p:grpSpPr>
        <p:sp>
          <p:nvSpPr>
            <p:cNvPr id="127" name="Text Box 10"/>
            <p:cNvSpPr/>
            <p:nvPr/>
          </p:nvSpPr>
          <p:spPr>
            <a:xfrm>
              <a:off x="1127160" y="3718800"/>
              <a:ext cx="1235160" cy="47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0000"/>
                  </a:solidFill>
                  <a:latin typeface="Times New Roman"/>
                </a:rPr>
                <a:t>ПОДЗАКОННЫЕ</a:t>
              </a: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А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1736640" y="3095640"/>
              <a:ext cx="0" cy="58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2"/>
          <p:cNvGrpSpPr/>
          <p:nvPr/>
        </p:nvGrpSpPr>
        <p:grpSpPr>
          <a:xfrm>
            <a:off x="2228760" y="1762200"/>
            <a:ext cx="1486080" cy="1352520"/>
            <a:chOff x="2228760" y="1762200"/>
            <a:chExt cx="1486080" cy="1352520"/>
          </a:xfrm>
        </p:grpSpPr>
        <p:sp>
          <p:nvSpPr>
            <p:cNvPr id="130" name="Line 13"/>
            <p:cNvSpPr/>
            <p:nvPr/>
          </p:nvSpPr>
          <p:spPr>
            <a:xfrm flipH="1">
              <a:off x="2838240" y="1762200"/>
              <a:ext cx="40968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14"/>
            <p:cNvSpPr/>
            <p:nvPr/>
          </p:nvSpPr>
          <p:spPr>
            <a:xfrm>
              <a:off x="2228760" y="2200320"/>
              <a:ext cx="1486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ПРЕЦЕДЕН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Group 15"/>
          <p:cNvGrpSpPr/>
          <p:nvPr/>
        </p:nvGrpSpPr>
        <p:grpSpPr>
          <a:xfrm>
            <a:off x="2314440" y="3124080"/>
            <a:ext cx="1171800" cy="809640"/>
            <a:chOff x="2314440" y="3124080"/>
            <a:chExt cx="1171800" cy="809640"/>
          </a:xfrm>
        </p:grpSpPr>
        <p:sp>
          <p:nvSpPr>
            <p:cNvPr id="133" name="Line 16"/>
            <p:cNvSpPr/>
            <p:nvPr/>
          </p:nvSpPr>
          <p:spPr>
            <a:xfrm>
              <a:off x="2390760" y="31240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17"/>
            <p:cNvSpPr/>
            <p:nvPr/>
          </p:nvSpPr>
          <p:spPr>
            <a:xfrm>
              <a:off x="2314440" y="3485880"/>
              <a:ext cx="1171800" cy="44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0000"/>
                  </a:solidFill>
                  <a:latin typeface="Times New Roman"/>
                </a:rPr>
                <a:t>СУДЕБНЫЕ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18"/>
          <p:cNvGrpSpPr/>
          <p:nvPr/>
        </p:nvGrpSpPr>
        <p:grpSpPr>
          <a:xfrm>
            <a:off x="3352680" y="3114720"/>
            <a:ext cx="1676520" cy="1066680"/>
            <a:chOff x="3352680" y="3114720"/>
            <a:chExt cx="1676520" cy="1066680"/>
          </a:xfrm>
        </p:grpSpPr>
        <p:sp>
          <p:nvSpPr>
            <p:cNvPr id="136" name="Text Box 19"/>
            <p:cNvSpPr/>
            <p:nvPr/>
          </p:nvSpPr>
          <p:spPr>
            <a:xfrm>
              <a:off x="3352680" y="3695760"/>
              <a:ext cx="1676520" cy="48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0000"/>
                  </a:solidFill>
                  <a:latin typeface="Times New Roman"/>
                </a:rPr>
                <a:t>АДМИНИСТРАТИВНЫЕ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0"/>
            <p:cNvSpPr/>
            <p:nvPr/>
          </p:nvSpPr>
          <p:spPr>
            <a:xfrm>
              <a:off x="3633840" y="3114720"/>
              <a:ext cx="0" cy="55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21"/>
          <p:cNvGrpSpPr/>
          <p:nvPr/>
        </p:nvGrpSpPr>
        <p:grpSpPr>
          <a:xfrm>
            <a:off x="4086360" y="1752480"/>
            <a:ext cx="1476360" cy="1371600"/>
            <a:chOff x="4086360" y="1752480"/>
            <a:chExt cx="1476360" cy="1371600"/>
          </a:xfrm>
        </p:grpSpPr>
        <p:sp>
          <p:nvSpPr>
            <p:cNvPr id="139" name="Line 22"/>
            <p:cNvSpPr/>
            <p:nvPr/>
          </p:nvSpPr>
          <p:spPr>
            <a:xfrm>
              <a:off x="4390920" y="1752480"/>
              <a:ext cx="40968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23"/>
            <p:cNvSpPr/>
            <p:nvPr/>
          </p:nvSpPr>
          <p:spPr>
            <a:xfrm>
              <a:off x="4086360" y="2209680"/>
              <a:ext cx="14763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ПРАВОВЫЕ</a:t>
              </a:r>
              <a:r>
                <a:rPr b="0" lang="ru-RU" sz="1800" spc="-1" strike="noStrike">
                  <a:solidFill>
                    <a:srgbClr val="ff0000"/>
                  </a:solidFill>
                  <a:latin typeface="Times New Roman"/>
                </a:rPr>
                <a:t> ОБЫЧА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Group 24"/>
          <p:cNvGrpSpPr/>
          <p:nvPr/>
        </p:nvGrpSpPr>
        <p:grpSpPr>
          <a:xfrm>
            <a:off x="5877000" y="1762200"/>
            <a:ext cx="1514520" cy="1352520"/>
            <a:chOff x="5877000" y="1762200"/>
            <a:chExt cx="1514520" cy="1352520"/>
          </a:xfrm>
        </p:grpSpPr>
        <p:sp>
          <p:nvSpPr>
            <p:cNvPr id="142" name="Line 25"/>
            <p:cNvSpPr/>
            <p:nvPr/>
          </p:nvSpPr>
          <p:spPr>
            <a:xfrm>
              <a:off x="6188040" y="1762200"/>
              <a:ext cx="43128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26"/>
            <p:cNvSpPr/>
            <p:nvPr/>
          </p:nvSpPr>
          <p:spPr>
            <a:xfrm>
              <a:off x="5877000" y="2200320"/>
              <a:ext cx="15145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Times New Roman"/>
                </a:rPr>
                <a:t>ДОГОВОР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27"/>
          <p:cNvGrpSpPr/>
          <p:nvPr/>
        </p:nvGrpSpPr>
        <p:grpSpPr>
          <a:xfrm>
            <a:off x="304920" y="2190600"/>
            <a:ext cx="1523880" cy="924120"/>
            <a:chOff x="304920" y="2190600"/>
            <a:chExt cx="1523880" cy="924120"/>
          </a:xfrm>
        </p:grpSpPr>
        <p:sp>
          <p:nvSpPr>
            <p:cNvPr id="145" name="Rectangle 28"/>
            <p:cNvSpPr/>
            <p:nvPr/>
          </p:nvSpPr>
          <p:spPr>
            <a:xfrm>
              <a:off x="304920" y="2190600"/>
              <a:ext cx="1490040" cy="8874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29"/>
            <p:cNvSpPr/>
            <p:nvPr/>
          </p:nvSpPr>
          <p:spPr>
            <a:xfrm>
              <a:off x="338400" y="2227320"/>
              <a:ext cx="1490400" cy="8874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Group 30"/>
          <p:cNvGrpSpPr/>
          <p:nvPr/>
        </p:nvGrpSpPr>
        <p:grpSpPr>
          <a:xfrm>
            <a:off x="5857920" y="2200320"/>
            <a:ext cx="1523880" cy="923760"/>
            <a:chOff x="5857920" y="2200320"/>
            <a:chExt cx="1523880" cy="923760"/>
          </a:xfrm>
        </p:grpSpPr>
        <p:sp>
          <p:nvSpPr>
            <p:cNvPr id="148" name="Rectangle 31"/>
            <p:cNvSpPr/>
            <p:nvPr/>
          </p:nvSpPr>
          <p:spPr>
            <a:xfrm>
              <a:off x="5857920" y="2200320"/>
              <a:ext cx="1490040" cy="88704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32"/>
            <p:cNvSpPr/>
            <p:nvPr/>
          </p:nvSpPr>
          <p:spPr>
            <a:xfrm>
              <a:off x="5891400" y="2237040"/>
              <a:ext cx="1490400" cy="8870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33"/>
          <p:cNvGrpSpPr/>
          <p:nvPr/>
        </p:nvGrpSpPr>
        <p:grpSpPr>
          <a:xfrm>
            <a:off x="2228760" y="2190600"/>
            <a:ext cx="1524240" cy="924120"/>
            <a:chOff x="2228760" y="2190600"/>
            <a:chExt cx="1524240" cy="924120"/>
          </a:xfrm>
        </p:grpSpPr>
        <p:sp>
          <p:nvSpPr>
            <p:cNvPr id="151" name="Rectangle 34"/>
            <p:cNvSpPr/>
            <p:nvPr/>
          </p:nvSpPr>
          <p:spPr>
            <a:xfrm>
              <a:off x="2228760" y="2190600"/>
              <a:ext cx="1490400" cy="88740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35"/>
            <p:cNvSpPr/>
            <p:nvPr/>
          </p:nvSpPr>
          <p:spPr>
            <a:xfrm>
              <a:off x="2262240" y="2227320"/>
              <a:ext cx="1490760" cy="88740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Object 6"/>
          <p:cNvGraphicFramePr/>
          <p:nvPr/>
        </p:nvGraphicFramePr>
        <p:xfrm>
          <a:off x="1295280" y="1371600"/>
          <a:ext cx="3505320" cy="280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350532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3"/>
          <p:cNvGraphicFramePr/>
          <p:nvPr/>
        </p:nvGraphicFramePr>
        <p:xfrm>
          <a:off x="2590920" y="990720"/>
          <a:ext cx="3209760" cy="344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990720"/>
                    <a:ext cx="3209760" cy="34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Text Box 5"/>
          <p:cNvSpPr/>
          <p:nvPr/>
        </p:nvSpPr>
        <p:spPr>
          <a:xfrm>
            <a:off x="1219320" y="15238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АВ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1523880" y="56386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ЩЕСТВ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4952880" y="21337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2"/>
          <p:cNvGraphicFramePr/>
          <p:nvPr/>
        </p:nvGraphicFramePr>
        <p:xfrm>
          <a:off x="990720" y="3633840"/>
          <a:ext cx="4267080" cy="224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3633840"/>
                    <a:ext cx="4267080" cy="22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3"/>
          <p:cNvGraphicFramePr/>
          <p:nvPr/>
        </p:nvGraphicFramePr>
        <p:xfrm>
          <a:off x="1905120" y="2819520"/>
          <a:ext cx="4603680" cy="25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819520"/>
                    <a:ext cx="4603680" cy="25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2"/>
          <p:cNvGraphicFramePr/>
          <p:nvPr/>
        </p:nvGraphicFramePr>
        <p:xfrm>
          <a:off x="990720" y="4572000"/>
          <a:ext cx="2085840" cy="13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4572000"/>
                    <a:ext cx="208584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4"/>
          <p:cNvGraphicFramePr/>
          <p:nvPr/>
        </p:nvGraphicFramePr>
        <p:xfrm>
          <a:off x="4724280" y="2514600"/>
          <a:ext cx="3210120" cy="3446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2514600"/>
                    <a:ext cx="3210120" cy="34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5"/>
          <p:cNvGraphicFramePr/>
          <p:nvPr/>
        </p:nvGraphicFramePr>
        <p:xfrm>
          <a:off x="5486400" y="3733920"/>
          <a:ext cx="990720" cy="36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3733920"/>
                    <a:ext cx="9907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6"/>
          <p:cNvGraphicFramePr/>
          <p:nvPr/>
        </p:nvGraphicFramePr>
        <p:xfrm>
          <a:off x="4724280" y="4572000"/>
          <a:ext cx="1067040" cy="103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24280" y="4572000"/>
                    <a:ext cx="106704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2133720" y="1295280"/>
          <a:ext cx="4827600" cy="409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295280"/>
                    <a:ext cx="4827600" cy="40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3048120" y="1676520"/>
          <a:ext cx="3709800" cy="296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676520"/>
                    <a:ext cx="3709800" cy="29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Freeform 3"/>
          <p:cNvSpPr/>
          <p:nvPr/>
        </p:nvSpPr>
        <p:spPr>
          <a:xfrm>
            <a:off x="3048120" y="2819520"/>
            <a:ext cx="1831680" cy="1780920"/>
          </a:xfrm>
          <a:prstGeom prst="pie">
            <a:avLst/>
          </a:prstGeom>
          <a:gradFill rotWithShape="0">
            <a:gsLst>
              <a:gs pos="0">
                <a:srgbClr val="00ff00"/>
              </a:gs>
              <a:gs pos="100000">
                <a:srgbClr val="007a00"/>
              </a:gs>
            </a:gsLst>
            <a:lin ang="189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4"/>
          <p:cNvSpPr/>
          <p:nvPr/>
        </p:nvSpPr>
        <p:spPr>
          <a:xfrm>
            <a:off x="3048120" y="1708200"/>
            <a:ext cx="1838160" cy="1492200"/>
          </a:xfrm>
          <a:prstGeom prst="pi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857160" y="1238400"/>
            <a:ext cx="611532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СИСТЕМА ПРА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3"/>
          <p:cNvGrpSpPr/>
          <p:nvPr/>
        </p:nvGrpSpPr>
        <p:grpSpPr>
          <a:xfrm>
            <a:off x="1000080" y="1762200"/>
            <a:ext cx="5905440" cy="352440"/>
            <a:chOff x="1000080" y="1762200"/>
            <a:chExt cx="5905440" cy="352440"/>
          </a:xfrm>
        </p:grpSpPr>
        <p:sp>
          <p:nvSpPr>
            <p:cNvPr id="68" name="Line 4"/>
            <p:cNvSpPr/>
            <p:nvPr/>
          </p:nvSpPr>
          <p:spPr>
            <a:xfrm flipH="1">
              <a:off x="1000080" y="1780920"/>
              <a:ext cx="40968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5"/>
            <p:cNvSpPr/>
            <p:nvPr/>
          </p:nvSpPr>
          <p:spPr>
            <a:xfrm flipH="1">
              <a:off x="2342520" y="1762200"/>
              <a:ext cx="40932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6"/>
            <p:cNvSpPr/>
            <p:nvPr/>
          </p:nvSpPr>
          <p:spPr>
            <a:xfrm>
              <a:off x="5200560" y="1762200"/>
              <a:ext cx="40932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7"/>
            <p:cNvSpPr/>
            <p:nvPr/>
          </p:nvSpPr>
          <p:spPr>
            <a:xfrm>
              <a:off x="6495840" y="1762200"/>
              <a:ext cx="40968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8"/>
            <p:cNvSpPr/>
            <p:nvPr/>
          </p:nvSpPr>
          <p:spPr>
            <a:xfrm>
              <a:off x="3962160" y="177156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Group 9"/>
          <p:cNvGrpSpPr/>
          <p:nvPr/>
        </p:nvGrpSpPr>
        <p:grpSpPr>
          <a:xfrm>
            <a:off x="361800" y="2152800"/>
            <a:ext cx="7172640" cy="933120"/>
            <a:chOff x="361800" y="2152800"/>
            <a:chExt cx="7172640" cy="933120"/>
          </a:xfrm>
        </p:grpSpPr>
        <p:sp>
          <p:nvSpPr>
            <p:cNvPr id="74" name="Text Box 10"/>
            <p:cNvSpPr/>
            <p:nvPr/>
          </p:nvSpPr>
          <p:spPr>
            <a:xfrm>
              <a:off x="361800" y="2162160"/>
              <a:ext cx="13143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Times New Roman"/>
                </a:rPr>
                <a:t>ОТРАСЛЬ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РАВ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11"/>
            <p:cNvSpPr/>
            <p:nvPr/>
          </p:nvSpPr>
          <p:spPr>
            <a:xfrm>
              <a:off x="1828440" y="2171520"/>
              <a:ext cx="13143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Times New Roman"/>
                </a:rPr>
                <a:t>ОТРАСЛЬ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РАВ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12"/>
            <p:cNvSpPr/>
            <p:nvPr/>
          </p:nvSpPr>
          <p:spPr>
            <a:xfrm>
              <a:off x="3324240" y="2162160"/>
              <a:ext cx="13143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Times New Roman"/>
                </a:rPr>
                <a:t>ОТРАСЛЬ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РАВ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13"/>
            <p:cNvSpPr/>
            <p:nvPr/>
          </p:nvSpPr>
          <p:spPr>
            <a:xfrm>
              <a:off x="4781520" y="2162160"/>
              <a:ext cx="13143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Times New Roman"/>
                </a:rPr>
                <a:t>ОТРАСЛЬ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РАВ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14"/>
            <p:cNvSpPr/>
            <p:nvPr/>
          </p:nvSpPr>
          <p:spPr>
            <a:xfrm>
              <a:off x="6220080" y="2152800"/>
              <a:ext cx="13143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Times New Roman"/>
                </a:rPr>
                <a:t>ОТРАСЛЬ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РАВ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15"/>
          <p:cNvGrpSpPr/>
          <p:nvPr/>
        </p:nvGrpSpPr>
        <p:grpSpPr>
          <a:xfrm>
            <a:off x="561960" y="3076560"/>
            <a:ext cx="971640" cy="352440"/>
            <a:chOff x="561960" y="3076560"/>
            <a:chExt cx="971640" cy="352440"/>
          </a:xfrm>
        </p:grpSpPr>
        <p:sp>
          <p:nvSpPr>
            <p:cNvPr id="80" name="Line 16"/>
            <p:cNvSpPr/>
            <p:nvPr/>
          </p:nvSpPr>
          <p:spPr>
            <a:xfrm>
              <a:off x="561960" y="308592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1533600" y="307656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Group 18"/>
          <p:cNvGrpSpPr/>
          <p:nvPr/>
        </p:nvGrpSpPr>
        <p:grpSpPr>
          <a:xfrm>
            <a:off x="104760" y="3457440"/>
            <a:ext cx="2486160" cy="447840"/>
            <a:chOff x="104760" y="3457440"/>
            <a:chExt cx="2486160" cy="447840"/>
          </a:xfrm>
        </p:grpSpPr>
        <p:sp>
          <p:nvSpPr>
            <p:cNvPr id="83" name="Text Box 19"/>
            <p:cNvSpPr/>
            <p:nvPr/>
          </p:nvSpPr>
          <p:spPr>
            <a:xfrm>
              <a:off x="104760" y="3457440"/>
              <a:ext cx="1153080" cy="44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ИНСТИТУТ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 ПРАВА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20"/>
            <p:cNvSpPr/>
            <p:nvPr/>
          </p:nvSpPr>
          <p:spPr>
            <a:xfrm>
              <a:off x="1437840" y="3457440"/>
              <a:ext cx="1153080" cy="44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ИНСТИТУТ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 ПРАВА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Group 21"/>
          <p:cNvGrpSpPr/>
          <p:nvPr/>
        </p:nvGrpSpPr>
        <p:grpSpPr>
          <a:xfrm>
            <a:off x="1171440" y="4048200"/>
            <a:ext cx="2409480" cy="466560"/>
            <a:chOff x="1171440" y="4048200"/>
            <a:chExt cx="2409480" cy="466560"/>
          </a:xfrm>
        </p:grpSpPr>
        <p:sp>
          <p:nvSpPr>
            <p:cNvPr id="86" name="Text Box 22"/>
            <p:cNvSpPr/>
            <p:nvPr/>
          </p:nvSpPr>
          <p:spPr>
            <a:xfrm>
              <a:off x="1171440" y="4048200"/>
              <a:ext cx="74592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0000"/>
                  </a:solidFill>
                  <a:latin typeface="Times New Roman"/>
                </a:rPr>
                <a:t>НОРМА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 ПРАВА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23"/>
            <p:cNvSpPr/>
            <p:nvPr/>
          </p:nvSpPr>
          <p:spPr>
            <a:xfrm>
              <a:off x="2008080" y="4048200"/>
              <a:ext cx="74592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0000"/>
                  </a:solidFill>
                  <a:latin typeface="Times New Roman"/>
                </a:rPr>
                <a:t>НОРМА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 ПРАВА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24"/>
            <p:cNvSpPr/>
            <p:nvPr/>
          </p:nvSpPr>
          <p:spPr>
            <a:xfrm>
              <a:off x="2835000" y="4048200"/>
              <a:ext cx="74592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0000"/>
                  </a:solidFill>
                  <a:latin typeface="Times New Roman"/>
                </a:rPr>
                <a:t>НОРМА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 ПРАВА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2714760" y="1076400"/>
            <a:ext cx="24382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А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"/>
          <p:cNvSpPr/>
          <p:nvPr/>
        </p:nvSpPr>
        <p:spPr>
          <a:xfrm flipH="1">
            <a:off x="1904760" y="2085840"/>
            <a:ext cx="1019160" cy="51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876240" y="2724120"/>
            <a:ext cx="23623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ОБЪЕКТИВНО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971640" y="3867120"/>
            <a:ext cx="2286000" cy="150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УЩНОСТЬ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И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ГЛАВНОЕ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ЕДНАЗНАЧЕНИЕ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РЕГУЛИРОВАТЬ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ОБЩЕСТВЕННЫЕ ОТНОШ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2666880" y="4952880"/>
            <a:ext cx="2419560" cy="1457280"/>
          </a:xfrm>
          <a:custGeom>
            <a:avLst/>
            <a:gdLst>
              <a:gd name="textAreaLeft" fmla="*/ 0 w 2419560"/>
              <a:gd name="textAreaRight" fmla="*/ 2419920 w 2419560"/>
              <a:gd name="textAreaTop" fmla="*/ 188640 h 1457280"/>
              <a:gd name="textAreaBottom" fmla="*/ 1268640 h 1457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</a:rPr>
              <a:t>ГОСУДАРСТВО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станавливае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беспечивает исполне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казывает за наруше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СТАНАВЛИВАЕ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БЕСПЕЧИВАЕТ ИСПОЛНЕ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КАЗЫВАЕТ ЗА НАРУШЕ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5000760" y="2095560"/>
            <a:ext cx="1019160" cy="51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4657680" y="2743200"/>
            <a:ext cx="23907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СУБЪЕКТИВНО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4629240" y="3886200"/>
            <a:ext cx="2286000" cy="150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ВОЗМОЖНОСТЬ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ЧТО-ТО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ЛАТЬ, ИМЕ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2400480" y="1676520"/>
            <a:ext cx="30477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УСТАНАВЛИВА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ОПРЕДЕЛЕННЫЙ ПОРЯДОК</a:t>
            </a: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10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</a:rPr>
              <a:t>ОБЩЕСТВЕ И ГОСУДАРСТВ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7"/>
          <p:cNvGrpSpPr/>
          <p:nvPr/>
        </p:nvGrpSpPr>
        <p:grpSpPr>
          <a:xfrm>
            <a:off x="3048120" y="2971800"/>
            <a:ext cx="1770120" cy="1563840"/>
            <a:chOff x="3048120" y="2971800"/>
            <a:chExt cx="1770120" cy="1563840"/>
          </a:xfrm>
        </p:grpSpPr>
        <p:sp>
          <p:nvSpPr>
            <p:cNvPr id="99" name="Freeform 8"/>
            <p:cNvSpPr/>
            <p:nvPr/>
          </p:nvSpPr>
          <p:spPr>
            <a:xfrm>
              <a:off x="3048120" y="2971800"/>
              <a:ext cx="1770120" cy="1563840"/>
            </a:xfrm>
            <a:prstGeom prst="pi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9"/>
            <p:cNvSpPr/>
            <p:nvPr/>
          </p:nvSpPr>
          <p:spPr>
            <a:xfrm>
              <a:off x="3214800" y="3492000"/>
              <a:ext cx="131868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Century Gothic"/>
                </a:rPr>
                <a:t>НОРМА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Century Gothic"/>
                </a:rPr>
                <a:t>ПРАВА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АВООТНОШ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ОБЪЕК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ООТНОШ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ПОВЕД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СУБЪЕК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ООТНОШ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УЧАСТ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СТРУКТУР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ВОЙ НОР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ГИПОТЕ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ДИСПОЗИ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НК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КРУГ ЛИЦ И ОБСТОЯТЕЛЬ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ПРАВИЛО ПОВЕД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РЫ К НАРУШИТЕЛЯ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5"/>
          <p:cNvGrpSpPr/>
          <p:nvPr/>
        </p:nvGrpSpPr>
        <p:grpSpPr>
          <a:xfrm>
            <a:off x="533520" y="152280"/>
            <a:ext cx="1770120" cy="1563840"/>
            <a:chOff x="533520" y="152280"/>
            <a:chExt cx="1770120" cy="1563840"/>
          </a:xfrm>
        </p:grpSpPr>
        <p:sp>
          <p:nvSpPr>
            <p:cNvPr id="108" name="Freeform 6"/>
            <p:cNvSpPr/>
            <p:nvPr/>
          </p:nvSpPr>
          <p:spPr>
            <a:xfrm>
              <a:off x="533520" y="152280"/>
              <a:ext cx="1770120" cy="1563840"/>
            </a:xfrm>
            <a:prstGeom prst="pi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7"/>
            <p:cNvSpPr/>
            <p:nvPr/>
          </p:nvSpPr>
          <p:spPr>
            <a:xfrm>
              <a:off x="700200" y="672480"/>
              <a:ext cx="131868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</a:rPr>
                <a:t>НОРМ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</a:rPr>
                <a:t>ПРАВ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3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3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3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3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Задание1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ите гипотезу, диспозицию, санкцию правовой но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6324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ТАТЬЯ 162 ГК РФ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оследствия несоблюдения простой письменной формы сдел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  Несоблюдение простой письменной формы сделки лишает стороны права в случае спора ссылаться в подтверждение сделки и ее условий на свидетельские показания, но не лишает их права приводить письменные и другие доказатель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  В случаях, прямо указанных в законе или в соглашении сторон, несоблюдение простой письменной формы сделки влечет ее недействитель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  Несоблюдение простой письменной формы внешнеэкономической сделки влечет недействительность сдел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629400" y="198108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потез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спозиц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нкц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3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3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3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3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3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3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15:48:57Z</dcterms:created>
  <dc:creator>АННА</dc:creator>
  <dc:description/>
  <dc:language>en-US</dc:language>
  <cp:lastModifiedBy>User</cp:lastModifiedBy>
  <dcterms:modified xsi:type="dcterms:W3CDTF">2012-03-10T16:22:27Z</dcterms:modified>
  <cp:revision>9</cp:revision>
  <dc:subject/>
  <dc:title>ЧТО ТАКОЕ ПРАВО</dc:title>
</cp:coreProperties>
</file>