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267-86E4-4704-AA95-F8907DBF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82B-4B7D-4529-A888-48B8ED7F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4A2-1044-45B3-84FD-46B49D3C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CF0F-3CFB-4AD4-9791-4AAF9EBE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BB8D-2F6B-4CE5-91EE-438A9830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2C80-A7E8-4615-947C-925AC14D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60A5-0A89-400C-9C1F-B6C5742F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4564-6FE7-44C8-B15E-D83B23AF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7473-2776-4276-A675-49F78B60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B335-259F-48E7-875E-E5ACBA4F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3B53-62B2-4EB3-BECB-39FD4A9D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B0D-90AE-489A-AB7D-E28988EB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6DCD-792A-483B-85CF-4EB3A9F0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7DE9-0ADD-43A0-B732-A6012C2F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D3A4-D073-4618-BC70-0C6EC084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53C9-B2BD-4CF2-B368-DC11A966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1534-7DF9-4791-BD64-2451CDB6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7CA-072B-44AB-B75E-D1224EF6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DAD-3F4F-4BDB-9D24-2F87B498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9EA-AF49-44C6-BC38-843DF385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807-14EC-4E91-807E-D9A9B783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5F5A-BBA2-4B74-8D83-3E93E668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BB9-DBBA-4D87-A86C-E1EB217C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B1B-3C6C-4472-AD55-40B1E74F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5075-066A-4510-A2F7-5024AFE0C7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6457-7B9D-4A0A-AFD6-AB32CA4AC2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Do you know English well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39280" y="162864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I can read, I can writ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an speak English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ove learning Englis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at about you!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45c984"/>
                </a:solidFill>
                <a:latin typeface="Arial"/>
              </a:rPr>
              <a:t>A Patter- </a:t>
            </a:r>
            <a:r>
              <a:rPr b="0" lang="ru-RU" sz="3200" spc="-1" strike="noStrike">
                <a:solidFill>
                  <a:srgbClr val="45c984"/>
                </a:solidFill>
                <a:latin typeface="Arial"/>
              </a:rPr>
              <a:t>скороговор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’s black cat is in Pat’s black h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йдите рифмующиеся пары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[ “rhyming twins”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rt                        p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                          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                        h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                          shi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                         p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ong                    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ght                      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n You Count Appl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apple, two ap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apples, fou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ve apples, six ap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 apples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ell me, little Pau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you count them all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ставьте в слова пропущенные буквы, и по диагонали у вас получится ещё одно сло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11280" y="2421000"/>
          <a:ext cx="5473440" cy="3881520"/>
        </p:xfrm>
        <a:graphic>
          <a:graphicData uri="http://schemas.openxmlformats.org/drawingml/2006/table">
            <a:tbl>
              <a:tblPr/>
              <a:tblGrid>
                <a:gridCol w="1152360"/>
                <a:gridCol w="1368360"/>
                <a:gridCol w="1440000"/>
                <a:gridCol w="15127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nswer-5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(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HAND)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йдите лишнее слово в каждой группе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c984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45c984"/>
                </a:solidFill>
                <a:latin typeface="Arial"/>
              </a:rPr>
              <a:t>Different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yellow; b) red; c) sad; d) bl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bird; b) horse; c) cow; d) pi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happy; b) opened; c) sad; d) cle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window; b) floor; c) door; d) 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blue; b) fat; c) thin; d) t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breakfast; b) supper; c) lunch; d) p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mother; b) granny; c) bird; d) 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0:36:45Z</dcterms:created>
  <dc:creator>000</dc:creator>
  <dc:description/>
  <dc:language>en-US</dc:language>
  <cp:lastModifiedBy>XTreme</cp:lastModifiedBy>
  <dcterms:modified xsi:type="dcterms:W3CDTF">2009-10-07T12:03:17Z</dcterms:modified>
  <cp:revision>5</cp:revision>
  <dc:subject/>
  <dc:title>Do you know English well?</dc:title>
</cp:coreProperties>
</file>