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032-84B4-4DEE-8E82-28D3092E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DD3-C95C-44C9-95B7-5904224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8D9-D132-4877-B992-B0F8D9CE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7E0-E618-4EC1-AF6C-5F839BEE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615-82C3-418F-BFBE-2386A6C8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CAA-7A31-4493-854B-37A3B557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626-0A77-4E60-BE53-A01ABEA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5CD-1603-4E3D-980B-DC3C384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0F7-768D-4F27-B626-85ABF9EF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11D-EE63-4CA8-BB07-7D0EB06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3E7-0FEA-47C9-9FE7-F9C5BEB2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555-03FB-40D8-9655-643A15E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D1E1-736F-4EEE-AFF5-C232657E1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5280" y="907560"/>
            <a:ext cx="5976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Математический диктан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99840" y="2142720"/>
            <a:ext cx="52405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4 клас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Автор: Чернышова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ст.Варениковска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БОУ СОШ № 4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е число надо вставить в окошко, чтобы равен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□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 9=7090 – 7000 стало вер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           81         8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кажи значение неизвестного числа в уравнении  х:4=760-7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=15       х=56       х=24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Проверим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1928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200       7000          600          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80 раз         6005            1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300              810              х=24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йди произведение чисел 600 и 7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20       4200        420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19280" y="1557360"/>
            <a:ext cx="71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кажи число, которое в 4 раза меньше, чем 28000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700        7000          7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акое число надо умножить на 8, чтобы получилось 4800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600         60        8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произведение, если первый множитель – частное чисел 756 и 7, а второй - 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08         18          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 сколько раз  320 больше, чем 4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 8 раз           в 80 раз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 800 р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исло 400 меньше, чем 6405, на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6000      6005          60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мма чисел 84000 и 5000 равна разности чисел 90000 и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0        10000        1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еньшаемое 1700, разность 400. Найдите вычитаемо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100        1300      166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3:26:04Z</dcterms:created>
  <dc:creator>валя</dc:creator>
  <dc:description/>
  <dc:language>en-US</dc:language>
  <cp:lastModifiedBy>FoM</cp:lastModifiedBy>
  <dcterms:modified xsi:type="dcterms:W3CDTF">2012-03-10T12:51:41Z</dcterms:modified>
  <cp:revision>17</cp:revision>
  <dc:subject/>
  <dc:title>Слайд 1</dc:title>
</cp:coreProperties>
</file>