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FBF-D5C2-452D-98FC-F6964DB0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067-A255-4783-9CEB-B961D5D7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7A1-0417-4C1F-A3B4-8AEF59F4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EE1-CCEC-4DBD-9AD8-62A63A25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578-A2AC-4A67-AD64-9CB3AD5D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BFC-DF5C-44EE-8C3E-D927981B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FC8-455C-4DB2-8C55-D5AAD80A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24F-0C27-4C93-9DCA-40AC355F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365-0CB7-4F63-8E2E-06CD7118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D38-4881-4C42-BC34-FFDF741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467-31C5-4F5F-9459-7F7BA309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933-4B47-41FE-AAD9-5132280F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ACA2-E277-4662-8552-FD3A8CD46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219320" y="838080"/>
            <a:ext cx="75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ЕЛОВЕК - ЧАСТЬ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ые организ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5105520" y="2590920"/>
            <a:ext cx="186192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р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304920" y="2286000"/>
            <a:ext cx="2519280" cy="800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3505320" y="3962520"/>
            <a:ext cx="2595600" cy="795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8"/>
          <p:cNvSpPr/>
          <p:nvPr/>
        </p:nvSpPr>
        <p:spPr>
          <a:xfrm>
            <a:off x="6553080" y="1523880"/>
            <a:ext cx="2019600" cy="533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9"/>
          <p:cNvCxnSpPr/>
          <p:nvPr/>
        </p:nvCxnSpPr>
        <p:spPr>
          <a:xfrm flipH="1">
            <a:off x="1828080" y="1219320"/>
            <a:ext cx="6865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49" name="Прямая со стрелкой 12"/>
          <p:cNvCxnSpPr/>
          <p:nvPr/>
        </p:nvCxnSpPr>
        <p:spPr>
          <a:xfrm flipH="1">
            <a:off x="4190760" y="1219320"/>
            <a:ext cx="381600" cy="2743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0" name="Прямая со стрелкой 18"/>
          <p:cNvCxnSpPr/>
          <p:nvPr/>
        </p:nvCxnSpPr>
        <p:spPr>
          <a:xfrm flipH="1">
            <a:off x="2285640" y="1142640"/>
            <a:ext cx="915120" cy="1143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1" name="Прямая со стрелкой 22"/>
          <p:cNvCxnSpPr/>
          <p:nvPr/>
        </p:nvCxnSpPr>
        <p:spPr>
          <a:xfrm>
            <a:off x="5257800" y="1294920"/>
            <a:ext cx="381600" cy="1220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2" name="Прямая со стрелкой 25"/>
          <p:cNvCxnSpPr/>
          <p:nvPr/>
        </p:nvCxnSpPr>
        <p:spPr>
          <a:xfrm>
            <a:off x="5866920" y="1142640"/>
            <a:ext cx="1677240" cy="762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95280" y="60948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3602160" y="3244680"/>
            <a:ext cx="43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лекопитаю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828800" y="3808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4b50"/>
                </a:solidFill>
                <a:latin typeface="Arial"/>
              </a:rPr>
              <a:t>ОРГАНЫ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077840" y="21337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154880" y="464832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 сл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6185160" y="274320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414040" y="525780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 голов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04920" y="4572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СИСТЕМЫ ОРГАНОВ  -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это органы , которые вместе выполняют общую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0" y="2209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ых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727240" y="1981080"/>
            <a:ext cx="33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ищевар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420160" y="426708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кровено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4200840" y="2971800"/>
            <a:ext cx="16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нер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467280" y="167652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АНАТОМИЯ -  изучает строени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630720" y="2362320"/>
            <a:ext cx="62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Физиология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– изучает работу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08240" y="4267080"/>
            <a:ext cx="73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Гигиена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– сохранение и укрепление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215520" y="304920"/>
            <a:ext cx="293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Arial"/>
              </a:rPr>
              <a:t>Н А У К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User</cp:lastModifiedBy>
  <dcterms:modified xsi:type="dcterms:W3CDTF">2012-03-09T21:24:0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