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E7B-764B-45B2-A6C3-FB1FF16F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059-9C84-4FED-B000-7DEA76B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BED-448D-4543-9E11-DAEB94EC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8C8-B38A-4D92-AAAD-76DF3947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744E-912E-4994-88BA-35BF0788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D73-A372-4AA8-A1F4-06977A49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5C4E-F83A-49B6-AD69-9540CD3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558-B8EA-434C-9393-78F49D0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68A-D0F3-4882-B16D-481BE51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042A-F4AF-4B2F-B3C8-517CF7B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112-E811-44B1-8ABB-0F02D86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765-693E-4B27-B624-E2BFEB2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204-40F9-40CF-BDAB-C2F8D97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CDB-8F81-47E2-85E1-1259636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7CF-D06C-4A9B-BA03-6C6F92DD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F2A9-3AA6-43B2-A6FD-175B244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BEA8-0573-40B4-8CF4-059B87BC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6317-0118-449C-BC52-3B054CA0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FD52-9FA4-40B2-9AA7-6E3BADF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F48C-C374-4795-9ABE-B6040839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870C-F08C-4FEF-AD7C-3EDB970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8CC7-BC2E-4DDE-99EE-AE05755C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B6-6EB2-4F3F-8212-04AB153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E71E-302F-409D-ADBF-55ACC3AA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C029-5B9D-4A3A-81D8-B0FA815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E676-9A85-4EB4-B980-2310BC2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B812-611B-4A59-A04F-BD41626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3978-F807-453D-8BBB-75E5704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73DD-6596-4303-BB82-466C0FAB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0CC1-4A56-451F-A1D5-D4C95354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85D8-EF25-498D-9F0B-FF00E76A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59D1-F627-4455-B142-2C3D261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4889-FC49-4471-8216-0D9B177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E0B-05E4-48E0-BCD4-496C3B2E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F7F3-92D2-4370-A035-CE5A8431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044E-98D5-43F6-97ED-6C491726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1E9C-3FA7-4205-B79B-14CCC49C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FAC7-F206-4789-A967-36551E0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FB4A-4D70-4D41-ACC4-37BE26E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337D2-65B1-47B0-A9F8-5D6B8D7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182B-35C1-4C94-BF45-7D0587E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9F4A-D914-41BE-9197-ECE7BDDE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4206-E29C-43F7-85D8-810B94DB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582-14F6-4A5D-B789-84A107C5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EDA-9E4D-457E-AED8-9EEE6535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792-5C6E-4F53-83E4-113CCCA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B7B-2A35-42EC-A451-AF1CB19E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F0E-0A68-4F27-A653-41BBE4E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772-9E33-44D1-9F6E-FD2E8E105F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9B7-7F8A-4CF4-9159-3F881421202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4A66-E077-4D37-9AA2-3DB16C5173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0F5-0D46-4D80-9B71-CD870FE67FF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33240" y="695160"/>
            <a:ext cx="7785360" cy="1157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Documents and Settings\Владелец\Рабочий стол\Линейка\Inner Peace.jpg"/>
          <p:cNvPicPr/>
          <p:nvPr/>
        </p:nvPicPr>
        <p:blipFill>
          <a:blip r:embed="rId2"/>
          <a:stretch/>
        </p:blipFill>
        <p:spPr>
          <a:xfrm>
            <a:off x="1643040" y="2000160"/>
            <a:ext cx="545292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35720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Рисунок 3" descr="http://www.openclass.ru/sites/default/files/ckeditor/290983/images/2.gif"/>
          <p:cNvPicPr/>
          <p:nvPr/>
        </p:nvPicPr>
        <p:blipFill>
          <a:blip r:embed="rId1"/>
          <a:stretch/>
        </p:blipFill>
        <p:spPr>
          <a:xfrm>
            <a:off x="500040" y="6429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3" descr="http://www.openclass.ru/sites/default/files/ckeditor/290983/images/1.gif"/>
          <p:cNvPicPr/>
          <p:nvPr/>
        </p:nvPicPr>
        <p:blipFill>
          <a:blip r:embed="rId1"/>
          <a:stretch/>
        </p:blipFill>
        <p:spPr>
          <a:xfrm>
            <a:off x="1214280" y="857160"/>
            <a:ext cx="6858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3" descr="http://www.openclass.ru/sites/default/files/ckeditor/290983/images/3.gif"/>
          <p:cNvPicPr/>
          <p:nvPr/>
        </p:nvPicPr>
        <p:blipFill>
          <a:blip r:embed="rId1"/>
          <a:stretch/>
        </p:blipFill>
        <p:spPr>
          <a:xfrm>
            <a:off x="714240" y="428760"/>
            <a:ext cx="75009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5" descr="http://www.openclass.ru/sites/default/files/ckeditor/290983/images/5.gif"/>
          <p:cNvPicPr/>
          <p:nvPr/>
        </p:nvPicPr>
        <p:blipFill>
          <a:blip r:embed="rId1"/>
          <a:stretch/>
        </p:blipFill>
        <p:spPr>
          <a:xfrm>
            <a:off x="1214280" y="785880"/>
            <a:ext cx="65725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5" descr="http://www.openclass.ru/sites/default/files/ckeditor/290983/images/4.gif"/>
          <p:cNvPicPr/>
          <p:nvPr/>
        </p:nvPicPr>
        <p:blipFill>
          <a:blip r:embed="rId1"/>
          <a:stretch/>
        </p:blipFill>
        <p:spPr>
          <a:xfrm>
            <a:off x="1500120" y="571680"/>
            <a:ext cx="62150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4" descr="http://www.openclass.ru/sites/default/files/ckeditor/290983/images/6.gif"/>
          <p:cNvPicPr/>
          <p:nvPr/>
        </p:nvPicPr>
        <p:blipFill>
          <a:blip r:embed="rId1"/>
          <a:stretch/>
        </p:blipFill>
        <p:spPr>
          <a:xfrm>
            <a:off x="1071720" y="1000080"/>
            <a:ext cx="7286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рещается оскорбление и унижение другого человек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щайся к другому по имени. Никогда не используй кличек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ытайся переделывать другого. Позволь ему быть самим собо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тавь себя на место другого и пойми его точку зрения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критикуй другого при всех. Выскажи ему свое мнение на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ь доброжелателен, приветли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ыбайся и проявляй искренний интерес  к другому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сня  «Девчонки и мальчишк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рига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2539" t="20832" r="27461" b="7756"/>
          <a:stretch/>
        </p:blipFill>
        <p:spPr>
          <a:xfrm>
            <a:off x="395280" y="1278000"/>
            <a:ext cx="8137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пиграф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омни – ты не оди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вете кроме теб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другие люд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они нуждаются в твоей доброт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имании, мужеств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воей защите и помощ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в Кассил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Ы ВМЕСТЕ 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Владелец\Рабочий стол\Линейка\Inner Peace.jpg"/>
          <p:cNvPicPr/>
          <p:nvPr/>
        </p:nvPicPr>
        <p:blipFill>
          <a:blip r:embed="rId2"/>
          <a:stretch/>
        </p:blipFill>
        <p:spPr>
          <a:xfrm>
            <a:off x="1643040" y="2500200"/>
            <a:ext cx="54529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брота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чество, обозначающее гуманное отношение ко всему живому, готовность помочь ближне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Добрый человек – не тот, кто умеет делать добро, а тот, кто не умеет делать зло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. Ключев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59aaf2"/>
                </a:solidFill>
                <a:latin typeface="Constantia"/>
              </a:rPr>
              <a:t>Милосердие</a:t>
            </a:r>
            <a:r>
              <a:rPr b="1" lang="ru-RU" sz="2600" spc="-1" strike="noStrike">
                <a:solidFill>
                  <a:srgbClr val="20c9f8"/>
                </a:solidFill>
                <a:latin typeface="Constanti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товность помочь кому-нибудь или простить кого-нибудь из сострадания, человеколюб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9aaf2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59aaf2"/>
                </a:solidFill>
                <a:latin typeface="Constantia"/>
              </a:rPr>
              <a:t>Сострада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жалость, сочувствие, вызываемые чьим-нибудь несчастьем, гор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толерантност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olerance(французский) – отношение, пр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тором допускается, что другие могут думать или действовать иначе, нежели ты 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olerance (английский) – готовность быть терпимым, снисходитель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рпимость 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…Толерантность означает 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Декларации принципов толерантност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нфликт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ельное обострение противореч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иболее острый способ развития и завершения значимых противоречий, возникающих в процессе социального взаимодействия, заключающийся в противодействии субъектов конфликта и сопровождающийся их негативными эмоциями по отношению друг к друг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ть конфликта – не столько в возникновени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тивореч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сколько в способе его разрешения, в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тиводейств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зентация«Фильм о фильме «Чучел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смотр  фрагментов  фильма «Чучело». (материалы прилагаютс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гмент 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гмент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гмент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onstantia"/>
              </a:rPr>
              <a:t>Правила  успешного общения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onstantia"/>
              </a:rPr>
              <a:t>друг с другом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ойлова</cp:lastModifiedBy>
  <dcterms:modified xsi:type="dcterms:W3CDTF">2012-01-23T19:26:44Z</dcterms:modified>
  <cp:revision>29</cp:revision>
  <dc:subject/>
  <dc:title>Слайд 1</dc:title>
</cp:coreProperties>
</file>