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2B09-184A-45EC-9687-8525A3E83C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5028-C093-4B6D-B8C4-00A9292FA5F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32C9-84DA-4FF5-A37B-012B8F8C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FFFC-C4BB-45CF-94F0-6E490D0A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1526E-5F35-4964-916C-5FDB60C6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4CBD2-F54C-4C3C-9FDE-BCEFF34C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620AA-E8FE-4956-854B-A482FDC0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260B9-6A82-4F5E-A93E-F0F8FA92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8D0ED-3D3B-418F-9DAD-21293827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3A551-508B-4BDF-944D-EFA78EFF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69985-A34E-4FF7-AF50-EFE23E2B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62322-D166-4DF7-A0C9-94805880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3AEBB-F165-46C0-8C05-A1923C8B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F46A7-E49C-4CC3-97D8-CB5CCB16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FF7B-77F0-4570-A63E-8F6C24A7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B7FDE-81D0-45E2-80DB-C74EB6F8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0B9DD-3C13-4E9E-8214-BBEBC22E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9A151-4145-4D1D-802C-6DA7314C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A5768-D733-4D18-BBB6-EF59B1EA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1B394-4215-49C4-8686-D1582F90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BFA30-A8F7-4CA8-8226-1968DB4B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0303D-BFA0-4F5C-AD2E-976915F9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842CD-205A-4F52-B56C-4D9C959E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459D6-2D19-490C-9818-EE770992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D616B-0B70-4704-AA03-B2B83D8F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ED87-2560-4811-B892-A129E3A61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FE4BB-E50E-48E2-8A58-D0D56556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0319C-F2DD-4E24-BB1C-87DEF193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52278-3178-4E33-B1F7-FD102DE6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328BB-8112-4BC3-A2AE-31809B0A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67DAF-682A-47ED-A792-3D97EC9D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D752D-52FB-47C7-9DCE-54B14136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8662D-260A-4D1E-B6BF-00D23CC5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A8321-8F79-40BE-8A84-08FB3C84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02E8D-1FB3-4993-898B-764EA924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52CBE-C495-4AC2-BF3F-40831F98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5794-C2A8-4A5C-86B9-F6FDB18D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60613-3F90-421D-8DFD-0B312A28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DE283-B574-418E-845D-FE6D160C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CAC87-8ADD-4BAD-9A24-98467C1F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09F41-85A7-431B-957B-7E8B4D5D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75C99-D759-4E4F-8FF8-92AE2BEE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530A1-377B-4BD9-9D18-0DBF4D3A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73344-2A83-47FD-91C7-62561CA4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84E1C-F52B-480F-8B61-81AB1C11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8CE88-FAE0-4FB4-B31B-9059F4F1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E0556-9A95-4B02-9B08-2133D43F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9818-04A0-43D2-853C-046CED16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B0C1D-66C8-465A-9681-CDE7FDD3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BFCB5-E5E9-44AB-A185-7B0B04EE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3E368-E1B2-4746-980F-7F188394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203C9-E617-416E-9C8B-D1B07385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81882-1BF9-4869-9AE8-5D222B16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7B1B2-94AF-4F13-B2F8-A2A66715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3FF47C-FAE4-4BAF-A221-3587ECCD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84A44F-E007-4C04-B96D-15FF1DAD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F7445-7EB4-4A02-A83A-790A4AD5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34A75F-1410-446B-AA34-6B191865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AEE4-6199-4FEC-8980-C0F17002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9DBE9D-89B2-435C-B38E-604EA01E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52866E-0761-4B59-993A-B76CBF70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9B4BEF-9356-40A0-BF31-6982980E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C40AD-D826-4656-8ED0-FE07FDA6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868008-36AD-42CB-AC30-4E83E421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13FEA5-3813-4EFF-80EB-E9E987A5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2C9F05-4685-4A3A-9619-DDA665A3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856179-DF0D-416B-BB74-847E7FCB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C303EA-B305-487E-B077-320CD41E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BCECCE-52BB-4629-B0F7-5003F651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A22A-9878-42FD-AC24-C7356CC6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27380A-2744-4F2B-8127-B04BC041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1FD9E9-6C13-409B-998C-85264927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C43665-1F65-4D6B-A116-00C8FE7A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E124B7-FF4D-454D-BD85-BE9DF686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1BB651-9614-4408-8CDA-1F035B9A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F95000-9ED6-4B42-B2B1-BBD73448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4A10D0-983C-438F-9A0A-877AB392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8058E5-52FA-4046-B6D4-737BBC68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C9B986-938A-4652-A396-42BC7BF9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1BA828-6D19-4EE7-96FE-75493613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C54E-E693-49D0-AB89-05845F57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A433BC-A91F-4830-BEC0-1E54855B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D30196-295B-4E70-A9B0-C04F1556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ED83B4-6F45-4D51-8445-E6CDD6B7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508C3E-8E2A-421A-BF46-640C09A2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D86274-40CF-4F96-B9BD-9AF500B6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AC3426-3C57-448C-9E4B-0144FB8B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D9A1E8-2E19-440E-91B3-D20A5E1E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E5C674-018F-4913-A206-B2B90A62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7548D9-0B13-41B9-9A42-7D70BA52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AC210F-BED5-448A-9729-6CEC654F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1BAE-E149-4577-B74A-E6BB2C64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75F838-C45C-4D3C-A332-6D6408C8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B482C6-A861-4FA8-96E2-D909C8A6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25C58A-2BD1-46B2-AF10-7F99BBAB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8FE182-2AED-49EA-AC32-AB78DA9C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55CFE0-B668-4952-9112-ADE0C1EB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7D68A6-5409-4F89-AECA-646347B4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F80B80-C4AF-4B5E-BC52-143E793B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8E57C9-1976-4288-B257-E8CB6B3B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A1F6EA-34E5-4057-8392-2A38CF8E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5C3107-A6FA-4A0A-A368-25186D7E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574B-B979-4C8C-9F1A-8350ADFA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F3FFB1-99E2-49AF-933B-FB08851A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775BCD-3F0A-471A-A64B-36549BD7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C43BA4-4262-458C-8F5A-E523DC18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2E30A5-1C71-4C95-9332-985682F3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3E71B7-12B1-4D34-99CF-8C4D8F02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62375A-7B85-4021-AA85-3961AE80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56173F-90B9-4CA1-B457-6F1D19B8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1BC03F-575E-41F3-AD70-83A86C1D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73B127-BE52-4A1E-B02B-80C16ECB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9FB4FD-7CDC-4984-921C-5CC7B961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0F80-7957-4660-9A2F-2D134D07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22AD-6E99-4AD4-9873-FEADADDF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14BB0A-E31D-4238-B02A-2A07B92B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9C41C2-7D18-4BD2-BB67-B69C26C3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8911C7-72C3-4D33-ABC1-DF329220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AAC313-67D2-40ED-A5D2-99971DF4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568720-44AD-4E0A-9A26-EF2DF584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2FE4-16FB-4438-B785-86388228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1BC3-3FE2-4128-A6FE-34E42FEF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CA77-C8E7-4E65-95CD-32A830E8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A927-EF2C-4382-B248-7809E1F1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FEAEC-6E1C-4796-92CB-A621BE15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5EA32-30AB-453F-9D2B-AC66BDD8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99F71-DA30-4004-8F03-2067787F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C46D2-4421-43B5-B15F-61FC6391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C50AD-FF13-4C7F-A764-E6A5F031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8846-C5CC-4F5B-90EF-BA326AF4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E18F6-B883-4E36-B149-73DD419A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9A97D-AD82-400D-A86D-65B15B46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D0DE2-BB59-40E4-9EA6-1BA76180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4BEAD-BA80-431D-AF99-ECE92CF4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E5F68-166E-4A62-9F30-E6EB6F1E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AA5DB-32FB-4FC5-B681-A6FB8AD2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70BC2-1C25-48DC-A4D8-A34B6A9A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2C241C-08FC-473D-A81F-071BEAC5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BA05A7-3450-468B-92DE-F6C72484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A36FEE-8C90-46A2-A398-3C852BAF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6492-AB90-4DC1-8588-38ED609E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155D40-23DD-4E04-B3E4-A3A491DE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CB4AC1-776A-4B1F-BE96-9DF697E2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C237E1-7660-4D45-9535-C732A384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EE147D-4A39-43EE-8807-1D55848C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D4A553-49CE-4D90-85D3-5D2AB898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B97CF8-88FE-47D4-BA3E-B9E8D2DF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57EF7A-D3FC-4AEF-B223-852EA6DC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CA3ACC-5C33-4EDE-8EE0-A96930CC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EE1C57-1961-43EC-8869-47AB664E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06C76-DFFB-4456-BB7D-A24762C8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685B-9DE6-464D-9B27-035EF37C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4441B-E4EB-4D64-91DA-C8F9EB1E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BAFAF-7F81-48A2-8155-CFB6D32F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31B91-9DA3-420A-AC01-8702B969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1139F-EF3E-4669-B4AF-A44D5201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27038-B365-4FDF-994E-56782D98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14576-D285-4CBD-A0E4-3FEB5A01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6F440-3DBA-4D76-8501-5A4E6B90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68FC9-7017-4DC2-AC42-2E87AA49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2FCB6-A13C-4DCF-BE16-08EF1DA7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B8BB1-4450-4B90-8C65-AA42D09D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5F55-1B6F-4AF1-87D7-4EA22965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981A8-2CF3-48F2-B545-106FCE6B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9D865-FD98-4D6A-83B9-3E23FF9B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7B23A-AC64-4515-A061-FB22F3E8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AFE1F-1F09-4BF0-8FF7-713448CB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383F0-EFDB-4B93-B9EC-66B0100E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A39F7-12A9-40B6-B0B5-3F191A31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36003-3176-43F6-ADC4-27A88F68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9FA77-51AB-49A6-9CC7-986E7DCF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E5EF7-8965-430B-9F9C-F8F3FBCE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31EC8-0A3C-49CF-9B75-8F2BFDCA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395-A8F2-4BE5-B125-B939A4AB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A37D2-8241-4E5B-8BDC-169B2C97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D208E-1571-4632-BF65-302B46F5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74908-8737-43C6-93EE-3BD38D26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166CA-FAFC-4384-947B-F2E00CE7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FA079-E7E4-428C-A0C9-904D7F08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54A08-754B-43F0-9162-2242994C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996C0-CB10-46C0-930D-8F3C7A6B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9DFDF-40BF-4D1E-BA63-471F58F2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1D6EB-004F-4EFB-9070-13C157FD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76E70-D6F7-451A-B826-BFC3AB46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3A70-3DA7-4172-B85D-0F02E078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536DB-296F-46F4-A738-A2A7649F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D8CB9-6F34-438A-ABC4-EAA1FA72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CBDAB-371F-4AD4-A3E3-188219B8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D7771-19C5-4EE6-B4AA-18FF8D5C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DC802-6C63-48E5-8C25-1309B7EF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4B4B2-7FC4-4673-A8A7-E0328357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64B60-30EA-4862-97C7-941E2EA6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3D78C-3F69-4038-AC02-68D082BF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F571E-887C-4A1B-8984-F963F398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EEA53-EF35-4410-B063-BF9C2AA9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2DE4-E65A-4B93-BC7D-B5743C21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47890-E839-42C6-9B57-EA70D39A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E2957-F139-429C-8C2F-1A5D1467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593DA-544B-4345-839F-314842AF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DC39A-FE22-4390-88DE-03302C08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73CA5-3FA0-44AB-9C5A-34150252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6CB94-BC6B-43B1-AA31-12042569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64501-1CFC-4C26-A87E-F1A4BA19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40BB6-D45A-4451-8E87-E755AD26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0CC3F-45A5-4B47-9DDC-C620D2BB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67BEE-4C7E-4B28-AAB1-7FD013BB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21.xml"/><Relationship Id="rId35" Type="http://schemas.openxmlformats.org/officeDocument/2006/relationships/slideLayout" Target="../slideLayouts/slideLayout122.xml"/><Relationship Id="rId36" Type="http://schemas.openxmlformats.org/officeDocument/2006/relationships/slideLayout" Target="../slideLayouts/slideLayout123.xml"/><Relationship Id="rId37" Type="http://schemas.openxmlformats.org/officeDocument/2006/relationships/slideLayout" Target="../slideLayouts/slideLayout124.xml"/><Relationship Id="rId38" Type="http://schemas.openxmlformats.org/officeDocument/2006/relationships/slideLayout" Target="../slideLayouts/slideLayout125.xml"/><Relationship Id="rId39" Type="http://schemas.openxmlformats.org/officeDocument/2006/relationships/slideLayout" Target="../slideLayouts/slideLayout126.xml"/><Relationship Id="rId40" Type="http://schemas.openxmlformats.org/officeDocument/2006/relationships/slideLayout" Target="../slideLayouts/slideLayout127.xml"/><Relationship Id="rId41" Type="http://schemas.openxmlformats.org/officeDocument/2006/relationships/slideLayout" Target="../slideLayouts/slideLayout128.xml"/><Relationship Id="rId42" Type="http://schemas.openxmlformats.org/officeDocument/2006/relationships/slideLayout" Target="../slideLayouts/slideLayout129.xml"/><Relationship Id="rId43" Type="http://schemas.openxmlformats.org/officeDocument/2006/relationships/slideLayout" Target="../slideLayouts/slideLayout130.xml"/><Relationship Id="rId44" Type="http://schemas.openxmlformats.org/officeDocument/2006/relationships/slideLayout" Target="../slideLayouts/slideLayout131.xml"/><Relationship Id="rId4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2142-1743-4AF5-8C7C-CB76554C9D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9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9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1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1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3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4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4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5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5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6F91-BDB3-47E8-A244-5FFFEEA566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702" name="Rectangle 3"/>
            <p:cNvSpPr/>
            <p:nvPr/>
          </p:nvSpPr>
          <p:spPr>
            <a:xfrm>
              <a:off x="0" y="6645960"/>
              <a:ext cx="8078760" cy="22428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3" name="Rectangle 4"/>
            <p:cNvSpPr/>
            <p:nvPr/>
          </p:nvSpPr>
          <p:spPr>
            <a:xfrm>
              <a:off x="0" y="28080"/>
              <a:ext cx="8078760" cy="199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4" name="Rectangle 5"/>
            <p:cNvSpPr/>
            <p:nvPr/>
          </p:nvSpPr>
          <p:spPr>
            <a:xfrm>
              <a:off x="7953480" y="28080"/>
              <a:ext cx="1203120" cy="6829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05" name="Group 6"/>
            <p:cNvGrpSpPr/>
            <p:nvPr/>
          </p:nvGrpSpPr>
          <p:grpSpPr>
            <a:xfrm>
              <a:off x="7848720" y="-360"/>
              <a:ext cx="1295280" cy="6312240"/>
              <a:chOff x="7848720" y="-360"/>
              <a:chExt cx="1295280" cy="6312240"/>
            </a:xfrm>
          </p:grpSpPr>
          <p:grpSp>
            <p:nvGrpSpPr>
              <p:cNvPr id="706" name="Group 7"/>
              <p:cNvGrpSpPr/>
              <p:nvPr/>
            </p:nvGrpSpPr>
            <p:grpSpPr>
              <a:xfrm>
                <a:off x="8381880" y="-360"/>
                <a:ext cx="762120" cy="2290320"/>
                <a:chOff x="8381880" y="-360"/>
                <a:chExt cx="762120" cy="2290320"/>
              </a:xfrm>
            </p:grpSpPr>
            <p:grpSp>
              <p:nvGrpSpPr>
                <p:cNvPr id="707" name="Group 8"/>
                <p:cNvGrpSpPr/>
                <p:nvPr/>
              </p:nvGrpSpPr>
              <p:grpSpPr>
                <a:xfrm>
                  <a:off x="8732880" y="-360"/>
                  <a:ext cx="279360" cy="274680"/>
                  <a:chOff x="8732880" y="-360"/>
                  <a:chExt cx="279360" cy="274680"/>
                </a:xfrm>
              </p:grpSpPr>
              <p:grpSp>
                <p:nvGrpSpPr>
                  <p:cNvPr id="708" name="Group 9"/>
                  <p:cNvGrpSpPr/>
                  <p:nvPr/>
                </p:nvGrpSpPr>
                <p:grpSpPr>
                  <a:xfrm>
                    <a:off x="8732880" y="-360"/>
                    <a:ext cx="279360" cy="274680"/>
                    <a:chOff x="8732880" y="-360"/>
                    <a:chExt cx="279360" cy="274680"/>
                  </a:xfrm>
                </p:grpSpPr>
                <p:sp>
                  <p:nvSpPr>
                    <p:cNvPr id="709" name="Freeform 10"/>
                    <p:cNvSpPr/>
                    <p:nvPr/>
                  </p:nvSpPr>
                  <p:spPr>
                    <a:xfrm rot="16200000">
                      <a:off x="8772120" y="-39600"/>
                      <a:ext cx="20052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10" name="Freeform 11"/>
                    <p:cNvSpPr/>
                    <p:nvPr/>
                  </p:nvSpPr>
                  <p:spPr>
                    <a:xfrm rot="16200000">
                      <a:off x="8781480" y="91440"/>
                      <a:ext cx="14040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711" name="Oval 12"/>
                  <p:cNvSpPr/>
                  <p:nvPr/>
                </p:nvSpPr>
                <p:spPr>
                  <a:xfrm rot="16200000">
                    <a:off x="8852400" y="1551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2" name="Freeform 13"/>
                  <p:cNvSpPr/>
                  <p:nvPr/>
                </p:nvSpPr>
                <p:spPr>
                  <a:xfrm rot="16200000">
                    <a:off x="8786160" y="7128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3" name="Freeform 14"/>
                  <p:cNvSpPr/>
                  <p:nvPr/>
                </p:nvSpPr>
                <p:spPr>
                  <a:xfrm rot="16200000">
                    <a:off x="8857080" y="5868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4" name="Freeform 15"/>
                  <p:cNvSpPr/>
                  <p:nvPr/>
                </p:nvSpPr>
                <p:spPr>
                  <a:xfrm rot="16200000">
                    <a:off x="8926560" y="10836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5" name="Freeform 16"/>
                  <p:cNvSpPr/>
                  <p:nvPr/>
                </p:nvSpPr>
                <p:spPr>
                  <a:xfrm rot="16200000">
                    <a:off x="8852400" y="217080"/>
                    <a:ext cx="6300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6" name="Freeform 17"/>
                  <p:cNvSpPr/>
                  <p:nvPr/>
                </p:nvSpPr>
                <p:spPr>
                  <a:xfrm rot="16200000">
                    <a:off x="8800920" y="1922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71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5560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5560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5944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3852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6256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4236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2144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200088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25" name="Group 26"/>
              <p:cNvGrpSpPr/>
              <p:nvPr/>
            </p:nvGrpSpPr>
            <p:grpSpPr>
              <a:xfrm>
                <a:off x="7848720" y="1621800"/>
                <a:ext cx="828720" cy="4690080"/>
                <a:chOff x="7848720" y="1621800"/>
                <a:chExt cx="828720" cy="4690080"/>
              </a:xfrm>
            </p:grpSpPr>
            <p:pic>
              <p:nvPicPr>
                <p:cNvPr id="72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2180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2528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3224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5976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1132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1516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9112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4652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864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808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2560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2840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5312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8448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6392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548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300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280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7088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45" name="Freeform 46"/>
            <p:cNvSpPr/>
            <p:nvPr/>
          </p:nvSpPr>
          <p:spPr>
            <a:xfrm>
              <a:off x="7953480" y="4916520"/>
              <a:ext cx="1190520" cy="19317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Freeform 47"/>
            <p:cNvSpPr/>
            <p:nvPr/>
          </p:nvSpPr>
          <p:spPr>
            <a:xfrm>
              <a:off x="7939080" y="4866120"/>
              <a:ext cx="1219320" cy="199188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7" name="Freeform 48"/>
            <p:cNvSpPr/>
            <p:nvPr/>
          </p:nvSpPr>
          <p:spPr>
            <a:xfrm>
              <a:off x="7927920" y="2834280"/>
              <a:ext cx="1231920" cy="402012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8" name="Freeform 49"/>
            <p:cNvSpPr/>
            <p:nvPr/>
          </p:nvSpPr>
          <p:spPr>
            <a:xfrm>
              <a:off x="8010360" y="3552120"/>
              <a:ext cx="979560" cy="217512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9" name="Freeform 50"/>
            <p:cNvSpPr/>
            <p:nvPr/>
          </p:nvSpPr>
          <p:spPr>
            <a:xfrm>
              <a:off x="8244000" y="453240"/>
              <a:ext cx="914400" cy="50274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0" name="Freeform 51"/>
            <p:cNvSpPr/>
            <p:nvPr/>
          </p:nvSpPr>
          <p:spPr>
            <a:xfrm>
              <a:off x="8250120" y="289080"/>
              <a:ext cx="909720" cy="30585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1" name="Freeform 52"/>
            <p:cNvSpPr/>
            <p:nvPr/>
          </p:nvSpPr>
          <p:spPr>
            <a:xfrm>
              <a:off x="7943760" y="28080"/>
              <a:ext cx="576360" cy="33386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2" name="Freeform 53"/>
            <p:cNvSpPr/>
            <p:nvPr/>
          </p:nvSpPr>
          <p:spPr>
            <a:xfrm>
              <a:off x="7943760" y="29520"/>
              <a:ext cx="300240" cy="333900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Rectangle 54"/>
            <p:cNvSpPr/>
            <p:nvPr/>
          </p:nvSpPr>
          <p:spPr>
            <a:xfrm>
              <a:off x="7866000" y="29520"/>
              <a:ext cx="88920" cy="6829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4" name="Freeform 55"/>
            <p:cNvSpPr/>
            <p:nvPr/>
          </p:nvSpPr>
          <p:spPr>
            <a:xfrm>
              <a:off x="7958160" y="6231960"/>
              <a:ext cx="1165320" cy="6163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5" name="AutoShape 56"/>
            <p:cNvSpPr/>
            <p:nvPr/>
          </p:nvSpPr>
          <p:spPr>
            <a:xfrm rot="5400000">
              <a:off x="4338360" y="3330000"/>
              <a:ext cx="682956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3EDC-FE62-4FE0-AA75-2190327525A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4"/>
    <p:sldLayoutId id="2147483780" r:id="rId35"/>
    <p:sldLayoutId id="2147483781" r:id="rId36"/>
    <p:sldLayoutId id="2147483782" r:id="rId37"/>
    <p:sldLayoutId id="2147483783" r:id="rId38"/>
    <p:sldLayoutId id="2147483784" r:id="rId39"/>
    <p:sldLayoutId id="2147483785" r:id="rId40"/>
    <p:sldLayoutId id="2147483786" r:id="rId41"/>
    <p:sldLayoutId id="2147483787" r:id="rId42"/>
    <p:sldLayoutId id="2147483788" r:id="rId43"/>
    <p:sldLayoutId id="2147483789" r:id="rId44"/>
    <p:sldLayoutId id="2147483790" r:id="rId4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9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9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04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5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5C60-D6E6-4E2A-9857-4938582994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848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849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51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2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54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855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6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7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8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9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0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3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07E6-CF7F-431E-BAF2-F3B5526F93A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03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4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5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6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8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9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1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4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5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7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8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9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E57C-8B96-4428-A4E2-1565A2AF12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63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4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6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8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9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2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4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5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81DF-A3AE-447F-9753-14C8931F8BA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9" name="Group 2"/>
          <p:cNvGrpSpPr/>
          <p:nvPr/>
        </p:nvGrpSpPr>
        <p:grpSpPr>
          <a:xfrm>
            <a:off x="-19800" y="0"/>
            <a:ext cx="9050040" cy="6858000"/>
            <a:chOff x="-19800" y="0"/>
            <a:chExt cx="9050040" cy="6858000"/>
          </a:xfrm>
        </p:grpSpPr>
        <p:grpSp>
          <p:nvGrpSpPr>
            <p:cNvPr id="1020" name="Group 3"/>
            <p:cNvGrpSpPr/>
            <p:nvPr/>
          </p:nvGrpSpPr>
          <p:grpSpPr>
            <a:xfrm>
              <a:off x="5373360" y="60840"/>
              <a:ext cx="3656880" cy="6139440"/>
              <a:chOff x="5373360" y="60840"/>
              <a:chExt cx="3656880" cy="6139440"/>
            </a:xfrm>
          </p:grpSpPr>
          <p:sp>
            <p:nvSpPr>
              <p:cNvPr id="1021" name="Freeform 4"/>
              <p:cNvSpPr/>
              <p:nvPr/>
            </p:nvSpPr>
            <p:spPr>
              <a:xfrm flipV="1" rot="11970000">
                <a:off x="6574320" y="347400"/>
                <a:ext cx="212328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"/>
              <p:cNvSpPr/>
              <p:nvPr/>
            </p:nvSpPr>
            <p:spPr>
              <a:xfrm flipV="1" rot="11970000">
                <a:off x="7402680" y="1962360"/>
                <a:ext cx="90936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6"/>
              <p:cNvSpPr/>
              <p:nvPr/>
            </p:nvSpPr>
            <p:spPr>
              <a:xfrm flipV="1" rot="11970000">
                <a:off x="6815880" y="2589840"/>
                <a:ext cx="4410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4" name="Freeform 7"/>
              <p:cNvSpPr/>
              <p:nvPr/>
            </p:nvSpPr>
            <p:spPr>
              <a:xfrm flipV="1" rot="11970000">
                <a:off x="7245360" y="676440"/>
                <a:ext cx="3902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5" name="Freeform 8"/>
              <p:cNvSpPr/>
              <p:nvPr/>
            </p:nvSpPr>
            <p:spPr>
              <a:xfrm flipV="1" rot="11970000">
                <a:off x="7122240" y="2647440"/>
                <a:ext cx="16380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6" name="Freeform 9"/>
              <p:cNvSpPr/>
              <p:nvPr/>
            </p:nvSpPr>
            <p:spPr>
              <a:xfrm flipV="1" rot="11970000">
                <a:off x="7122240" y="1238760"/>
                <a:ext cx="190800" cy="1425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7" name="Freeform 10"/>
              <p:cNvSpPr/>
              <p:nvPr/>
            </p:nvSpPr>
            <p:spPr>
              <a:xfrm flipV="1" rot="11970000">
                <a:off x="5903640" y="2937240"/>
                <a:ext cx="5252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28" name="Freeform 11"/>
            <p:cNvSpPr/>
            <p:nvPr/>
          </p:nvSpPr>
          <p:spPr>
            <a:xfrm flipH="1" rot="373800">
              <a:off x="34200" y="3106800"/>
              <a:ext cx="5140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Freeform 12"/>
            <p:cNvSpPr/>
            <p:nvPr/>
          </p:nvSpPr>
          <p:spPr>
            <a:xfrm>
              <a:off x="267480" y="2000160"/>
              <a:ext cx="20055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Freeform 13"/>
            <p:cNvSpPr/>
            <p:nvPr/>
          </p:nvSpPr>
          <p:spPr>
            <a:xfrm>
              <a:off x="0" y="4143240"/>
              <a:ext cx="127584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Freeform 14"/>
            <p:cNvSpPr/>
            <p:nvPr/>
          </p:nvSpPr>
          <p:spPr>
            <a:xfrm flipH="1" rot="373800">
              <a:off x="1429560" y="4532040"/>
              <a:ext cx="56376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2" name="Freeform 15"/>
            <p:cNvSpPr/>
            <p:nvPr/>
          </p:nvSpPr>
          <p:spPr>
            <a:xfrm flipH="1" rot="373800">
              <a:off x="1271880" y="4728960"/>
              <a:ext cx="13860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3" name="Freeform 16"/>
            <p:cNvSpPr/>
            <p:nvPr/>
          </p:nvSpPr>
          <p:spPr>
            <a:xfrm>
              <a:off x="1895760" y="5195880"/>
              <a:ext cx="176472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34" name="Group 17"/>
            <p:cNvGrpSpPr/>
            <p:nvPr/>
          </p:nvGrpSpPr>
          <p:grpSpPr>
            <a:xfrm>
              <a:off x="4164480" y="1032480"/>
              <a:ext cx="1018080" cy="1263960"/>
              <a:chOff x="4164480" y="1032480"/>
              <a:chExt cx="1018080" cy="1263960"/>
            </a:xfrm>
          </p:grpSpPr>
          <p:sp>
            <p:nvSpPr>
              <p:cNvPr id="1035" name="Freeform 18"/>
              <p:cNvSpPr/>
              <p:nvPr/>
            </p:nvSpPr>
            <p:spPr>
              <a:xfrm rot="3220200">
                <a:off x="4581360" y="1069920"/>
                <a:ext cx="285840" cy="379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6" name="Freeform 19"/>
              <p:cNvSpPr/>
              <p:nvPr/>
            </p:nvSpPr>
            <p:spPr>
              <a:xfrm rot="3220200">
                <a:off x="4665960" y="1603800"/>
                <a:ext cx="488880" cy="315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7" name="Freeform 20"/>
              <p:cNvSpPr/>
              <p:nvPr/>
            </p:nvSpPr>
            <p:spPr>
              <a:xfrm rot="3220200">
                <a:off x="4124880" y="1962720"/>
                <a:ext cx="511200" cy="160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38" name="Group 21"/>
            <p:cNvGrpSpPr/>
            <p:nvPr/>
          </p:nvGrpSpPr>
          <p:grpSpPr>
            <a:xfrm>
              <a:off x="5645520" y="225720"/>
              <a:ext cx="896040" cy="826200"/>
              <a:chOff x="5645520" y="225720"/>
              <a:chExt cx="896040" cy="826200"/>
            </a:xfrm>
          </p:grpSpPr>
          <p:sp>
            <p:nvSpPr>
              <p:cNvPr id="1039" name="Freeform 22"/>
              <p:cNvSpPr/>
              <p:nvPr/>
            </p:nvSpPr>
            <p:spPr>
              <a:xfrm rot="14908200">
                <a:off x="5757480" y="720000"/>
                <a:ext cx="179280" cy="363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0" name="Freeform 23"/>
              <p:cNvSpPr/>
              <p:nvPr/>
            </p:nvSpPr>
            <p:spPr>
              <a:xfrm rot="14908200">
                <a:off x="5707440" y="400320"/>
                <a:ext cx="306360" cy="3016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1" name="Freeform 24"/>
              <p:cNvSpPr/>
              <p:nvPr/>
            </p:nvSpPr>
            <p:spPr>
              <a:xfrm rot="14908200">
                <a:off x="6252480" y="324720"/>
                <a:ext cx="318240" cy="153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42" name="Group 25"/>
            <p:cNvGrpSpPr/>
            <p:nvPr/>
          </p:nvGrpSpPr>
          <p:grpSpPr>
            <a:xfrm>
              <a:off x="972720" y="5234040"/>
              <a:ext cx="1061640" cy="831240"/>
              <a:chOff x="972720" y="5234040"/>
              <a:chExt cx="1061640" cy="831240"/>
            </a:xfrm>
          </p:grpSpPr>
          <p:sp>
            <p:nvSpPr>
              <p:cNvPr id="1043" name="Freeform 26"/>
              <p:cNvSpPr/>
              <p:nvPr/>
            </p:nvSpPr>
            <p:spPr>
              <a:xfrm rot="8524800">
                <a:off x="1716840" y="5498640"/>
                <a:ext cx="25200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4" name="Freeform 27"/>
              <p:cNvSpPr/>
              <p:nvPr/>
            </p:nvSpPr>
            <p:spPr>
              <a:xfrm rot="8524800">
                <a:off x="1197360" y="5709960"/>
                <a:ext cx="43092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5" name="Freeform 28"/>
              <p:cNvSpPr/>
              <p:nvPr/>
            </p:nvSpPr>
            <p:spPr>
              <a:xfrm rot="8524800">
                <a:off x="964080" y="5358960"/>
                <a:ext cx="4507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46" name="Group 29"/>
            <p:cNvGrpSpPr/>
            <p:nvPr/>
          </p:nvGrpSpPr>
          <p:grpSpPr>
            <a:xfrm>
              <a:off x="377640" y="393120"/>
              <a:ext cx="1695240" cy="1146960"/>
              <a:chOff x="377640" y="393120"/>
              <a:chExt cx="1695240" cy="1146960"/>
            </a:xfrm>
          </p:grpSpPr>
          <p:sp>
            <p:nvSpPr>
              <p:cNvPr id="1047" name="Freeform 30"/>
              <p:cNvSpPr/>
              <p:nvPr/>
            </p:nvSpPr>
            <p:spPr>
              <a:xfrm flipH="1" rot="4107000">
                <a:off x="1582200" y="1010880"/>
                <a:ext cx="355320" cy="5320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8" name="Freeform 31"/>
              <p:cNvSpPr/>
              <p:nvPr/>
            </p:nvSpPr>
            <p:spPr>
              <a:xfrm flipH="1" rot="4107000">
                <a:off x="1027800" y="536040"/>
                <a:ext cx="608400" cy="4420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9" name="Freeform 32"/>
              <p:cNvSpPr/>
              <p:nvPr/>
            </p:nvSpPr>
            <p:spPr>
              <a:xfrm flipH="1" rot="4107000">
                <a:off x="280800" y="1051560"/>
                <a:ext cx="636120" cy="225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50" name="Group 33"/>
            <p:cNvGrpSpPr/>
            <p:nvPr/>
          </p:nvGrpSpPr>
          <p:grpSpPr>
            <a:xfrm>
              <a:off x="7461360" y="3711600"/>
              <a:ext cx="1159560" cy="1608840"/>
              <a:chOff x="7461360" y="3711600"/>
              <a:chExt cx="1159560" cy="1608840"/>
            </a:xfrm>
          </p:grpSpPr>
          <p:sp>
            <p:nvSpPr>
              <p:cNvPr id="1051" name="Freeform 34"/>
              <p:cNvSpPr/>
              <p:nvPr/>
            </p:nvSpPr>
            <p:spPr>
              <a:xfrm flipH="1" rot="10015800">
                <a:off x="7516080" y="4756320"/>
                <a:ext cx="35676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2" name="Freeform 35"/>
              <p:cNvSpPr/>
              <p:nvPr/>
            </p:nvSpPr>
            <p:spPr>
              <a:xfrm flipH="1" rot="10015800">
                <a:off x="7968600" y="4455360"/>
                <a:ext cx="610200" cy="441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3" name="Freeform 36"/>
              <p:cNvSpPr/>
              <p:nvPr/>
            </p:nvSpPr>
            <p:spPr>
              <a:xfrm flipH="1" rot="10015800">
                <a:off x="7660800" y="3780720"/>
                <a:ext cx="63792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54" name="Freeform 37"/>
            <p:cNvSpPr/>
            <p:nvPr/>
          </p:nvSpPr>
          <p:spPr>
            <a:xfrm>
              <a:off x="1938600" y="3240"/>
              <a:ext cx="137304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5" name="Freeform 38"/>
            <p:cNvSpPr/>
            <p:nvPr/>
          </p:nvSpPr>
          <p:spPr>
            <a:xfrm flipV="1" rot="9832800">
              <a:off x="3436560" y="160560"/>
              <a:ext cx="108504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6" name="Freeform 39"/>
            <p:cNvSpPr/>
            <p:nvPr/>
          </p:nvSpPr>
          <p:spPr>
            <a:xfrm flipV="1" rot="9832800">
              <a:off x="3180600" y="1361880"/>
              <a:ext cx="52560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7" name="Freeform 40"/>
            <p:cNvSpPr/>
            <p:nvPr/>
          </p:nvSpPr>
          <p:spPr>
            <a:xfrm flipV="1" rot="9832800">
              <a:off x="3542400" y="1281960"/>
              <a:ext cx="19584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8" name="Freeform 41"/>
            <p:cNvSpPr/>
            <p:nvPr/>
          </p:nvSpPr>
          <p:spPr>
            <a:xfrm>
              <a:off x="2553480" y="0"/>
              <a:ext cx="19728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9" name="Freeform 42"/>
            <p:cNvSpPr/>
            <p:nvPr/>
          </p:nvSpPr>
          <p:spPr>
            <a:xfrm flipV="1" rot="9832800">
              <a:off x="3461760" y="1964160"/>
              <a:ext cx="62568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0" name="Freeform 43"/>
            <p:cNvSpPr/>
            <p:nvPr/>
          </p:nvSpPr>
          <p:spPr>
            <a:xfrm>
              <a:off x="0" y="2933640"/>
              <a:ext cx="5724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BFE7-4EEE-4903-9F86-3B86186E121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10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10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0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10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0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dt" idx="4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ftr" idx="5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sldNum" idx="5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7C64-CB31-40F5-9A9A-9A382FA96112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649B-56AD-4816-9750-CCB594682C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4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5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5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5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55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6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57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Freeform 13"/>
                  <p:cNvSpPr/>
                  <p:nvPr/>
                </p:nvSpPr>
                <p:spPr>
                  <a:xfrm rot="16200000">
                    <a:off x="8757720" y="4500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Freeform 14"/>
                  <p:cNvSpPr/>
                  <p:nvPr/>
                </p:nvSpPr>
                <p:spPr>
                  <a:xfrm rot="16200000">
                    <a:off x="8828640" y="32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Freeform 15"/>
                  <p:cNvSpPr/>
                  <p:nvPr/>
                </p:nvSpPr>
                <p:spPr>
                  <a:xfrm rot="16200000">
                    <a:off x="8898120" y="82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2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16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7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91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10AC-DD44-4CEC-930A-B3740F092F5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9B5C-22C6-4E76-B1DE-0C4BBEF781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294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96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97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82E8-1F78-47E6-9054-D7A54CDDF12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48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A109-9398-4A6F-955A-68648F25F4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0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F6FF-F7B8-43F5-BD42-DA25DFF1C19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"/>
          <p:cNvGrpSpPr/>
          <p:nvPr/>
        </p:nvGrpSpPr>
        <p:grpSpPr>
          <a:xfrm>
            <a:off x="-86760" y="-93600"/>
            <a:ext cx="2778480" cy="6950160"/>
            <a:chOff x="-86760" y="-93600"/>
            <a:chExt cx="2778480" cy="6950160"/>
          </a:xfrm>
        </p:grpSpPr>
        <p:sp>
          <p:nvSpPr>
            <p:cNvPr id="465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6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0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1" name="Group 9"/>
            <p:cNvGrpSpPr/>
            <p:nvPr/>
          </p:nvGrpSpPr>
          <p:grpSpPr>
            <a:xfrm>
              <a:off x="-1080" y="2601000"/>
              <a:ext cx="2692800" cy="3117960"/>
              <a:chOff x="-1080" y="2601000"/>
              <a:chExt cx="2692800" cy="3117960"/>
            </a:xfrm>
          </p:grpSpPr>
          <p:sp>
            <p:nvSpPr>
              <p:cNvPr id="47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6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77" name="Group 15"/>
              <p:cNvGrpSpPr/>
              <p:nvPr/>
            </p:nvGrpSpPr>
            <p:grpSpPr>
              <a:xfrm>
                <a:off x="853560" y="4048560"/>
                <a:ext cx="1838160" cy="1670400"/>
                <a:chOff x="853560" y="4048560"/>
                <a:chExt cx="1838160" cy="1670400"/>
              </a:xfrm>
            </p:grpSpPr>
            <p:sp>
              <p:nvSpPr>
                <p:cNvPr id="478" name="Freeform 16"/>
                <p:cNvSpPr/>
                <p:nvPr/>
              </p:nvSpPr>
              <p:spPr>
                <a:xfrm flipH="1" rot="7102800">
                  <a:off x="1281240" y="3928320"/>
                  <a:ext cx="477360" cy="1258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9" name="Freeform 17"/>
                <p:cNvSpPr/>
                <p:nvPr/>
              </p:nvSpPr>
              <p:spPr>
                <a:xfrm flipH="1" rot="7102800">
                  <a:off x="2382840" y="4978800"/>
                  <a:ext cx="110520" cy="515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80" name="Freeform 18"/>
                <p:cNvSpPr/>
                <p:nvPr/>
              </p:nvSpPr>
              <p:spPr>
                <a:xfrm flipH="1" rot="7102800">
                  <a:off x="2491200" y="5563440"/>
                  <a:ext cx="200880" cy="907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481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482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3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4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8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48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8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490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3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B3A5-3A6D-4AA8-A536-A052D8A1AF9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7D3F-1265-446A-ADF8-A837D9EE39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714400" y="4406760"/>
            <a:ext cx="57798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2ebff"/>
                </a:solidFill>
                <a:latin typeface="Tahoma"/>
              </a:rPr>
              <a:t>      </a:t>
            </a:r>
            <a:r>
              <a:rPr b="1" lang="ru-RU" sz="1100" spc="-1" strike="noStrike">
                <a:solidFill>
                  <a:srgbClr val="c2ebff"/>
                </a:solidFill>
                <a:latin typeface="Tahoma"/>
              </a:rPr>
              <a:t>МУНИЦИПАЛЬНОЕ ОЗДОРОВИТЕЛЬНОЕ ОБРАЗОВАТЕЛЬНОЕ УЧРЕЖДЕНИЕ САНАТОРНОГО ТИПА ДЛЯ ДЕТЕЙ, НУЖДАЮЩИХСЯ  В ДЛИТЕЛЬНОМ ЛЕЧЕНИИ – ТОММОТСКАЯ  САНАТОРНАЯ ШКОЛА – ИНТЕРНАТ</a:t>
            </a:r>
            <a:br>
              <a:rPr sz="1100"/>
            </a:br>
            <a:br>
              <a:rPr sz="1100"/>
            </a:br>
            <a:r>
              <a:rPr b="1" i="1" lang="ru-RU" sz="1100" spc="-1" strike="noStrike">
                <a:solidFill>
                  <a:srgbClr val="c2ebff"/>
                </a:solidFill>
                <a:latin typeface="Tahoma"/>
              </a:rPr>
              <a:t>                                                                     ТЮТЮННИК НАДЕЖДА ИЛЬИНИЧНА,</a:t>
            </a:r>
            <a:br>
              <a:rPr sz="1100"/>
            </a:br>
            <a:r>
              <a:rPr b="1" i="1" lang="ru-RU" sz="1100" spc="-1" strike="noStrike">
                <a:solidFill>
                  <a:srgbClr val="c2ebff"/>
                </a:solidFill>
                <a:latin typeface="Tahoma"/>
              </a:rPr>
              <a:t>                                        УЧИТЕЛЬ РУССКОГО ЯЗЫКА И ЛИТЕРАТУРЫ</a:t>
            </a:r>
            <a:endParaRPr b="1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071360" y="428760"/>
            <a:ext cx="742284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Местоимение как часть ре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0cf4"/>
                </a:solidFill>
                <a:latin typeface="Tahoma"/>
              </a:rPr>
              <a:t>Неопределённые местоим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9" name=""/>
          <p:cNvGraphicFramePr/>
          <p:nvPr/>
        </p:nvGraphicFramePr>
        <p:xfrm>
          <a:off x="1182600" y="1614600"/>
          <a:ext cx="6889680" cy="4957560"/>
        </p:xfrm>
        <a:graphic>
          <a:graphicData uri="http://schemas.openxmlformats.org/drawingml/2006/table">
            <a:tbl>
              <a:tblPr/>
              <a:tblGrid>
                <a:gridCol w="6889680"/>
              </a:tblGrid>
              <a:tr h="49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                    </a:t>
                      </a: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Неопределён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       </a:t>
                      </a: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местоим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                               </a:t>
                      </a: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указывают 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                               </a:t>
                      </a: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неопределё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Нечто                    предметы, признаки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Некоторый           количеств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Несколько             Все неопред. м., кро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кое-кто               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екто</a:t>
                      </a: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,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еч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кое-что                изменяются по падежа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кто-то                     Некоторые по числам 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кто-нибудь          рода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что-нибу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нек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73864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7d47d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1182" name=""/>
          <p:cNvGraphicFramePr/>
          <p:nvPr/>
        </p:nvGraphicFramePr>
        <p:xfrm>
          <a:off x="642960" y="1285920"/>
          <a:ext cx="6572160" cy="4830840"/>
        </p:xfrm>
        <a:graphic>
          <a:graphicData uri="http://schemas.openxmlformats.org/drawingml/2006/table">
            <a:tbl>
              <a:tblPr/>
              <a:tblGrid>
                <a:gridCol w="2225520"/>
                <a:gridCol w="2121120"/>
                <a:gridCol w="2225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d0cf4"/>
                          </a:solidFill>
                          <a:latin typeface="Arial"/>
                        </a:rPr>
                        <a:t>Вопросительные местои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187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d0cf4"/>
                          </a:solidFill>
                          <a:latin typeface="Arial"/>
                        </a:rPr>
                        <a:t>Неопределённые местои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187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ч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1872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</a:t>
                      </a: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ч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1872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что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нибу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1872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</a:t>
                      </a: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то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– то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либ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коль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</a:t>
                      </a: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коль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колько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нибу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отор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</a:t>
                      </a: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отор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ое- </a:t>
                      </a: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отор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  <a:tr h="610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                       </a:t>
                      </a:r>
                      <a:r>
                        <a:rPr b="1" lang="ru-RU" sz="1800" spc="-1" strike="noStrike">
                          <a:solidFill>
                            <a:srgbClr val="2d0cf4"/>
                          </a:solidFill>
                          <a:latin typeface="Arial"/>
                        </a:rPr>
                        <a:t>Пиши прави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ое -</a:t>
                      </a: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ч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ое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ч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ое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ч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акой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нибу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ое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а</a:t>
                      </a: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ое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еред </a:t>
                      </a: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0cf4"/>
                </a:solidFill>
                <a:latin typeface="Tahoma"/>
              </a:rPr>
              <a:t>Отрицательные местоим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84" name=""/>
          <p:cNvGraphicFramePr/>
          <p:nvPr/>
        </p:nvGraphicFramePr>
        <p:xfrm>
          <a:off x="1182600" y="1614600"/>
          <a:ext cx="7104240" cy="4957560"/>
        </p:xfrm>
        <a:graphic>
          <a:graphicData uri="http://schemas.openxmlformats.org/drawingml/2006/table">
            <a:tbl>
              <a:tblPr/>
              <a:tblGrid>
                <a:gridCol w="7104240"/>
              </a:tblGrid>
              <a:tr h="49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трицательные местоимения </a:t>
                      </a: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выражаю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                              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тсутствие чего-либо</a:t>
                      </a: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ичто</a:t>
                      </a: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                    предмета, признака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икто</a:t>
                      </a: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                    количеств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икакой</a:t>
                      </a: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                Приставка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е-</a:t>
                      </a: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 всег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                              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ударная</a:t>
                      </a: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,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ни- </a:t>
                      </a: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всег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ичей </a:t>
                      </a: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                  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безударна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екого</a:t>
                      </a: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                  Отриц. м. изменяются п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                               </a:t>
                      </a: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падежа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ечего </a:t>
                      </a: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                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екого, нечего </a:t>
                      </a: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н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                               </a:t>
                      </a: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имеют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213840" y="213840"/>
            <a:ext cx="73868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рицательные местоиме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1187" name=""/>
          <p:cNvGraphicFramePr/>
          <p:nvPr/>
        </p:nvGraphicFramePr>
        <p:xfrm>
          <a:off x="142920" y="928800"/>
          <a:ext cx="7572240" cy="5405400"/>
        </p:xfrm>
        <a:graphic>
          <a:graphicData uri="http://schemas.openxmlformats.org/drawingml/2006/table">
            <a:tbl>
              <a:tblPr/>
              <a:tblGrid>
                <a:gridCol w="1247760"/>
                <a:gridCol w="632448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d0cf4"/>
                          </a:solidFill>
                          <a:latin typeface="Arial"/>
                        </a:rPr>
                        <a:t>И.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187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ничто, ник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187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</a:tr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d0cf4"/>
                          </a:solidFill>
                          <a:latin typeface="Arial"/>
                        </a:rPr>
                        <a:t>Р.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1872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и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чего,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и </a:t>
                      </a:r>
                      <a:r>
                        <a:rPr b="1" lang="ru-RU" sz="2800" spc="-1" strike="noStrike">
                          <a:solidFill>
                            <a:srgbClr val="2d0cf4"/>
                          </a:solidFill>
                          <a:latin typeface="Arial"/>
                        </a:rPr>
                        <a:t>от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чего,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и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ого,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и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2d0cf4"/>
                          </a:solidFill>
                          <a:latin typeface="Arial"/>
                        </a:rPr>
                        <a:t>от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к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1872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d0cf4"/>
                          </a:solidFill>
                          <a:latin typeface="Arial"/>
                        </a:rPr>
                        <a:t>Д.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и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чему,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и</a:t>
                      </a:r>
                      <a:r>
                        <a:rPr b="1" lang="ru-RU" sz="2800" spc="-1" strike="noStrike">
                          <a:solidFill>
                            <a:srgbClr val="2d0cf4"/>
                          </a:solidFill>
                          <a:latin typeface="Arial"/>
                        </a:rPr>
                        <a:t> к 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чему,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и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ому,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и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2d0cf4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ком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d0cf4"/>
                          </a:solidFill>
                          <a:latin typeface="Arial"/>
                        </a:rPr>
                        <a:t>В.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и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что,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и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2d0cf4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что,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и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2d0cf4"/>
                          </a:solidFill>
                          <a:latin typeface="Arial"/>
                        </a:rPr>
                        <a:t>за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что,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и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d0cf4"/>
                          </a:solidFill>
                          <a:latin typeface="Arial"/>
                        </a:rPr>
                        <a:t>Т.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и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чем,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и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2d0cf4"/>
                          </a:solidFill>
                          <a:latin typeface="Arial"/>
                        </a:rPr>
                        <a:t>за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чем,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и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2d0cf4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кем,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и </a:t>
                      </a:r>
                      <a:r>
                        <a:rPr b="1" lang="ru-RU" sz="2800" spc="-1" strike="noStrike">
                          <a:solidFill>
                            <a:srgbClr val="2d0cf4"/>
                          </a:solidFill>
                          <a:latin typeface="Arial"/>
                        </a:rPr>
                        <a:t>за 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е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d0cf4"/>
                          </a:solidFill>
                          <a:latin typeface="Arial"/>
                        </a:rPr>
                        <a:t>П.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и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2d0cf4"/>
                          </a:solidFill>
                          <a:latin typeface="Arial"/>
                        </a:rPr>
                        <a:t>о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чём,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и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2d0cf4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чём,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и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2d0cf4"/>
                          </a:solidFill>
                          <a:latin typeface="Arial"/>
                        </a:rPr>
                        <a:t>о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ком,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и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2d0cf4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к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амостоятельная работа</a:t>
            </a:r>
            <a:br>
              <a:rPr sz="2400"/>
            </a:br>
            <a:r>
              <a:rPr b="1" lang="ru-RU" sz="2400" spc="-1" strike="noStrike">
                <a:solidFill>
                  <a:srgbClr val="70ffff"/>
                </a:solidFill>
                <a:latin typeface="Arial"/>
              </a:rPr>
              <a:t>1. Вставь личные мест., определи их лицо.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В.поминаеш. (о ком?)…, ра.сердиш.ся (на кого?)…, ра.спросиш. (кого?)…, пр.смотрет.ся (к кому?)…, ра.стат.ся (с кем?)…, уч.ствуеш. (с кем?)… .</a:t>
            </a:r>
            <a:br>
              <a:rPr sz="2400"/>
            </a:br>
            <a:r>
              <a:rPr b="1" lang="ru-RU" sz="2400" spc="-1" strike="noStrike">
                <a:solidFill>
                  <a:srgbClr val="70ffff"/>
                </a:solidFill>
                <a:latin typeface="Arial"/>
              </a:rPr>
              <a:t>2. Укажи падеж возвр. мест.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Выйти (из) себя, гордит.ся собой, думаеш. (о) себе.</a:t>
            </a:r>
            <a:br>
              <a:rPr sz="2400"/>
            </a:br>
            <a:r>
              <a:rPr b="1" lang="ru-RU" sz="2400" spc="-1" strike="noStrike">
                <a:solidFill>
                  <a:srgbClr val="70ffff"/>
                </a:solidFill>
                <a:latin typeface="Arial"/>
              </a:rPr>
              <a:t>3. Расставь знаки препинания, укажи разряд мест.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В реч.к. пошли (подо) л.дом пузыри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Нач.ли снега пр.сить сн.гири. </a:t>
            </a:r>
            <a:r>
              <a:rPr b="1" lang="ru-RU" sz="2400" spc="-1" strike="noStrike">
                <a:solidFill>
                  <a:srgbClr val="70ffff"/>
                </a:solidFill>
                <a:latin typeface="Arial"/>
              </a:rPr>
              <a:t>(Синтакс. разбор)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Глянула поч.ка (из)вербы тугой: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Что это Что это Мес.ц к.кой</a:t>
            </a:r>
            <a:br>
              <a:rPr sz="2400"/>
            </a:br>
            <a:r>
              <a:rPr b="1" lang="ru-RU" sz="2400" spc="-1" strike="noStrike">
                <a:solidFill>
                  <a:srgbClr val="70ffff"/>
                </a:solidFill>
                <a:latin typeface="Arial"/>
              </a:rPr>
              <a:t>4. Раскрой скобки, укажи разряд мест.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(Н.)чем хвалит.ся, (не)ответиш. (н.)кому, (не) ра.спросиш. (н.)кого, (н.) (с)кем (не)договориш.ся, кто(то) постуч.л, (кое)(с)кем повстр.ч.т.ся, кто(либо), кто(н.будь) .делал, какую(н.будь) брош.ру, что(то), (ни)какими л.карствами, (н.)чего делать, ч.ими(то).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004"/>
                </a:solidFill>
                <a:latin typeface="Garamond"/>
              </a:rPr>
              <a:t>Притяжательные местоимения 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Garamond"/>
              </a:rPr>
              <a:t>Мой, твой, свой, наш, ваш.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 Притяжательные местоимения указывают на </a:t>
            </a:r>
            <a:r>
              <a:rPr b="1" lang="ru-RU" sz="3600" spc="-1" strike="noStrike">
                <a:solidFill>
                  <a:srgbClr val="00b050"/>
                </a:solidFill>
                <a:latin typeface="Garamond"/>
              </a:rPr>
              <a:t>принадлежность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. Они </a:t>
            </a:r>
            <a:r>
              <a:rPr b="1" lang="ru-RU" sz="3600" spc="-1" strike="noStrike">
                <a:solidFill>
                  <a:srgbClr val="fcf004"/>
                </a:solidFill>
                <a:latin typeface="Garamond"/>
              </a:rPr>
              <a:t>склоняются как прилагательные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: по </a:t>
            </a:r>
            <a:r>
              <a:rPr b="1" lang="ru-RU" sz="3600" spc="-1" strike="noStrike">
                <a:solidFill>
                  <a:srgbClr val="fcf004"/>
                </a:solidFill>
                <a:latin typeface="Garamond"/>
              </a:rPr>
              <a:t>числам, родам, падежам.</a:t>
            </a:r>
            <a:br>
              <a:rPr sz="3600"/>
            </a:br>
            <a:r>
              <a:rPr b="1" lang="ru-RU" sz="3600" spc="-1" strike="noStrike">
                <a:solidFill>
                  <a:srgbClr val="fcf004"/>
                </a:solidFill>
                <a:latin typeface="Garamond"/>
              </a:rPr>
              <a:t>Формы Р.п. личного мест. 3 лица его, её могут употребляться для обозначения принадлежности.</a:t>
            </a:r>
            <a:br>
              <a:rPr sz="3600"/>
            </a:br>
            <a:r>
              <a:rPr b="1" lang="ru-RU" sz="3600" spc="-1" strike="noStrike">
                <a:solidFill>
                  <a:srgbClr val="fcf004"/>
                </a:solidFill>
                <a:latin typeface="Garamond"/>
              </a:rPr>
              <a:t>Его, её, их рассказ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/>
          </p:nvPr>
        </p:nvSpPr>
        <p:spPr>
          <a:xfrm>
            <a:off x="457200" y="214200"/>
            <a:ext cx="8229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Garamond"/>
              </a:rPr>
              <a:t>       </a:t>
            </a: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Указательные местоимен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Тот, этот, такой, таков, стольк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Указательные местоимения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тот, этот, так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изменяются по падежам и числа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Местоимение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таков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изменяется по родам 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числа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        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б</a:t>
            </a: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 этом –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</a:t>
            </a: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 то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       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б</a:t>
            </a: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 этой –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 </a:t>
            </a: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то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       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б</a:t>
            </a: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 этих –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</a:t>
            </a: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 тех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/>
          </p:nvPr>
        </p:nvSpPr>
        <p:spPr>
          <a:xfrm>
            <a:off x="457200" y="214200"/>
            <a:ext cx="8229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cf004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fcf004"/>
                </a:solidFill>
                <a:latin typeface="Times New Roman"/>
              </a:rPr>
              <a:t>Определительные местоим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cf004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cf004"/>
                </a:solidFill>
                <a:latin typeface="Times New Roman"/>
              </a:rPr>
              <a:t>указывают на обобщённо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cf004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cf004"/>
                </a:solidFill>
                <a:latin typeface="Times New Roman"/>
              </a:rPr>
              <a:t>качество предмета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cf004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fcf004"/>
                </a:solidFill>
                <a:latin typeface="Times New Roman"/>
              </a:rPr>
              <a:t>Они изменяются по родам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cf004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cf004"/>
                </a:solidFill>
                <a:latin typeface="Times New Roman"/>
              </a:rPr>
              <a:t>падежам, числам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cf004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fcf004"/>
                </a:solidFill>
                <a:latin typeface="Times New Roman"/>
              </a:rPr>
              <a:t>Весь, всякий, каждый, сам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cf004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cf004"/>
                </a:solidFill>
                <a:latin typeface="Times New Roman"/>
              </a:rPr>
              <a:t>самый, любой, иной, другой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клонение местоимений сам, самый сам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193" name=""/>
          <p:cNvGraphicFramePr/>
          <p:nvPr/>
        </p:nvGraphicFramePr>
        <p:xfrm>
          <a:off x="357120" y="828720"/>
          <a:ext cx="8501040" cy="5743440"/>
        </p:xfrm>
        <a:graphic>
          <a:graphicData uri="http://schemas.openxmlformats.org/drawingml/2006/table">
            <a:tbl>
              <a:tblPr/>
              <a:tblGrid>
                <a:gridCol w="3429000"/>
                <a:gridCol w="2643120"/>
                <a:gridCol w="2428920"/>
              </a:tblGrid>
              <a:tr h="9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.п  с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а'м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ама'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5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Р.п. самого'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са'м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само'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9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Д.п.самом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са'мом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само'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В.п.сам, самого'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са'мый са'м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самоё, саму'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95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Т.п. сами'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са'мы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само'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П.п.о само'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о са'м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само'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9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орфологический разбор местоимения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.Часть речи. Общее значение (указ. на предмет, признак, количество)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II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. Морфологические признаки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1. Н.ф.(Им. п. ед.ч.)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2. Постоянные признаки: а) разряд, б) лицо (у личных местоимений) 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3. Непостоянные признаки: а) падеж, б) число (если есть), в) род (если есть). 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III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. Синтаксическая роль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стоимение -  часть речи, указывает на  предметы, признаки и количества, но не называет и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то? Что? Сколько? Чей? Какой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носятся к м.р., ж.р., ср. р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змен.  по падежам, а некоторые по родам, числ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предл. – подл., дополн.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42920" y="103320"/>
            <a:ext cx="8786880" cy="625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оверочная работа</a:t>
            </a:r>
            <a:br>
              <a:rPr sz="2400"/>
            </a:br>
            <a:r>
              <a:rPr b="1" lang="ru-RU" sz="2400" spc="-1" strike="noStrike">
                <a:solidFill>
                  <a:srgbClr val="0093f5"/>
                </a:solidFill>
                <a:latin typeface="Verdana"/>
              </a:rPr>
              <a:t>1.Вставьте пропущенные буквы, укажите разряд, падеж местоимений.</a:t>
            </a:r>
            <a:br>
              <a:rPr sz="2400"/>
            </a:br>
            <a:r>
              <a:rPr b="1" lang="ru-RU" sz="2400" spc="-1" strike="noStrike">
                <a:solidFill>
                  <a:srgbClr val="00b050"/>
                </a:solidFill>
                <a:latin typeface="Verdana"/>
              </a:rPr>
              <a:t>Какой(то) ш.рох, что(то) в в.лосипед., пр.обр.сти (н.)чего, (н.)с кем (не) встретит.ся, (н.)(перед) кем (не) отчитыват.ся, (н.)ч.им пр.су.ствием, (н.)кто (не)ра.судит, в этом .дани., (н.)(с)кого спраш.вать, (кое) кто из уч.ников, (н.) (под) каким видом, (н.)кем (не) замениш., (не)ра.скажеш. (ни)(о)чём, по.сорились (н.)(за) что, торопит.ся (н.)(к)чему, (н.)чего (не)было, ра.скажеш. (кое)что, (кое)(у)кого спросиш., в ответе (за) себя, (на)какой(нибудь)ч.с, каждому в.т.рану, в (не)скольких соч.нениях, (в) любую п.году. </a:t>
            </a:r>
            <a:br>
              <a:rPr sz="2400"/>
            </a:br>
            <a:r>
              <a:rPr b="1" lang="ru-RU" sz="2400" spc="-1" strike="noStrike">
                <a:solidFill>
                  <a:srgbClr val="0093f5"/>
                </a:solidFill>
                <a:latin typeface="Verdana"/>
              </a:rPr>
              <a:t>2. Морфологический разбор местоимений  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  Каждому(ученику), в нескольких (тетрадях).  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213920" y="2071800"/>
            <a:ext cx="53578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722160" y="4996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ahoma"/>
              </a:rPr>
              <a:t>    </a:t>
            </a:r>
            <a:r>
              <a:rPr b="1" lang="ru-RU" sz="3600" spc="-1" strike="noStrike">
                <a:solidFill>
                  <a:srgbClr val="0070c0"/>
                </a:solidFill>
                <a:latin typeface="Tahoma"/>
              </a:rPr>
              <a:t>Личные местоиме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6" name=""/>
          <p:cNvGraphicFramePr/>
          <p:nvPr/>
        </p:nvGraphicFramePr>
        <p:xfrm>
          <a:off x="1214280" y="1928880"/>
          <a:ext cx="5340600" cy="4687920"/>
        </p:xfrm>
        <a:graphic>
          <a:graphicData uri="http://schemas.openxmlformats.org/drawingml/2006/table">
            <a:tbl>
              <a:tblPr/>
              <a:tblGrid>
                <a:gridCol w="1779840"/>
                <a:gridCol w="1780920"/>
                <a:gridCol w="1779840"/>
              </a:tblGrid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д.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н.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ы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7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ы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ы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н, она, он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ни 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285480" y="142560"/>
            <a:ext cx="84121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лонение личных местоим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9" name=""/>
          <p:cNvGraphicFramePr/>
          <p:nvPr/>
        </p:nvGraphicFramePr>
        <p:xfrm>
          <a:off x="0" y="762120"/>
          <a:ext cx="9144000" cy="5914800"/>
        </p:xfrm>
        <a:graphic>
          <a:graphicData uri="http://schemas.openxmlformats.org/drawingml/2006/table">
            <a:tbl>
              <a:tblPr/>
              <a:tblGrid>
                <a:gridCol w="500040"/>
                <a:gridCol w="1281240"/>
                <a:gridCol w="1189080"/>
                <a:gridCol w="1380960"/>
                <a:gridCol w="1104840"/>
                <a:gridCol w="1094040"/>
                <a:gridCol w="1296720"/>
                <a:gridCol w="1297080"/>
              </a:tblGrid>
              <a:tr h="91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91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ме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н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теб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е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и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м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н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теб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ем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91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ме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н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теб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е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и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мно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н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тобо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ею (ей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и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13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обо м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о н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о теб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о в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о нё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о н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о ни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42920" y="277560"/>
            <a:ext cx="8858160" cy="636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скрой скобки, укажи падеж и лицо местоимений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Ра.скажеш. обо (я)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ра.спросиш. о (мы)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тоскуеш. по (мы) 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ра.глядиш. (она) 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и.бегаеш. (они) 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гордиш.ся (я)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ра.хваливаеш. (она)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ра.сматриваеш. (он)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напишеш. (мы)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в.грус.нёш. по (вы)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.делаеш. для (вы)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ра.шевелиш. (они)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ра.даш. (они)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ра.толкаеш. (он)</a:t>
            </a:r>
            <a:br>
              <a:rPr sz="28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43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Рас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кажеш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об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не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П.п 1 л.)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рас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просиш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с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П.п 1 л.)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тоскуеш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п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с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Д.п 1 л.)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р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глядиш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ё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В.п 3 л.) 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бегаеш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х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Р.п 3 л.) 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гордиш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ною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Т.п 1 л.)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р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хваливаеш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ё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В.п 3 л.)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р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матриваеш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го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Р.п 3 л.)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напишеш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м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Д.п 1 л.) 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в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грустнёш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п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ас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Д.п 2 л.)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делаешь дл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ас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Р.п 2 л.)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р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шевелиш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х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Р.п 3 л.) 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р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даш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м (Д.п 3 л.)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р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толкаеш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го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Р.п 3 л.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2d0cf4"/>
                </a:solidFill>
                <a:latin typeface="Tahoma"/>
              </a:rPr>
              <a:t>Возвратное местоимение </a:t>
            </a: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себ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86276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* </a:t>
            </a:r>
            <a:r>
              <a:rPr b="1" lang="ru-RU" sz="3600" spc="-1" strike="noStrike">
                <a:solidFill>
                  <a:srgbClr val="2d0cf4"/>
                </a:solidFill>
                <a:latin typeface="Tahoma"/>
              </a:rPr>
              <a:t>указывает на того, о ком говорят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* </a:t>
            </a:r>
            <a:r>
              <a:rPr b="1" lang="ru-RU" sz="3600" spc="-1" strike="noStrike">
                <a:solidFill>
                  <a:srgbClr val="2d0cf4"/>
                </a:solidFill>
                <a:latin typeface="Tahoma"/>
              </a:rPr>
              <a:t>не имеет И.п., рода, числа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* </a:t>
            </a:r>
            <a:r>
              <a:rPr b="1" lang="ru-RU" sz="3600" spc="-1" strike="noStrike">
                <a:solidFill>
                  <a:srgbClr val="2d0cf4"/>
                </a:solidFill>
                <a:latin typeface="Tahoma"/>
              </a:rPr>
              <a:t>в предложении является дополнением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5713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0cf4"/>
                </a:solidFill>
                <a:latin typeface="Tahoma"/>
              </a:rPr>
              <a:t>Сам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ебя (Р.п)</a:t>
            </a:r>
            <a:r>
              <a:rPr b="1" lang="ru-RU" sz="3600" spc="-1" strike="noStrike">
                <a:solidFill>
                  <a:srgbClr val="2d0cf4"/>
                </a:solidFill>
                <a:latin typeface="Tahoma"/>
              </a:rPr>
              <a:t> не хвали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5713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0cf4"/>
                </a:solidFill>
                <a:latin typeface="Tahoma"/>
              </a:rPr>
              <a:t>Думай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о себе (П.п)</a:t>
            </a:r>
            <a:r>
              <a:rPr b="1" lang="ru-RU" sz="3600" spc="-1" strike="noStrike">
                <a:solidFill>
                  <a:srgbClr val="2d0cf4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0cf4"/>
                </a:solidFill>
                <a:latin typeface="Tahoma"/>
              </a:rPr>
              <a:t>Вопросительные местоим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5" name=""/>
          <p:cNvGraphicFramePr/>
          <p:nvPr/>
        </p:nvGraphicFramePr>
        <p:xfrm>
          <a:off x="1182600" y="1614600"/>
          <a:ext cx="6889680" cy="5029200"/>
        </p:xfrm>
        <a:graphic>
          <a:graphicData uri="http://schemas.openxmlformats.org/drawingml/2006/table">
            <a:tbl>
              <a:tblPr/>
              <a:tblGrid>
                <a:gridCol w="6889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                    </a:t>
                      </a: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Вопросительные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               </a:t>
                      </a: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местоимения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акой?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служат для выраже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прос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то? Что?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 изменяются по родам 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исл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оторый?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употреб. в выраж.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отор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                   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ча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кольк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аков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Че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0cf4"/>
                </a:solidFill>
                <a:latin typeface="Tahoma"/>
              </a:rPr>
              <a:t>Относительные местоим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1143000" y="1428840"/>
          <a:ext cx="6889680" cy="5394240"/>
        </p:xfrm>
        <a:graphic>
          <a:graphicData uri="http://schemas.openxmlformats.org/drawingml/2006/table">
            <a:tbl>
              <a:tblPr/>
              <a:tblGrid>
                <a:gridCol w="6889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                        </a:t>
                      </a:r>
                      <a:r>
                        <a:rPr b="1" lang="ru-RU" sz="2400" spc="-1" strike="noStrike">
                          <a:solidFill>
                            <a:srgbClr val="2d0cf4"/>
                          </a:solidFill>
                          <a:latin typeface="Tahoma"/>
                        </a:rPr>
                        <a:t>Относительные местоимения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акой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потребляются без вопро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Ч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ля связи просты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длож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то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составе сложных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Ч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оторый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огут быть разным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ленами предло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коль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а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09:11:32Z</dcterms:created>
  <dc:creator>ученик</dc:creator>
  <dc:description/>
  <dc:language>en-US</dc:language>
  <cp:lastModifiedBy>Компьютер</cp:lastModifiedBy>
  <dcterms:modified xsi:type="dcterms:W3CDTF">2012-03-10T02:28:34Z</dcterms:modified>
  <cp:revision>99</cp:revision>
  <dc:subject/>
  <dc:title>Презентация   Обуховой М.А.</dc:title>
</cp:coreProperties>
</file>