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B42-6240-4F78-8CF7-4876E13D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321-2650-41D4-B095-59BCC0CF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3CC-AFE1-4F79-8C08-B2C58F37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F2F-667B-41A0-A52A-C0F24629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74E8-F28B-48C2-B176-906EED3C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A3B7-0173-4B74-892D-96B7353E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BE0B-E8F9-47E8-A093-7B38EEE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6615-E881-4B0B-8969-A219D645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F66B-12D3-4BDE-BFA2-5CE7C5E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F5D-5EBC-44B2-8774-A189B8E9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84A5-1A0E-48AA-A835-2C2E299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FAF-1CC8-4C66-A64C-E82677B9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7BF1-FB32-4225-9486-B587751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87E-8FE4-4E5F-8797-D3F5F5C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E4F-0CB7-4BA1-87D8-5C565FB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8B65-ACE9-4D92-B852-BBCE822A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44B-BE23-4D35-BCEB-79F3F29B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107-D970-496E-BFFF-DEA3B817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FFF-66A1-4716-8A2E-F246A03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AC1-D40A-4806-BB7C-6CFC5674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51B-674C-4133-8E51-F1D0C0C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794-41DD-4490-8781-2B5838E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B76-7253-42E9-AF90-7D05EED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56E-E002-4D6F-BCAA-0393CB6B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1749-28BD-4CE2-B4FB-75C9A99A9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45CE-4CBB-4125-B8E4-5CA69CBCF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«О, Счастливчик !»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      “Oh, you are Lucky !”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858204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hich is the biggest planet in the solar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2997360"/>
          <a:ext cx="8209080" cy="3527280"/>
        </p:xfrm>
        <a:graphic>
          <a:graphicData uri="http://schemas.openxmlformats.org/drawingml/2006/table">
            <a:tbl>
              <a:tblPr/>
              <a:tblGrid>
                <a:gridCol w="4103640"/>
                <a:gridCol w="410544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piter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u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anu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Where was the first underground railway in the world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089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2421000"/>
          <a:ext cx="7921440" cy="381636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do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i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co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Do you know Christmas Day? What is wrong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2421000"/>
          <a:ext cx="7993080" cy="3816360"/>
        </p:xfrm>
        <a:graphic>
          <a:graphicData uri="http://schemas.openxmlformats.org/drawingml/2006/table">
            <a:tbl>
              <a:tblPr/>
              <a:tblGrid>
                <a:gridCol w="3959280"/>
                <a:gridCol w="403380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y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cking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 egg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Who wrote the book 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«</a:t>
            </a: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Robinson Crusoe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» </a:t>
            </a: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(1719)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0000" y="2492280"/>
          <a:ext cx="8136000" cy="3745080"/>
        </p:xfrm>
        <a:graphic>
          <a:graphicData uri="http://schemas.openxmlformats.org/drawingml/2006/table">
            <a:tbl>
              <a:tblPr/>
              <a:tblGrid>
                <a:gridCol w="4103640"/>
                <a:gridCol w="403236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nathan Swif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n Mil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niel Defo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dyard Kiplin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Do you know a popular British  music group 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«</a:t>
            </a: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The Beatles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»?</a:t>
            </a: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 How many people are there in this group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26920" y="2565360"/>
          <a:ext cx="8137800" cy="3743280"/>
        </p:xfrm>
        <a:graphic>
          <a:graphicData uri="http://schemas.openxmlformats.org/drawingml/2006/table">
            <a:tbl>
              <a:tblPr/>
              <a:tblGrid>
                <a:gridCol w="4032360"/>
                <a:gridCol w="410544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v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x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u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Have you read Winnie-the-Pooh by Alan Milne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?</a:t>
            </a: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 Christopher Robin had  many toys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?</a:t>
            </a: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 Who isn’t the character of the story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?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2492280"/>
          <a:ext cx="8066160" cy="3961080"/>
        </p:xfrm>
        <a:graphic>
          <a:graphicData uri="http://schemas.openxmlformats.org/drawingml/2006/table">
            <a:tbl>
              <a:tblPr/>
              <a:tblGrid>
                <a:gridCol w="4032360"/>
                <a:gridCol w="4033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ddy - bea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g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bbi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Who first walked on the Moon</a:t>
            </a:r>
            <a:r>
              <a:rPr b="1" i="1" lang="ru-RU" sz="2800" spc="-1" strike="noStrike">
                <a:solidFill>
                  <a:srgbClr val="de2a2a"/>
                </a:solidFill>
                <a:latin typeface="Arial Black"/>
              </a:rPr>
              <a:t>?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71640" y="2565360"/>
          <a:ext cx="7921440" cy="374328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. Gagari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. Armstron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Glen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. Hogarth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2a"/>
                </a:solidFill>
                <a:latin typeface="Arial Black"/>
              </a:rPr>
              <a:t>When did Armstrong walk on the Moon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71640" y="2492280"/>
          <a:ext cx="7921440" cy="360072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2a2a"/>
                </a:solidFill>
                <a:latin typeface="Arial Black"/>
              </a:rPr>
              <a:t>В каком слове, звук передаваемый буквой </a:t>
            </a:r>
            <a:r>
              <a:rPr b="1" lang="ru-RU" sz="2800" spc="-1" strike="noStrike">
                <a:solidFill>
                  <a:srgbClr val="ffff66"/>
                </a:solidFill>
                <a:latin typeface="Arial Black"/>
              </a:rPr>
              <a:t>«А»,</a:t>
            </a:r>
            <a:r>
              <a:rPr b="1" lang="ru-RU" sz="2800" spc="-1" strike="noStrike">
                <a:solidFill>
                  <a:srgbClr val="de2a2a"/>
                </a:solidFill>
                <a:latin typeface="Arial Black"/>
              </a:rPr>
              <a:t> отличается от остальных её звуковых выражений?</a:t>
            </a:r>
            <a:br>
              <a:rPr sz="2800"/>
            </a:br>
            <a:r>
              <a:rPr b="1" lang="en-US" sz="2800" spc="-1" strike="noStrike">
                <a:solidFill>
                  <a:srgbClr val="de2a2a"/>
                </a:solidFill>
                <a:latin typeface="Arial Black"/>
              </a:rPr>
              <a:t> ( A,B,C,D 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00000" y="2421000"/>
          <a:ext cx="7993080" cy="3940200"/>
        </p:xfrm>
        <a:graphic>
          <a:graphicData uri="http://schemas.openxmlformats.org/drawingml/2006/table">
            <a:tbl>
              <a:tblPr/>
              <a:tblGrid>
                <a:gridCol w="4032360"/>
                <a:gridCol w="396072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game;2)pale;3)cab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cake;5)bake;6)Kat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arm;2)dark; 3)barn;4)care;5)car;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skate;2)flat;3)man;4)mat;5)glad;6)b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dare;2)care;c)farm;4)bare;5) fa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85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2a2a"/>
                </a:solidFill>
                <a:latin typeface="Arial Black"/>
              </a:rPr>
              <a:t>Прослушайте тексты и расставьте в таблицах в нужной последовательности номера предложенных текстов</a:t>
            </a:r>
            <a:br>
              <a:rPr sz="2800"/>
            </a:br>
            <a:r>
              <a:rPr b="1" lang="en-US" sz="2800" spc="-1" strike="noStrike">
                <a:solidFill>
                  <a:srgbClr val="de2a2a"/>
                </a:solidFill>
                <a:latin typeface="Arial Black"/>
              </a:rPr>
              <a:t>( 1, 2, 3, 4, 5 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2a2a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y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2565360"/>
          <a:ext cx="7993080" cy="3527640"/>
        </p:xfrm>
        <a:graphic>
          <a:graphicData uri="http://schemas.openxmlformats.org/drawingml/2006/table">
            <a:tbl>
              <a:tblPr/>
              <a:tblGrid>
                <a:gridCol w="1727280"/>
                <a:gridCol w="1584360"/>
                <a:gridCol w="1512720"/>
                <a:gridCol w="1584360"/>
                <a:gridCol w="158436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a.m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30 a.m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p.m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p.m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p.m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2a2a"/>
                </a:solidFill>
                <a:latin typeface="Arial Black"/>
              </a:rPr>
              <a:t>Выберите и вставьте походящее по смыслу слово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hat is the first day of a week in Britain? The first day of a week is 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997360"/>
          <a:ext cx="7848360" cy="316836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Saturda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Sunda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Monda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Tuesda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3026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Who was the first man in space?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0071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5280" y="2060640"/>
          <a:ext cx="7921800" cy="4327560"/>
        </p:xfrm>
        <a:graphic>
          <a:graphicData uri="http://schemas.openxmlformats.org/drawingml/2006/table">
            <a:tbl>
              <a:tblPr/>
              <a:tblGrid>
                <a:gridCol w="3995640"/>
                <a:gridCol w="392616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. Armstron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 Tereshkov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u. Gagari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Leonov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2a2a"/>
                </a:solidFill>
                <a:latin typeface="Arial Black"/>
              </a:rPr>
              <a:t>Выберите и вставьте подходящее по смыслу слово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2a2a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person who plays in films is a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2492280"/>
          <a:ext cx="7848360" cy="3673440"/>
        </p:xfrm>
        <a:graphic>
          <a:graphicData uri="http://schemas.openxmlformats.org/drawingml/2006/table">
            <a:tbl>
              <a:tblPr/>
              <a:tblGrid>
                <a:gridCol w="3816360"/>
                <a:gridCol w="40320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o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s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ch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3db9"/>
                </a:solidFill>
                <a:latin typeface="Arial Black"/>
              </a:rPr>
              <a:t>When is the weather hot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3db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71640" y="2492280"/>
          <a:ext cx="7921440" cy="360072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um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er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ter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3db9"/>
                </a:solidFill>
                <a:latin typeface="Arial Black"/>
              </a:rPr>
              <a:t>Выберите и вставьте подходящее по смыслу слово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3db9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He… at English les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00000" y="2492280"/>
          <a:ext cx="7993080" cy="3673440"/>
        </p:xfrm>
        <a:graphic>
          <a:graphicData uri="http://schemas.openxmlformats.org/drawingml/2006/table">
            <a:tbl>
              <a:tblPr/>
              <a:tblGrid>
                <a:gridCol w="4032360"/>
                <a:gridCol w="396072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p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k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ak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3db9"/>
                </a:solidFill>
                <a:latin typeface="Arial Black"/>
              </a:rPr>
              <a:t>Выберите и вставьте подходящее по смыслу слов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3db9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609d9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is the London home of the Qu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2133720"/>
          <a:ext cx="8064360" cy="431964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minster Abbe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nt Garde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ckingham Palac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ower of Londo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85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3db9"/>
                </a:solidFill>
                <a:latin typeface="Arial Black"/>
              </a:rPr>
              <a:t>What English Tense is it 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3db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eb3db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We worked hard. We gathered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39640" y="1916280"/>
          <a:ext cx="8280360" cy="4392360"/>
        </p:xfrm>
        <a:graphic>
          <a:graphicData uri="http://schemas.openxmlformats.org/drawingml/2006/table">
            <a:tbl>
              <a:tblPr/>
              <a:tblGrid>
                <a:gridCol w="4176720"/>
                <a:gridCol w="4103640"/>
              </a:tblGrid>
              <a:tr h="21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esent Simp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esent Progressive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Simp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uture Simp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3db9"/>
                </a:solidFill>
                <a:latin typeface="Arial Black"/>
              </a:rPr>
              <a:t>Выберите необходимый артикл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856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3db9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Russian people like…… t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1700280"/>
          <a:ext cx="8785440" cy="489744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24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8567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3db9"/>
                </a:solidFill>
                <a:latin typeface="Arial Black"/>
              </a:rPr>
              <a:t>Выберите правильно составленное предложение из данных слов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3db9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that / has / a / boy / with/ cat / kittens/ s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2060640"/>
          <a:ext cx="8712000" cy="4681440"/>
        </p:xfrm>
        <a:graphic>
          <a:graphicData uri="http://schemas.openxmlformats.org/drawingml/2006/table">
            <a:tbl>
              <a:tblPr/>
              <a:tblGrid>
                <a:gridCol w="4319280"/>
                <a:gridCol w="4392720"/>
              </a:tblGrid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     That cat has seven kittens with a boy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   That boy has a cat with seven kitten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       Has that cat seven kittens with a boy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   Seven kittens has a cat with that boy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385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3db9"/>
                </a:solidFill>
                <a:latin typeface="Arial Black"/>
              </a:rPr>
              <a:t>Выберите правильный ответ на вопрос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0071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3db9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Have they got bicyc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55640" y="1557360"/>
          <a:ext cx="7993080" cy="4032360"/>
        </p:xfrm>
        <a:graphic>
          <a:graphicData uri="http://schemas.openxmlformats.org/drawingml/2006/table">
            <a:tbl>
              <a:tblPr/>
              <a:tblGrid>
                <a:gridCol w="3960720"/>
                <a:gridCol w="403236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    No, they haven’t got a computer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            No, they  haven’t got CD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     Yes , they have got bicycl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Yes , they hav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t  a computer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3db9"/>
                </a:solidFill>
                <a:latin typeface="Arial Black"/>
              </a:rPr>
              <a:t>Выберите правильную форму прилагательного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007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3db9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You are tall. I am ……than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00000" y="1989000"/>
          <a:ext cx="7848720" cy="4680000"/>
        </p:xfrm>
        <a:graphic>
          <a:graphicData uri="http://schemas.openxmlformats.org/drawingml/2006/table">
            <a:tbl>
              <a:tblPr/>
              <a:tblGrid>
                <a:gridCol w="3888000"/>
                <a:gridCol w="396072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l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alles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all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3db9"/>
                </a:solidFill>
                <a:latin typeface="Arial Black"/>
              </a:rPr>
              <a:t>Выберите и вставьте в предложение правильную форму глагол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3db9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My mother…….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55640" y="1773360"/>
          <a:ext cx="8209080" cy="4895640"/>
        </p:xfrm>
        <a:graphic>
          <a:graphicData uri="http://schemas.openxmlformats.org/drawingml/2006/table">
            <a:tbl>
              <a:tblPr/>
              <a:tblGrid>
                <a:gridCol w="4103640"/>
                <a:gridCol w="41054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ches T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watching T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watching T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ch T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Which is the biggest ocean on our planet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42920" y="2421000"/>
          <a:ext cx="7921800" cy="424800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dia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tlant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cif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rct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3db9"/>
                </a:solidFill>
                <a:latin typeface="Arial Black"/>
              </a:rPr>
              <a:t>Прослушайте тексты и расставьте в таблицах в нужной последовательности номера предложенных текстов</a:t>
            </a:r>
            <a:br>
              <a:rPr sz="2800"/>
            </a:br>
            <a:r>
              <a:rPr b="1" lang="en-US" sz="2800" spc="-1" strike="noStrike">
                <a:solidFill>
                  <a:srgbClr val="eb3db9"/>
                </a:solidFill>
                <a:latin typeface="Arial Black"/>
              </a:rPr>
              <a:t>( 1, 2, 3, 4, 5 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3db9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3609d9"/>
                </a:solidFill>
                <a:latin typeface="Arial"/>
              </a:rPr>
              <a:t>London Sightseeing T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2637000"/>
          <a:ext cx="8497800" cy="3960720"/>
        </p:xfrm>
        <a:graphic>
          <a:graphicData uri="http://schemas.openxmlformats.org/drawingml/2006/table">
            <a:tbl>
              <a:tblPr/>
              <a:tblGrid>
                <a:gridCol w="1584360"/>
                <a:gridCol w="1728720"/>
                <a:gridCol w="1800360"/>
                <a:gridCol w="1655640"/>
                <a:gridCol w="1728720"/>
              </a:tblGrid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nt Garde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mins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b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ckingha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ent’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falga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u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George Washington was__________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2421000"/>
          <a:ext cx="7920000" cy="4032360"/>
        </p:xfrm>
        <a:graphic>
          <a:graphicData uri="http://schemas.openxmlformats.org/drawingml/2006/table">
            <a:tbl>
              <a:tblPr/>
              <a:tblGrid>
                <a:gridCol w="3959280"/>
                <a:gridCol w="39607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writ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residen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engine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king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Which is largest continent on our planet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2565360"/>
          <a:ext cx="7921440" cy="367200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ric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Americ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b7"/>
                </a:solidFill>
                <a:latin typeface="Arial Black"/>
              </a:rPr>
              <a:t>Which is the longest river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2492280"/>
          <a:ext cx="7993080" cy="3673440"/>
        </p:xfrm>
        <a:graphic>
          <a:graphicData uri="http://schemas.openxmlformats.org/drawingml/2006/table">
            <a:tbl>
              <a:tblPr/>
              <a:tblGrid>
                <a:gridCol w="3959280"/>
                <a:gridCol w="403380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Volg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Mississipp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mazo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i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 Black"/>
              </a:rPr>
              <a:t>Which is the highest mountain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71640" y="2492280"/>
          <a:ext cx="7921440" cy="367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8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es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limanjar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bru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 Blan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Which is the smallest country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71640" y="2492280"/>
          <a:ext cx="7921440" cy="367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Marin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tican Cit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ac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echtenstei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He was English. He was born in 1564. He was a writer and an actor. He died in 1616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2492280"/>
          <a:ext cx="7993080" cy="3600720"/>
        </p:xfrm>
        <a:graphic>
          <a:graphicData uri="http://schemas.openxmlformats.org/drawingml/2006/table">
            <a:tbl>
              <a:tblPr/>
              <a:tblGrid>
                <a:gridCol w="3959280"/>
                <a:gridCol w="4033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. Car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. Kip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. Shakespe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Sw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9:44:05Z</dcterms:created>
  <dc:creator>000</dc:creator>
  <dc:description/>
  <dc:language>en-US</dc:language>
  <cp:lastModifiedBy>000</cp:lastModifiedBy>
  <dcterms:modified xsi:type="dcterms:W3CDTF">2009-01-18T09:49:53Z</dcterms:modified>
  <cp:revision>6</cp:revision>
  <dc:subject/>
  <dc:title>         «О, Счастливчик !»         “Oh, you are Lucky !”</dc:title>
</cp:coreProperties>
</file>