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6837C-62B9-48C7-9D79-108F03D4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BE03-E5AC-46F3-9ADD-C0F1D0B4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A30C8-531F-4971-8B01-0722A5FA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4B8F1-73A4-4A44-94C4-ECEEC7EA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A806-7302-4EB6-9A35-BF263C80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BC07-1A49-4D58-990D-91AECD2E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EA28-475D-48F7-8B1F-8EB06FF5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EF81-1BA1-46CD-B977-6B7A1C80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7ADF-EAAC-49EB-88D6-BC1DB4EF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3440-162A-400A-95EE-D1EC6474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D606-3155-4BF3-861A-2DAEA7CB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E7884-47DB-42C8-922F-C7701B10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F9E5-C5A5-4A9B-AE48-585B502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0773-829C-42F9-85DA-3F8917C2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0DE8-5639-467F-8E2B-BD70B5A1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DA50-5972-456C-ADC2-1B1A3C93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86C0-26F3-4393-BA9A-F9A9C5AF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46CBE-3AD5-4EC9-AD7D-80C6CF82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C760A-9838-48F4-ACCD-2384F6C0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7BD67-BDAB-460D-92AC-947B1826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F737A-F76F-4788-809D-35541384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2A936-98C5-46D2-8C57-2045BCF3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7ECE7-7799-4923-84A9-B1CA6317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17B0C-4497-453A-9504-CFEE04F0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4C30-E5FC-4160-BDFE-976B9E43CA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C8F3-1994-4B0C-B312-BB8801AB6D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aramond"/>
              </a:rPr>
              <a:t>Праздник   здоровь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427280" y="4581360"/>
            <a:ext cx="4136760" cy="15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Здоровье не купишь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его разум дари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анция   Солнечна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Содержимое 5" descr="preview.jpg"/>
          <p:cNvPicPr/>
          <p:nvPr/>
        </p:nvPicPr>
        <p:blipFill>
          <a:blip r:embed="rId1"/>
          <a:stretch/>
        </p:blipFill>
        <p:spPr>
          <a:xfrm>
            <a:off x="1523880" y="1652760"/>
            <a:ext cx="6096240" cy="44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анция   Витаминна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Содержимое 5" descr="20100813-raw-food_1.jpg"/>
          <p:cNvPicPr/>
          <p:nvPr/>
        </p:nvPicPr>
        <p:blipFill>
          <a:blip r:embed="rId1"/>
          <a:stretch/>
        </p:blipFill>
        <p:spPr>
          <a:xfrm>
            <a:off x="1979640" y="1916280"/>
            <a:ext cx="4968720" cy="4593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флексия</a:t>
            </a:r>
            <a:br>
              <a:rPr sz="44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Всё в твоих руках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Содержимое 5" descr="finger-game.jpg"/>
          <p:cNvPicPr/>
          <p:nvPr/>
        </p:nvPicPr>
        <p:blipFill>
          <a:blip r:embed="rId1"/>
          <a:stretch/>
        </p:blipFill>
        <p:spPr>
          <a:xfrm>
            <a:off x="2050920" y="1700280"/>
            <a:ext cx="5042160" cy="4726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adf3d"/>
                </a:solidFill>
                <a:latin typeface="Garamond"/>
              </a:rPr>
              <a:t>Полезные   сове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то ест красиво, глядит счастливо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Когда я ем, я глух и нем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 Не красен дом пирогами, красен едоками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Кто быстро ест, тот хорошо работает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Несъедобные ягоды собирать в лесу нельзя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Ядовитые грибы собирать в лесу нельзя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Чтобы помощь оказать, рот придётся завяза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Крепким стать нельзя мгновенно. Закаляйся постепенн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Со здоровьем дружен спор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Взгляни вокруг: прекрасная прир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Нас призывает с нею в мире жи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Дай руку, друг! Давай с тобой поможе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Планете и себе здоровье сохранить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Классный руководитель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Лесникова Л.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e5ff"/>
                </a:solidFill>
                <a:latin typeface="Garamond"/>
              </a:rPr>
              <a:t>          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4400" spc="-1" strike="noStrike">
                <a:solidFill>
                  <a:srgbClr val="9adf3d"/>
                </a:solidFill>
                <a:latin typeface="Garamond"/>
              </a:rPr>
              <a:t>Задачи и цели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 воспитывать сознательное отношение к сохранению собственного здоровь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ремление к выполнению режима дня, к правильному питанию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вивать интерес и привычки к регулярным занятиям физкультурой и спорто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ть установки на самовоспитание опрятности и аккурат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лезная бактерия</a:t>
            </a:r>
            <a:br>
              <a:rPr sz="4400"/>
            </a:b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Чтобы громче пелись песни,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Жить чтоб было интересней</a:t>
            </a: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!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Содержимое 7" descr="1280897264_5be21b4333.jpg"/>
          <p:cNvPicPr/>
          <p:nvPr/>
        </p:nvPicPr>
        <p:blipFill>
          <a:blip r:embed="rId1"/>
          <a:stretch/>
        </p:blipFill>
        <p:spPr>
          <a:xfrm>
            <a:off x="2627280" y="2205000"/>
            <a:ext cx="3844800" cy="4248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анция   Чистюлькин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истота – залог здоровь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Рисунок 4" descr="youtube_6e21d5bb310160cc08860a8b5172c1fb0.jpg"/>
          <p:cNvPicPr/>
          <p:nvPr/>
        </p:nvPicPr>
        <p:blipFill>
          <a:blip r:embed="rId1"/>
          <a:stretch/>
        </p:blipFill>
        <p:spPr>
          <a:xfrm>
            <a:off x="1692360" y="234936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       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танция    Ягодна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съедобные ягоды, друзь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бирать в лесу нельзя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каждой яд опасный ес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их случайно съесть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жно сильно отравить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придётся вам лечить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Рисунок 7" descr="1266459582_beresklet.jpg"/>
          <p:cNvPicPr/>
          <p:nvPr/>
        </p:nvPicPr>
        <p:blipFill>
          <a:blip r:embed="rId1"/>
          <a:stretch/>
        </p:blipFill>
        <p:spPr>
          <a:xfrm>
            <a:off x="5484960" y="4005360"/>
            <a:ext cx="3414600" cy="25542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тяпин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Й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Содержимое 5" descr="1294948793_kak-udalit-pyatno-ot-joda.jpg"/>
          <p:cNvPicPr/>
          <p:nvPr/>
        </p:nvPicPr>
        <p:blipFill>
          <a:blip r:embed="rId1"/>
          <a:stretch/>
        </p:blipFill>
        <p:spPr>
          <a:xfrm>
            <a:off x="826920" y="2565360"/>
            <a:ext cx="3333960" cy="2819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Микробам хода нет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Знаем с ранних детских лет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Там микробам хода нет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Где, как стражник у ворот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Их встречает грозный йо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анция    Крепышкин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Содержимое 5" descr="kostya-piter-576x768.jpg"/>
          <p:cNvPicPr/>
          <p:nvPr/>
        </p:nvPicPr>
        <p:blipFill>
          <a:blip r:embed="rId1"/>
          <a:stretch/>
        </p:blipFill>
        <p:spPr>
          <a:xfrm>
            <a:off x="611280" y="2060640"/>
            <a:ext cx="3744720" cy="42307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Brykland.jpg"/>
          <p:cNvPicPr/>
          <p:nvPr/>
        </p:nvPicPr>
        <p:blipFill>
          <a:blip r:embed="rId2"/>
          <a:stretch/>
        </p:blipFill>
        <p:spPr>
          <a:xfrm>
            <a:off x="4643280" y="2133720"/>
            <a:ext cx="4032360" cy="403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анция    Зарядкин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Содержимое 5" descr="20931_1.jpg"/>
          <p:cNvPicPr/>
          <p:nvPr/>
        </p:nvPicPr>
        <p:blipFill>
          <a:blip r:embed="rId1"/>
          <a:stretch/>
        </p:blipFill>
        <p:spPr>
          <a:xfrm>
            <a:off x="1547640" y="1557360"/>
            <a:ext cx="5410440" cy="486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анция   Грибна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Содержимое 5" descr="produce_g_belii_1_h_orig.jpeg"/>
          <p:cNvPicPr/>
          <p:nvPr/>
        </p:nvPicPr>
        <p:blipFill>
          <a:blip r:embed="rId1"/>
          <a:stretch/>
        </p:blipFill>
        <p:spPr>
          <a:xfrm>
            <a:off x="1547640" y="1700280"/>
            <a:ext cx="5400720" cy="4997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8:47:54Z</dcterms:created>
  <dc:creator>BLACK</dc:creator>
  <dc:description/>
  <dc:language>en-US</dc:language>
  <cp:lastModifiedBy>Лидия</cp:lastModifiedBy>
  <dcterms:modified xsi:type="dcterms:W3CDTF">2012-03-04T05:31:17Z</dcterms:modified>
  <cp:revision>42</cp:revision>
  <dc:subject/>
  <dc:title>Покорение космоса</dc:title>
</cp:coreProperties>
</file>