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8.gif" ContentType="image/gif"/>
  <Override PartName="/ppt/media/image19.wmf" ContentType="image/x-wmf"/>
  <Override PartName="/ppt/media/image11.gif" ContentType="image/gif"/>
  <Override PartName="/ppt/media/image9.wmf" ContentType="image/x-wmf"/>
  <Override PartName="/ppt/media/image6.gif" ContentType="image/gif"/>
  <Override PartName="/ppt/media/image17.wmf" ContentType="image/x-wmf"/>
  <Override PartName="/ppt/media/image13.wmf" ContentType="image/x-wmf"/>
  <Override PartName="/ppt/media/image5.gif" ContentType="image/gif"/>
  <Override PartName="/ppt/media/image12.wmf" ContentType="image/x-wmf"/>
  <Override PartName="/ppt/media/image7.wmf" ContentType="image/x-wmf"/>
  <Override PartName="/ppt/media/image20.jpeg" ContentType="image/jpe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14.wmf" ContentType="image/x-wmf"/>
  <Override PartName="/ppt/media/image3.gif" ContentType="image/gif"/>
  <Override PartName="/ppt/media/image22.wmf" ContentType="image/x-wmf"/>
  <Override PartName="/ppt/media/image21.jpeg" ContentType="image/jpeg"/>
  <Override PartName="/ppt/media/image18.wmf" ContentType="image/x-wmf"/>
  <Override PartName="/ppt/media/image16.gif" ContentType="image/gif"/>
  <Override PartName="/ppt/media/image4.gif" ContentType="image/gif"/>
  <Override PartName="/ppt/media/image15.wmf" ContentType="image/x-wmf"/>
  <Override PartName="/ppt/media/image27.gif" ContentType="image/gif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DDB-765E-43FB-BBA5-CD012EC8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36B-6693-46CD-A397-FB9E96B3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DB01-644C-4CBA-A228-365C85F7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999-EEB0-47E7-878D-D88F99B8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0230-4467-49E4-9F9C-9A22A03A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D7DE-2DF8-4CB7-9EA3-AE806EA3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7C2A-A89E-4822-B483-53704488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F5BF-83DF-4DD0-B90F-9DF37FEE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01A8-235C-4CE7-9554-020FDFAB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E09B-F75C-4271-A35E-A494D8D1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BD2B-CC57-4D67-A469-4ECBE33E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1166-F1D9-4AC1-9474-06957EF8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EA71-D64D-4C64-A163-0F657A18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5B4E-1EEB-4BF9-98CC-6B508ED1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65ED-4CED-4C6E-84D5-54DD6D99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6862-7E91-41D5-BABE-C09FC80C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148C-94FE-4145-A2E0-7309122C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AE6B-623D-40AB-AFBB-4A26F4AF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8448-C93C-41E1-B888-22D247B1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EA0-B0F0-4032-B4BB-156855F0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FD0-BDF2-41A3-91F6-331CEE7E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2E14-49EC-44C5-8512-A8A83E8F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258E-EA20-420B-BA36-0268EC20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3173-C153-4675-A054-F9047EE0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5F09-792E-4E32-8D2D-27BD54C4A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297D-27BD-4D3E-8546-12845B139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Логопедическое занятие</a:t>
            </a:r>
            <a:br>
              <a:rPr sz="4400"/>
            </a:b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«Предлоги </a:t>
            </a:r>
            <a:r>
              <a:rPr b="0" i="1" lang="en-US" sz="4400" spc="-1" strike="noStrike" u="sng">
                <a:solidFill>
                  <a:srgbClr val="7b9cb5"/>
                </a:solidFill>
                <a:uFillTx/>
                <a:latin typeface="Tahoma"/>
              </a:rPr>
              <a:t>к, </a:t>
            </a:r>
            <a:r>
              <a:rPr b="0" i="1" lang="en-US" sz="4400" spc="-1" strike="noStrike">
                <a:solidFill>
                  <a:srgbClr val="7b9cb5"/>
                </a:solidFill>
                <a:latin typeface="Tahoma"/>
              </a:rPr>
              <a:t> </a:t>
            </a:r>
            <a:r>
              <a:rPr b="0" i="1" lang="en-US" sz="4400" spc="-1" strike="noStrike" u="sng">
                <a:solidFill>
                  <a:srgbClr val="7b9cb5"/>
                </a:solidFill>
                <a:uFillTx/>
                <a:latin typeface="Tahoma"/>
              </a:rPr>
              <a:t>от</a:t>
            </a: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 класс (аграмматическая дисграфи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556000" y="1916280"/>
            <a:ext cx="4752720" cy="4084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659640" y="333360"/>
            <a:ext cx="16192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5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164280" y="3860640"/>
            <a:ext cx="2979720" cy="2827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95800" cy="2832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076720" y="2060640"/>
            <a:ext cx="16192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507 -0.13595 L 0.11632 0.51422 E">
                                      <p:cBhvr>
                                        <p:cTn id="91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632 0.51422 L -0.45087 -0.11514 E">
                                      <p:cBhvr>
                                        <p:cTn id="94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608 -0.07306 L 0.10035 0.54566 E">
                                      <p:cBhvr>
                                        <p:cTn id="97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632 0.51422 L -0.47448 -0.0941 E">
                                      <p:cBhvr>
                                        <p:cTn id="100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087 -0.11514 L 0.10851 0.54567 E">
                                      <p:cBhvr>
                                        <p:cTn id="103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64280" y="3860640"/>
            <a:ext cx="2511360" cy="2382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826920" y="260280"/>
            <a:ext cx="2737080" cy="2351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076720" y="2060640"/>
            <a:ext cx="16192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pat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6024 -0.25434 C -0.6224 -0.12393 -0.57951 0.06196 -0.46458 0.15954 C -0.32934 0.27422 -0.22396 0.19769 -0.16927 0.14405 L -0.10347 0.06775 C -0.04757 0.01387 0.06059 -0.05965 0.21372 0.07029 C 0.31163 0.15283 0.3724 0.35399 0.30972 0.48416 C 0.24757 0.6141 0.08524 0.6259 -0.01302 0.54381 C -0.16597 0.41387 -0.16111 0.25156 -0.14809 0.16162 L -0.12413 0.04971 C -0.11076 -0.03908 -0.10295 -0.19861 -0.23872 -0.31353 C -0.35347 -0.41087 -0.49826 -0.38405 -0.56024 -0.25434 Z">
                                      <p:cBhvr>
                                        <p:cTn id="109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rcRect l="18715" t="47241" r="13205" b="16323"/>
          <a:stretch/>
        </p:blipFill>
        <p:spPr>
          <a:xfrm>
            <a:off x="304920" y="167652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492"/>
                </a:solidFill>
                <a:latin typeface="Tahoma"/>
              </a:rPr>
              <a:t>Запиши предложения, используя предлоги </a:t>
            </a:r>
            <a:r>
              <a:rPr b="1" i="1" lang="en-US" sz="3200" spc="-1" strike="noStrike" u="sng">
                <a:solidFill>
                  <a:srgbClr val="242492"/>
                </a:solidFill>
                <a:uFillTx/>
                <a:latin typeface="Tahoma"/>
              </a:rPr>
              <a:t>К,</a:t>
            </a:r>
            <a:r>
              <a:rPr b="1" i="1" lang="en-US" sz="3200" spc="-1" strike="noStrike">
                <a:solidFill>
                  <a:srgbClr val="242492"/>
                </a:solidFill>
                <a:latin typeface="Tahoma"/>
              </a:rPr>
              <a:t> </a:t>
            </a:r>
            <a:r>
              <a:rPr b="1" i="1" lang="en-US" sz="3200" spc="-1" strike="noStrike" u="sng">
                <a:solidFill>
                  <a:srgbClr val="242492"/>
                </a:solidFill>
                <a:uFillTx/>
                <a:latin typeface="Tahoma"/>
              </a:rPr>
              <a:t>ОТ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Tahoma"/>
              </a:rPr>
              <a:t>Проверьте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Телёнок убегает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от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волка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корове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Котёнок бежит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дереву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от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собаки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Мышь убегает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от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кошки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норке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492"/>
                </a:solidFill>
                <a:latin typeface="Tahoma"/>
              </a:rPr>
              <a:t>Отгадай, что от чего? Запиши словосочетания, используя предлоги </a:t>
            </a:r>
            <a:r>
              <a:rPr b="1" i="1" lang="en-US" sz="2800" spc="-1" strike="noStrike" u="sng">
                <a:solidFill>
                  <a:srgbClr val="242492"/>
                </a:solidFill>
                <a:uFillTx/>
                <a:latin typeface="Tahoma"/>
              </a:rPr>
              <a:t>К,</a:t>
            </a:r>
            <a:r>
              <a:rPr b="1" i="1" lang="en-US" sz="2800" spc="-1" strike="noStrike">
                <a:solidFill>
                  <a:srgbClr val="242492"/>
                </a:solidFill>
                <a:latin typeface="Tahoma"/>
              </a:rPr>
              <a:t> </a:t>
            </a:r>
            <a:r>
              <a:rPr b="1" i="1" lang="en-US" sz="2800" spc="-1" strike="noStrike" u="sng">
                <a:solidFill>
                  <a:srgbClr val="242492"/>
                </a:solidFill>
                <a:uFillTx/>
                <a:latin typeface="Tahoma"/>
              </a:rPr>
              <a:t>ОТ</a:t>
            </a:r>
            <a:endParaRPr b="0" lang="en-US" sz="28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0" t="88696" r="66467" b="0"/>
          <a:stretch/>
        </p:blipFill>
        <p:spPr>
          <a:xfrm>
            <a:off x="609480" y="3352680"/>
            <a:ext cx="2362320" cy="1113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0" t="0" r="35942" b="22435"/>
          <a:stretch/>
        </p:blipFill>
        <p:spPr>
          <a:xfrm>
            <a:off x="6019920" y="4876920"/>
            <a:ext cx="1479600" cy="1676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33520" y="1828800"/>
            <a:ext cx="2243160" cy="1084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rcRect l="8119" t="0" r="6681" b="71388"/>
          <a:stretch/>
        </p:blipFill>
        <p:spPr>
          <a:xfrm>
            <a:off x="685800" y="5257800"/>
            <a:ext cx="2209680" cy="684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rcRect l="0" t="25783" r="0" b="0"/>
          <a:stretch/>
        </p:blipFill>
        <p:spPr>
          <a:xfrm>
            <a:off x="5867280" y="3657600"/>
            <a:ext cx="2514600" cy="1219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666880" y="2514600"/>
            <a:ext cx="3353040" cy="3200400"/>
          </a:xfrm>
          <a:prstGeom prst="line">
            <a:avLst/>
          </a:prstGeom>
          <a:ln w="442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666880" y="2590560"/>
            <a:ext cx="3581640" cy="1447560"/>
          </a:xfrm>
          <a:prstGeom prst="line">
            <a:avLst/>
          </a:prstGeom>
          <a:ln w="442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819520" y="4419720"/>
            <a:ext cx="3200400" cy="1295280"/>
          </a:xfrm>
          <a:prstGeom prst="line">
            <a:avLst/>
          </a:prstGeom>
          <a:ln w="442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6324480" y="1676520"/>
            <a:ext cx="20988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242492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орт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ча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антик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конфе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рышка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кастрю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010280" y="685800"/>
            <a:ext cx="1656000" cy="1762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23880" y="304920"/>
            <a:ext cx="4248360" cy="1152360"/>
          </a:xfrm>
          <a:prstGeom prst="wedgeEllipseCallout">
            <a:avLst>
              <a:gd name="adj1" fmla="val 88750"/>
              <a:gd name="adj2" fmla="val 881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492"/>
                </a:solidFill>
                <a:latin typeface="Tahoma"/>
              </a:rPr>
              <a:t>Проверь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5105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разец:</a:t>
            </a:r>
            <a:r>
              <a:rPr b="0" lang="en-US" sz="2400" spc="-1" strike="noStrike">
                <a:solidFill>
                  <a:srgbClr val="7b9cb5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УЧЕНИК К УЧИТЕЛЮ</a:t>
            </a:r>
            <a:endParaRPr b="0" lang="en-US" sz="2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0720"/>
            <a:ext cx="4038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нуч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ра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сёно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ну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лесар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8320" y="198108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с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ольн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едуш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зля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хозяи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абуш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448320" y="533520"/>
            <a:ext cx="2695680" cy="2743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33520" y="0"/>
            <a:ext cx="6324480" cy="1981080"/>
          </a:xfrm>
          <a:prstGeom prst="wedgeEllipseCallout">
            <a:avLst>
              <a:gd name="adj1" fmla="val 54518"/>
              <a:gd name="adj2" fmla="val 6257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42492"/>
                </a:solidFill>
                <a:latin typeface="Papyrus"/>
              </a:rPr>
              <a:t>Кто к кому пришё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42492"/>
                </a:solidFill>
                <a:latin typeface="Papyrus"/>
              </a:rPr>
              <a:t>Запиши словосоче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2492"/>
                </a:solidFill>
                <a:latin typeface="Tahoma"/>
              </a:rPr>
              <a:t>Спиши предложения, подчеркни предлоги.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причала отходит лод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 озеру подошли турист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лючи от шкафа потерялис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ма отошла от магази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                  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295280" y="1295280"/>
            <a:ext cx="72392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114800" y="4952880"/>
            <a:ext cx="14479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ссмотри двух гномиков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Одного зовут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а другого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Почему?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7066" t="28624" r="9722" b="50448"/>
          <a:stretch/>
        </p:blipFill>
        <p:spPr>
          <a:xfrm>
            <a:off x="0" y="20574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492"/>
                </a:solidFill>
                <a:latin typeface="Tahoma"/>
              </a:rPr>
              <a:t>Пальчиковая гимнастика.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5406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2492"/>
                </a:solidFill>
                <a:latin typeface="Tahoma"/>
              </a:rPr>
              <a:t>Этот пальчик — маленький (массируем мизинчик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2492"/>
                </a:solidFill>
                <a:latin typeface="Tahoma"/>
              </a:rPr>
              <a:t>Этот пальчик — слабенький (безымянный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2492"/>
                </a:solidFill>
                <a:latin typeface="Tahoma"/>
              </a:rPr>
              <a:t>Этот пальчик — длинненький (средний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2492"/>
                </a:solidFill>
                <a:latin typeface="Tahoma"/>
              </a:rPr>
              <a:t>Этот пальчик — сильненький (указательный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2492"/>
                </a:solidFill>
                <a:latin typeface="Tahoma"/>
              </a:rPr>
              <a:t>Этот пальчик — большачок (большой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2492"/>
                </a:solidFill>
                <a:latin typeface="Tahoma"/>
              </a:rPr>
              <a:t>А все вместе — кулачок (сжимаем в кулачок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 rot="16923600">
            <a:off x="3886200" y="3926520"/>
            <a:ext cx="2590920" cy="293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2492"/>
                </a:solidFill>
                <a:latin typeface="Tahoma"/>
              </a:rPr>
              <a:t>Используя предлоги </a:t>
            </a:r>
            <a:r>
              <a:rPr b="1" i="1" lang="en-US" sz="3600" spc="-1" strike="noStrike" u="sng">
                <a:solidFill>
                  <a:srgbClr val="242492"/>
                </a:solidFill>
                <a:uFillTx/>
                <a:latin typeface="Tahoma"/>
              </a:rPr>
              <a:t>К</a:t>
            </a:r>
            <a:r>
              <a:rPr b="0" lang="en-US" sz="3600" spc="-1" strike="noStrike">
                <a:solidFill>
                  <a:srgbClr val="242492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242492"/>
                </a:solidFill>
                <a:latin typeface="Tahoma"/>
              </a:rPr>
              <a:t>и </a:t>
            </a:r>
            <a:r>
              <a:rPr b="1" i="1" lang="en-US" sz="3600" spc="-1" strike="noStrike" u="sng">
                <a:solidFill>
                  <a:srgbClr val="242492"/>
                </a:solidFill>
                <a:uFillTx/>
                <a:latin typeface="Tahoma"/>
              </a:rPr>
              <a:t>ОТ </a:t>
            </a:r>
            <a:r>
              <a:rPr b="0" lang="en-US" sz="3600" spc="-1" strike="noStrike">
                <a:solidFill>
                  <a:srgbClr val="242492"/>
                </a:solidFill>
                <a:latin typeface="Tahoma"/>
              </a:rPr>
              <a:t>, составь и запиши предложения по картинкам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086600" y="2362320"/>
            <a:ext cx="2057400" cy="1812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934320" y="4267080"/>
            <a:ext cx="2209680" cy="1947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809880" y="2743200"/>
            <a:ext cx="2062440" cy="1023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 flipH="1" rot="345600">
            <a:off x="4190760" y="4572000"/>
            <a:ext cx="2286000" cy="1135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095880" y="2971800"/>
            <a:ext cx="990720" cy="333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 flipH="1">
            <a:off x="2971800" y="4876920"/>
            <a:ext cx="990720" cy="333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838080" y="1981080"/>
            <a:ext cx="2205000" cy="190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838080" y="4038480"/>
            <a:ext cx="2129040" cy="1843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3048120" y="3048120"/>
            <a:ext cx="685800" cy="47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 flipH="1">
            <a:off x="6629040" y="4952880"/>
            <a:ext cx="68580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radley Hand ITC"/>
              </a:rPr>
              <a:t>Собака бежит </a:t>
            </a:r>
            <a:r>
              <a:rPr b="1" i="1" lang="en-US" sz="4000" spc="-1" strike="noStrike">
                <a:solidFill>
                  <a:srgbClr val="242492"/>
                </a:solidFill>
                <a:latin typeface="Bradley Hand ITC"/>
              </a:rPr>
              <a:t>от</a:t>
            </a:r>
            <a:r>
              <a:rPr b="1" i="1" lang="en-US" sz="4000" spc="-1" strike="noStrike">
                <a:solidFill>
                  <a:srgbClr val="000000"/>
                </a:solidFill>
                <a:latin typeface="Bradley Hand ITC"/>
              </a:rPr>
              <a:t> дома </a:t>
            </a:r>
            <a:r>
              <a:rPr b="1" i="1" lang="en-US" sz="4000" spc="-1" strike="noStrike">
                <a:solidFill>
                  <a:srgbClr val="242492"/>
                </a:solidFill>
                <a:latin typeface="Bradley Hand ITC"/>
              </a:rPr>
              <a:t>к</a:t>
            </a:r>
            <a:r>
              <a:rPr b="1" i="1" lang="en-US" sz="4000" spc="-1" strike="noStrike">
                <a:solidFill>
                  <a:srgbClr val="000000"/>
                </a:solidFill>
                <a:latin typeface="Bradley Hand ITC"/>
              </a:rPr>
              <a:t> дереву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radley Hand ITC"/>
              </a:rPr>
              <a:t>Джек бежит </a:t>
            </a:r>
            <a:r>
              <a:rPr b="1" i="1" lang="en-US" sz="4000" spc="-1" strike="noStrike">
                <a:solidFill>
                  <a:srgbClr val="242492"/>
                </a:solidFill>
                <a:latin typeface="Bradley Hand ITC"/>
              </a:rPr>
              <a:t>от</a:t>
            </a:r>
            <a:r>
              <a:rPr b="1" i="1" lang="en-US" sz="4000" spc="-1" strike="noStrike">
                <a:solidFill>
                  <a:srgbClr val="000000"/>
                </a:solidFill>
                <a:latin typeface="Bradley Hand ITC"/>
              </a:rPr>
              <a:t> дерева </a:t>
            </a:r>
            <a:r>
              <a:rPr b="1" i="1" lang="en-US" sz="4000" spc="-1" strike="noStrike">
                <a:solidFill>
                  <a:srgbClr val="242492"/>
                </a:solidFill>
                <a:latin typeface="Bradley Hand ITC"/>
              </a:rPr>
              <a:t>к</a:t>
            </a:r>
            <a:r>
              <a:rPr b="1" i="1" lang="en-US" sz="4000" spc="-1" strike="noStrike">
                <a:solidFill>
                  <a:srgbClr val="000000"/>
                </a:solidFill>
                <a:latin typeface="Bradley Hand ITC"/>
              </a:rPr>
              <a:t> дому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2148120" cy="2286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071080" y="507960"/>
            <a:ext cx="3324600" cy="965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492"/>
                </a:solidFill>
                <a:latin typeface="Tahoma"/>
              </a:rPr>
              <a:t>Проверь.</a:t>
            </a: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0" t="0" r="68154" b="2483"/>
          <a:stretch/>
        </p:blipFill>
        <p:spPr>
          <a:xfrm>
            <a:off x="7086600" y="2362320"/>
            <a:ext cx="880920" cy="198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824960" y="4876920"/>
            <a:ext cx="1319040" cy="198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09480" y="4038480"/>
            <a:ext cx="1629000" cy="1917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>
            <a:lum bright="-6000"/>
          </a:blip>
          <a:srcRect l="0" t="5252" r="45199" b="23885"/>
          <a:stretch/>
        </p:blipFill>
        <p:spPr>
          <a:xfrm>
            <a:off x="228600" y="914400"/>
            <a:ext cx="114300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3200400" y="5059440"/>
            <a:ext cx="2590920" cy="1798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962520" y="914400"/>
            <a:ext cx="1601640" cy="1981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228600" y="0"/>
            <a:ext cx="182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0.07584 C 0.01476 0.07005 0.0151 0.06451 0.02066 0.05711 C 0.02188 0.05318 0.02205 0.04832 0.02413 0.04508 C 0.03299 0.03214 0.04896 0.02127 0.0592 0.0104 C 0.07986 -0.01249 0.05955 0.00277 0.08038 -0.01087 C 0.0816 -0.01341 0.08177 -0.01758 0.08385 -0.01804 C 0.08681 -0.01873 0.09878 -0.01457 0.10313 -0.01341 C 0.10799 -0.00347 0.11042 -0.00648 0.11545 0.00323 C 0.11597 0.00555 0.11632 0.00809 0.11719 0.0104 C 0.11806 0.01271 0.11997 0.01456 0.12066 0.01711 C 0.12222 0.02312 0.12413 0.03607 0.12413 0.0363 C 0.12847 0.01873 0.13958 0.00971 0.15052 0.00069 C 0.16215 -0.02058 0.15608 -0.01388 0.16632 -0.02266 C 0.16684 -0.02659 0.16684 -0.03052 0.16806 -0.03399 C 0.16927 -0.03792 0.17465 -0.04139 0.17674 -0.04347 C 0.18368 -0.0511 0.19115 -0.05596 0.19965 -0.05966 C 0.20972 -0.05804 0.21979 -0.05711 0.22951 -0.05272 C 0.23785 -0.04555 0.2342 -0.04093 0.2434 -0.03653 C 0.24531 -0.02359 0.24549 -0.01341 0.25573 -0.00856 C 0.26372 0.00208 0.26528 0.00069 0.27674 -0.00162 C 0.31042 -0.01919 0.28559 -0.000470000000000002 0.29792 -0.02058 C 0.30156 -0.02636 0.30608 -0.03099 0.31007 -0.03653 C 0.31128 -0.03792 0.31372 -0.04139 0.31372 -0.04093 C 0.31597 -0.05318 0.32708 -0.0763 0.33646 -0.0807 C 0.33993 -0.08255 0.34358 -0.08255 0.34705 -0.08324 C 0.36042 -0.08255 0.37396 -0.08232 0.38733 -0.0807 C 0.39479 -0.08023 0.39896 -0.07353 0.4066 -0.07145 C 0.41198 -0.06081 0.41181 -0.05203 0.41372 -0.03885 C 0.41372 -0.03885 0.41632 -0.02359 0.41719 -0.02266 C 0.42188 -0.01619 0.43003 -0.01919 0.43646 -0.01804 C 0.44653 -0.01341 0.45608 -0.0081 0.46632 -0.0037 C 0.47153 0.00323 0.47448 0.00809 0.47674 0.01711 C 0.47622 0.03745 0.47639 0.0578 0.475 0.07815 C 0.47448 0.08555 0.46806 0.08925 0.46806 0.09641 E">
                                      <p:cBhvr>
                                        <p:cTn id="56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806 0.09641 C 0.48038 0.08 0.47379 0.08393 0.48559 0.08 C 0.51007 0.05896 0.53733 0.03861 0.56632 0.03098 C 0.57622 0.03167 0.58646 0.03052 0.59618 0.03329 C 0.59844 0.03399 0.60104 0.04508 0.60139 0.0474 C 0.6033 0.05896 0.60104 0.0689 0.61024 0.07306 C 0.63177 0.06682 0.62813 0.06982 0.63646 0.0474 C 0.63715 0.0356 0.63629 0.02358 0.63837 0.01225 C 0.64132 -0.00416 0.6559 -0.01226 0.66632 -0.01572 C 0.67761 -0.0148 0.70208 -0.02058 0.71024 -0.00416 C 0.70972 0.00532 0.71042 0.01503 0.70851 0.02404 C 0.70729 0.02936 0.70139 0.03792 0.70139 0.03815 C 0.69827 0.0504 0.69479 0.05711 0.69271 0.07075 C 0.69219 0.08162 0.68594 0.0948 0.69097 0.10335 C 0.69497 0.11006 0.70399 0.10312 0.71024 0.10104 C 0.71493 0.09942 0.7283 0.08878 0.73299 0.08462 C 0.73351 0.08231 0.73386 0.07977 0.73472 0.07769 C 0.73577 0.07514 0.7375 0.07329 0.73837 0.07075 C 0.74063 0.06404 0.74184 0.05665 0.74358 0.04971 C 0.7441 0.04763 0.74601 0.0467 0.74705 0.04485 C 0.75382 0.03352 0.75938 0.02381 0.76979 0.01919 C 0.77917 0.01988 0.78872 0.01873 0.79792 0.0215 C 0.80208 0.02266 0.80851 0.03098 0.80851 0.03121 C 0.81059 0.04208 0.81736 0.05826 0.82257 0.06844 C 0.82222 0.07722 0.82899 0.13456 0.80851 0.13849 C 0.80208 0.13965 0.79566 0.14011 0.78924 0.14081 C 0.7816 0.14173 0.77396 0.14243 0.76632 0.14312 C 0.7658 0.14543 0.76441 0.14774 0.76458 0.15006 C 0.76667 0.17456 0.77708 0.16925 0.79445 0.1711 C 0.81372 0.17618 0.80625 0.17318 0.81719 0.17803 C 0.8184 0.18312 0.8224 0.18682 0.82257 0.19214 C 0.82396 0.24023 0.83073 0.24323 0.81198 0.25988 C 0.7875 0.25873 0.7625 0.2541 0.73837 0.25757 C 0.73559 0.26104 0.73038 0.26196 0.72952 0.26682 C 0.72761 0.27745 0.72865 0.28878 0.72778 0.29965 C 0.72587 0.32162 0.72604 0.29965 0.72604 0.3089 E">
                                      <p:cBhvr>
                                        <p:cTn id="60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605 0.3089 C 0.72587 0.31283 0.72882 0.33641 0.72084 0.34173 C 0.71858 0.34312 0.71598 0.34312 0.71372 0.34404 C 0.71007 0.34543 0.70313 0.34867 0.70313 0.34867 C 0.68976 0.34797 0.67622 0.34913 0.66285 0.34635 C 0.6599 0.34566 0.65834 0.3415 0.65591 0.33919 C 0.64914 0.33271 0.6408 0.32647 0.63299 0.323 C 0.62726 0.31514 0.61962 0.31375 0.61198 0.31121 C 0.59618 0.3119 0.58021 0.31075 0.56459 0.31352 C 0.56216 0.31398 0.55973 0.31745 0.55938 0.32069 C 0.5573 0.3415 0.56441 0.35976 0.56806 0.37895 C 0.5658 0.43398 0.57379 0.41202 0.55591 0.42797 C 0.50695 0.4245 0.53577 0.42936 0.51198 0.41872 C 0.50209 0.39907 0.48334 0.38682 0.46632 0.38127 C 0.45417 0.3704 0.43959 0.37988 0.42605 0.38358 C 0.41424 0.4 0.425 0.42404 0.42952 0.44208 C 0.42848 0.47121 0.43525 0.49572 0.41372 0.5052 C 0.40087 0.5045 0.38803 0.50404 0.37518 0.50289 C 0.37153 0.50265 0.36806 0.50173 0.36459 0.50057 C 0.36094 0.49942 0.35417 0.49572 0.35417 0.49572 C 0.34966 0.48994 0.34375 0.48624 0.34011 0.47953 C 0.33351 0.46705 0.3283 0.44948 0.31719 0.44208 C 0.30938 0.43699 0.30261 0.4319 0.29445 0.42797 C 0.27205 0.43098 0.27605 0.42427 0.2698 0.4467 C 0.27171 0.4867 0.27535 0.49202 0.27344 0.53086 C 0.26112 0.52023 0.27553 0.53387 0.26285 0.51676 C 0.2566 0.5082 0.24827 0.5045 0.24184 0.49572 C 0.23872 0.483 0.23646 0.4719 0.23473 0.45849 C 0.23612 0.44069 0.2375 0.42219 0.24011 0.40462 C 0.24184 0.39237 0.24914 0.37526 0.25226 0.36508 C 0.254 0.3593 0.25851 0.35606 0.26112 0.35098 C 0.26337 0.33595 0.26806 0.33225 0.27344 0.31815 C 0.27587 0.30543 0.28021 0.29317 0.28386 0.28092 C 0.28264 0.26774 0.28282 0.2541 0.28039 0.24115 C 0.27934 0.2356 0.27084 0.23144 0.26806 0.22936 C 0.25556 0.22011 0.24341 0.2178 0.22952 0.21317 C 0.22136 0.21387 0.21303 0.21271 0.20504 0.21549 C 0.2033 0.21618 0.20452 0.2208 0.20313 0.22242 C 0.20122 0.22474 0.19844 0.22543 0.19618 0.22705 C 0.19271 0.23329 0.18907 0.23953 0.18559 0.24578 C 0.18386 0.24901 0.18039 0.25526 0.18039 0.25526 C 0.17813 0.26774 0.175 0.27907 0.16806 0.28786 C 0.16598 0.3082 0.16198 0.32693 0.15764 0.34635 C 0.15087 0.37641 0.15764 0.34658 0.15053 0.36971 C 0.14914 0.37433 0.14705 0.38358 0.14705 0.38358 C 0.14323 0.41502 0.15174 0.43699 0.13125 0.45618 C 0.11737 0.45433 0.10625 0.44971 0.09271 0.4467 C 0.08386 0.44739 0.075 0.44716 0.06632 0.44901 C 0.06146 0.44994 0.04306 0.46358 0.03837 0.46774 C 0.03577 0.47745 0.03195 0.48716 0.02778 0.49572 C 0.02448 0.52231 0.01285 0.54427 0.00851 0.57063 C 0.00799 0.57433 0.0066 0.59861 0.00139 0.59861 E">
                                      <p:cBhvr>
                                        <p:cTn id="64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59861 C 0.00365 0.59468 0.00591 0.59075 0.00834 0.58705 C 0.01164 0.5822 0.01893 0.57295 0.01893 0.57295 C 0.02014 0.56833 0.02119 0.5637 0.0224 0.55908 C 0.02327 0.55561 0.02744 0.5563 0.02952 0.55422 C 0.03959 0.54451 0.04289 0.53781 0.05573 0.53318 C 0.0698 0.52116 0.07882 0.52717 0.09792 0.52856 C 0.11042 0.53411 0.10625 0.52925 0.11198 0.54035 C 0.11337 0.57295 0.10573 0.58821 0.12778 0.58243 C 0.13264 0.56231 0.13073 0.57318 0.13299 0.5496 C 0.14115 0.55029 0.14931 0.55075 0.15747 0.55191 C 0.16407 0.55283 0.17032 0.5674 0.17691 0.57295 C 0.17865 0.62705 0.16806 0.62312 0.1908 0.63838 C 0.20903 0.63769 0.22761 0.64116 0.24532 0.63607 C 0.24879 0.63515 0.24549 0.62613 0.24705 0.62197 C 0.24792 0.61989 0.25851 0.61318 0.25921 0.61272 C 0.27344 0.61364 0.29532 0.60255 0.30487 0.62197 C 0.31337 0.63908 0.29966 0.62035 0.31025 0.63376 C 0.31719 0.63307 0.32431 0.6333 0.33125 0.63145 C 0.33334 0.63098 0.33455 0.62775 0.33646 0.62682 C 0.34393 0.62359 0.35174 0.62289 0.35921 0.61965 C 0.36268 0.61804 0.36632 0.61665 0.3698 0.61503 C 0.38594 0.61711 0.39046 0.61411 0.39445 0.63376 C 0.39584 0.69064 0.3816 0.71838 0.41893 0.70613 C 0.42257 0.70497 0.42605 0.70312 0.42952 0.7015 C 0.4316 0.69318 0.43125 0.69711 0.43125 0.68994 E">
                                      <p:cBhvr>
                                        <p:cTn id="68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125 0.68994 C 0.4342 0.67398 0.43368 0.67699 0.44166 0.66404 C 0.44809 0.65364 0.45104 0.64323 0.45937 0.63606 C 0.4625 0.62959 0.4625 0.62774 0.46805 0.6245 C 0.47152 0.62242 0.47864 0.61965 0.47864 0.61965 C 0.48802 0.62057 0.49739 0.62011 0.50659 0.62219 C 0.50833 0.62265 0.50885 0.62543 0.51024 0.62682 C 0.51354 0.63005 0.51718 0.63283 0.52066 0.63606 C 0.53454 0.64901 0.53871 0.6726 0.55399 0.68277 C 0.57152 0.67976 0.58298 0.683 0.5927 0.66404 C 0.59323 0.65086 0.59132 0.63699 0.59444 0.6245 C 0.59583 0.61872 0.60972 0.61248 0.61371 0.6104 C 0.66024 0.6141 0.63402 0.60393 0.64878 0.6245 C 0.64861 0.6282 0.64722 0.67329 0.64357 0.68046 C 0.63524 0.69687 0.63888 0.68994 0.63298 0.7015 C 0.63177 0.70381 0.62951 0.70843 0.62951 0.70843 C 0.62899 0.71167 0.62882 0.71491 0.62777 0.71791 C 0.62691 0.72046 0.62482 0.72208 0.62413 0.72485 C 0.62204 0.73387 0.62204 0.74358 0.62066 0.75283 C 0.62152 0.78057 0.61319 0.82358 0.63819 0.83468 C 0.65885 0.83306 0.66562 0.83976 0.675 0.82057 C 0.67621 0.80393 0.67378 0.78057 0.68732 0.77156 C 0.69236 0.76832 0.69791 0.76693 0.70312 0.76462 C 0.70763 0.76254 0.71718 0.75999 0.71718 0.75999 C 0.71892 0.73086 0.71805 0.71791 0.73125 0.69687 C 0.73732 0.68716 0.74097 0.67884 0.74878 0.67121 C 0.75573 0.65202 0.76961 0.63629 0.78385 0.62682 C 0.78507 0.62728 0.79427 0.62866 0.79444 0.63375 C 0.79513 0.64762 0.79704 0.67352 0.78732 0.67352 E">
                                      <p:cBhvr>
                                        <p:cTn id="72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БАБОЧКА ЛЕТИ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от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тюльпана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гвоздик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от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гвоздики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анютиным глазка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от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анютиных глазок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подсолнухам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от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подсолнухов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вьюнк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от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вьюнка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колокольчик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763640" y="907920"/>
            <a:ext cx="5977080" cy="446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Corsiva"/>
              </a:rPr>
              <a:t>физкультминутка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Corsiva"/>
              <a:ea typeface="Monotype Corsiv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124080" y="4800600"/>
            <a:ext cx="3657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для гла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700360" y="1989000"/>
            <a:ext cx="3295800" cy="2832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443640" y="3213000"/>
            <a:ext cx="1619280" cy="12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827440" y="2622600"/>
            <a:ext cx="3422520" cy="2778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012000" y="1773360"/>
            <a:ext cx="16192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path" presetID="1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566 -0.24092 C -0.04132 -0.24092 0.125 -0.04855 0.125 0.1889 C 0.125 0.4259 -0.04132 0.61896 -0.24566 0.61896 C -0.45 0.61896 -0.61615 0.4259 -0.61615 0.1889 C -0.61615 -0.04855 -0.45 -0.24092 -0.24566 -0.24092 Z">
                                      <p:cBhvr>
                                        <p:cTn id="78" dur="5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dent</cp:lastModifiedBy>
  <dcterms:modified xsi:type="dcterms:W3CDTF">2008-12-15T08:20:0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