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D73C-7EA4-4CF3-A69B-B0FCFECE9C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E5E2-9021-42DE-89F1-FA2CE01C7F4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боте с дошкольниками выделяют следующие этапы про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0E52-CF9A-4145-B450-B6D80E07B7B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семинара: Совершенствование проектной культуры педагогов; видоизменение и совершенствование развивающей среды; интеграция образовательных областей в сооветствии с федеральными государственными требованиями к структуре основной общеобразовательной программы дошкольн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27DD-79B6-4A91-92F8-C5F2FE743F2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8F24-0BE0-4A59-A234-665BFCCDF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6DFD-B0B6-4070-A81C-77EE983F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1A01-14A3-4204-9CA4-2624F08BB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40CD-2CAF-4F60-8852-75986D7A5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A5B9-D1C1-4726-91A2-F8343477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A711-CD9D-4DC8-B9C1-E9F8B048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C5EA-74DA-48BE-8F4B-490A9080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3F4B-B58D-404B-A81D-717BDB37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9907-32FA-454C-A2EB-B41E5DBD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253B-8B27-4C1B-9B34-018FEEE1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4057-08C2-475E-A442-47B22B34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C3F8-6609-4705-8FC8-7D4AFB78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015C-2EAC-45CA-A8C9-34DDBE4269B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униципальное бюджетное дошкольное образовательное учреждение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Центр развития ребенка – детский сад № 103 «Русалочка» г. Воркуты </a:t>
            </a:r>
            <a:br>
              <a:rPr sz="1600"/>
            </a:br>
            <a:br>
              <a:rPr sz="1600"/>
            </a:b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Метод проектов </a:t>
            </a:r>
            <a:br>
              <a:rPr sz="4400"/>
            </a:b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в работе с дошкольниками</a:t>
            </a:r>
            <a:br>
              <a:rPr sz="4400"/>
            </a:b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(теоретический семинар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Содержимое 5" descr="deti_w200_h165.png"/>
          <p:cNvPicPr/>
          <p:nvPr/>
        </p:nvPicPr>
        <p:blipFill>
          <a:blip r:embed="rId1"/>
          <a:stretch/>
        </p:blipFill>
        <p:spPr>
          <a:xfrm>
            <a:off x="971640" y="3500280"/>
            <a:ext cx="3384360" cy="279252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6"/>
          <p:cNvSpPr/>
          <p:nvPr/>
        </p:nvSpPr>
        <p:spPr>
          <a:xfrm>
            <a:off x="5003640" y="5084640"/>
            <a:ext cx="370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оставитель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арший воспитател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Ховрина Ирина Владимиров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В практике современных дошкольных учреждений используются следующие </a:t>
            </a:r>
            <a:br>
              <a:rPr sz="2800"/>
            </a:b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типы проект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915920"/>
            <a:ext cx="82296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сследовательско - творческ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 дети экспериментируют, а затем результаты оформляют в виде газет, драматизации, детского дизай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олево - игровые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с элементами творческих игр, когда дети входят в образ персонажей сказки и решают по-своему поставленную проблему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. Информационно-практико-ориентированны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 дети собирают информацию и реализуют ее, ориентируясь на социальные интересы (оформление и дизайн группы, витражи и др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. Творческие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оформление результата в виде детского праздника, детского дизайна и т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ормативные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проекты по созданию новых норм, соблюдению правил в разных нормативных ситуациях: «Книга правил поведения ребенка в детском саду» и др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мешанные типы проектов по предметно-содержательной области являются межпредметными, а творческие - монопроект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7000"/>
                            </p:stCondLst>
                            <p:childTnLst>
                              <p:par>
                                <p:cTn id="20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2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7000"/>
                            </p:stCondLst>
                            <p:childTnLst>
                              <p:par>
                                <p:cTn id="2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250920" y="260280"/>
            <a:ext cx="864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В работе с дошкольниками выделяют следующие этапы проект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24000" y="1397160"/>
          <a:ext cx="8424720" cy="522288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вание этап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Целеполаг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дагог помогает ребенку выбрать наиболее актуальную и посильную для него задачу на определенный отрезок време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Разработка прое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ление плана деятельности по достижению цели: (к кому обратиться за помощью; в каких источниках можно найти информацию; какие предметы использовать; с  какими предметами научиться работать для достижения цели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Выполнение прое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ческая ча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одведение итог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ение задач для новых проек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Презентация прое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монстрация достижений, продуктов детской деятельност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Arial"/>
              </a:rPr>
              <a:t>Задачи </a:t>
            </a:r>
            <a:r>
              <a:rPr b="1" lang="en-US" sz="5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c000"/>
                </a:solidFill>
                <a:latin typeface="Arial"/>
              </a:rPr>
              <a:t>обучения </a:t>
            </a:r>
            <a:br>
              <a:rPr sz="5400"/>
            </a:br>
            <a:r>
              <a:rPr b="1" lang="ru-RU" sz="5400" spc="-1" strike="noStrike">
                <a:solidFill>
                  <a:srgbClr val="ffc000"/>
                </a:solidFill>
                <a:latin typeface="Arial"/>
              </a:rPr>
              <a:t>по возрастам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Рисунок 2" descr="J0301252.WMF"/>
          <p:cNvPicPr/>
          <p:nvPr/>
        </p:nvPicPr>
        <p:blipFill>
          <a:blip r:embed="rId1"/>
          <a:stretch/>
        </p:blipFill>
        <p:spPr>
          <a:xfrm>
            <a:off x="2916360" y="3860640"/>
            <a:ext cx="316836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Младший дошкольный возраст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79280" y="1125360"/>
          <a:ext cx="8712360" cy="5364360"/>
        </p:xfrm>
        <a:graphic>
          <a:graphicData uri="http://schemas.openxmlformats.org/drawingml/2006/table">
            <a:tbl>
              <a:tblPr/>
              <a:tblGrid>
                <a:gridCol w="2903760"/>
                <a:gridCol w="2904840"/>
                <a:gridCol w="2903760"/>
              </a:tblGrid>
              <a:tr h="116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чи обуч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вершенствование психических процесс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ирование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ектно-исследовательских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умений и навы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2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Пробуждать интерес к предлагаемой деятель-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Приобщать детей к процессу познани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Формировать различ-ные представ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ривлекать детей к воспроизведению обра-зов, используя различные варианты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Побуждать детей к совместной поисковой деятельности, экспери-ментированию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Формирование эмоциональной заинтересованност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Знакомство с предметами и действиями с ним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Развитие мышления и воображени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Речевое развити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Осознание поставленной цел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Овладение различными способами решения поставленных задач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Способность предвосхитить результат, основываясь на своем прошлом опыт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оиск различных средств достижения цел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Заголовок 1"/>
          <p:cNvSpPr/>
          <p:nvPr/>
        </p:nvSpPr>
        <p:spPr>
          <a:xfrm>
            <a:off x="0" y="274680"/>
            <a:ext cx="9144000" cy="65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Старший дошкольный возра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79280" y="836640"/>
          <a:ext cx="8785440" cy="5089320"/>
        </p:xfrm>
        <a:graphic>
          <a:graphicData uri="http://schemas.openxmlformats.org/drawingml/2006/table">
            <a:tbl>
              <a:tblPr/>
              <a:tblGrid>
                <a:gridCol w="2928960"/>
                <a:gridCol w="2927520"/>
                <a:gridCol w="2928960"/>
              </a:tblGrid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чи обуч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ирование предпосылок учебной деятель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ирование проектно-исследовательских умений и навык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азвивать поисковую деятельность, интеллектуальную инициативу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Развивать специальные способы организации: экспериментирование и моделирование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Формировать обобщенные способы умственной работы и средства построения собственной деятельност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Развивать способность к прогнозированию будущих измене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азвивать произвольность в поведении и продуктивной деятельност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Развивать потребность в создании собственной картины мир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Развивать навыки коммуникативного общени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Формировать умение выявить проблему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Развивать умение самостоятельно искать нужное решени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Учить выбирать из имеющихся способов наиболее адекватный и продуктивно его использовать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Учить самостоятельно анализировать полученные результаты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889308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c000"/>
                </a:solidFill>
                <a:latin typeface="Arial"/>
              </a:rPr>
              <a:t>Линии развития личности ребенка </a:t>
            </a:r>
            <a:br>
              <a:rPr sz="2500"/>
            </a:br>
            <a:r>
              <a:rPr b="1" lang="ru-RU" sz="2500" spc="-1" strike="noStrike">
                <a:solidFill>
                  <a:srgbClr val="ffc000"/>
                </a:solidFill>
                <a:latin typeface="Arial"/>
              </a:rPr>
              <a:t>в процессе проектной деятельности</a:t>
            </a: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79280" y="1268280"/>
          <a:ext cx="8712360" cy="5175360"/>
        </p:xfrm>
        <a:graphic>
          <a:graphicData uri="http://schemas.openxmlformats.org/drawingml/2006/table">
            <a:tbl>
              <a:tblPr/>
              <a:tblGrid>
                <a:gridCol w="2789280"/>
                <a:gridCol w="5923080"/>
              </a:tblGrid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нии    развит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ладший дошкольни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ческое развит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имулирование естественные процессы развития двигательных способностей и качеств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Формирование осознанных представлений о необходимости заботиться о своем здоровь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ьное развит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способов общения со сверстниками и взрослы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0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знавательное  развит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гащать представления об окружающем мире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ширять и качественно изменять способы ориентировки в окружающем мире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ознательно применять сенсорные ощущения в решении практических задач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стетическое  развит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ие эмоционально-ценностного отношения к произведениям искусства и художественным образам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владение художественной деятельностью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c000"/>
                </a:solidFill>
                <a:latin typeface="Arial"/>
              </a:rPr>
              <a:t>Линии развития личности ребенка </a:t>
            </a:r>
            <a:br>
              <a:rPr sz="2900"/>
            </a:br>
            <a:r>
              <a:rPr b="1" lang="ru-RU" sz="2900" spc="-1" strike="noStrike">
                <a:solidFill>
                  <a:srgbClr val="ffc000"/>
                </a:solidFill>
                <a:latin typeface="Arial"/>
              </a:rPr>
              <a:t>в процессе проектной деятельности</a:t>
            </a:r>
            <a:br>
              <a:rPr sz="2900"/>
            </a:br>
            <a:br>
              <a:rPr sz="29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4000"/>
            </a:b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24000" y="1422360"/>
          <a:ext cx="8569080" cy="5175360"/>
        </p:xfrm>
        <a:graphic>
          <a:graphicData uri="http://schemas.openxmlformats.org/drawingml/2006/table">
            <a:tbl>
              <a:tblPr/>
              <a:tblGrid>
                <a:gridCol w="2458800"/>
                <a:gridCol w="6110280"/>
              </a:tblGrid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нии    развит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рший дошкольни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5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ческое развит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ие осознанного отношения к своему здоровью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потребности в здоровом образе жизни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овершенствование процесса развития двигательных способностей и качеств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ьное развит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ие самопознания и положительной самооценки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владение способами внеситуативно-личностного общения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высокого уровня коммуникативной компетентности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сознание функций реч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знавательное  развит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атизация знаний, стимулирующая развитие познавательных и творческих способностей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азвитие способностей к практическому и умственному экспериментированию и символическому моделированию, речевому планированию, логическим операция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1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стетическое  развит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лубленное приобщение к искусству, многообразию художественных образов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владение различными видами художественной деятельности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азвитие способности к эстетической оценк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Советы</a:t>
            </a: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воспитателю по работе над</a:t>
            </a: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проектом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лубоко изучить тематику проекта, подготовить предметно-пространственную развивающую среду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здавать игровую мотивацию, опираясь на интересы детей и их эмоциональный отклик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Вводить детей в проблемную ситуацию, доступную для их понимания и с опорой на их личный опыт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Заинтересовать каждого ребенка тематикой проекта, поддерживать его любознательность и устойчивый интерес к проблеме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При составлении совместного плана с детьми над проектом поддерживать детскую инициативу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Тактично рассматривать все предложенные детьми варианты решения проблемы: ребенок должен иметь право на ошибку и не бояться высказываться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Соблюдать принцип последовательности и регулярности в работе над проектом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В ходе работы над проектом создавать атмосферу сотворчества с ребенком, используя индивидуальный подход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Развивать творческое воображение и фантазию детей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Творчески подходить к реализации проекта; ориентировать детей на использование накопленных наблюдений, знаний, впечатлений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Ненавязчиво вовлекать родителей в совместную работу над проектом,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здавая радостную атмосферу совместного с ребенком творчества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Заключительный этап проекта тщательно готовить и проводить его презентацию всеми участник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Метод проектов актуален и очень эффективен. Он дает ребенку возможность экспериментировать, синтезировать, полученные знания, развивать творческие способности и коммуникативные навыки, что позволяет ему успешно адаптироваться к изменившейся ситуации школьного обуч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c000"/>
                </a:solidFill>
                <a:latin typeface="Arial"/>
              </a:rPr>
              <a:t>Использованная литература:</a:t>
            </a:r>
            <a:br>
              <a:rPr sz="2500"/>
            </a:br>
            <a:br>
              <a:rPr sz="2500"/>
            </a:b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1. Проектный метод в деятельности дошкольного учреждения: Пособие для руководителей и практических работников ДОУ /Авт.-сост.: Л.С.Киселева, Т.А.Данилина, Т.С.Лагода, М.Б.Зуйкова .- 3-е изд., испр. и доп. – М.: АРКТИ, 2005. -96 с.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2. Материалы журнала «Дошкольное воспитание»: 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№ 4-2006 г., № 10-2007 г.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3. Материалы журнала «Дошкольное педагогика»: № 2; 5 – 2010 г.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4. Материалы журнала «Управление ДОУ»: № 2 – 2006 г., 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№ 4 – 2007 г. </a:t>
            </a:r>
            <a:br>
              <a:rPr sz="2200"/>
            </a:br>
            <a:br>
              <a:rPr sz="25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755640" y="549360"/>
            <a:ext cx="7993080" cy="48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Цель семинара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вершенствование проектной культуры педагогов; удовлетворение потребности педагогов в инновационной деятельности. Создание единого образовательного пространства ДО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План работ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Цели и задачи проектной деятельности в дошкольном учрежден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 Основные требования к использованию метода проек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Содержание проектной деятельности: задачи по возраст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3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3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30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80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30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c000"/>
                </a:solidFill>
                <a:latin typeface="Arial"/>
              </a:rPr>
              <a:t>Родоначальником метода проектов считается американский педагог В.Кильпатрик (1918 г.) </a:t>
            </a:r>
            <a:br>
              <a:rPr sz="2500"/>
            </a:br>
            <a:r>
              <a:rPr b="0" lang="ru-RU" sz="2500" spc="-1" strike="noStrike">
                <a:solidFill>
                  <a:srgbClr val="ffc000"/>
                </a:solidFill>
                <a:latin typeface="Arial"/>
              </a:rPr>
              <a:t>В 20-х годах двадцатого века метод проектов заинтересовал советских педагогов. И поэтому, метод проектов можно отнести к тому новому, которое стоило бы назвать хорошо забытым старым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500"/>
            </a:br>
            <a:br>
              <a:rPr sz="2500"/>
            </a:br>
            <a:r>
              <a:rPr b="0" lang="ru-RU" sz="2500" spc="-1" strike="noStrike" u="sng">
                <a:solidFill>
                  <a:srgbClr val="ffc000"/>
                </a:solidFill>
                <a:uFillTx/>
                <a:latin typeface="Arial"/>
              </a:rPr>
              <a:t>Основной целью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проектного метода в дошкольных учреждениях является развитие свободной творческой личности ребенка, которое </a:t>
            </a:r>
            <a:r>
              <a:rPr b="0" lang="ru-RU" sz="2500" spc="-1" strike="noStrike" u="sng">
                <a:solidFill>
                  <a:srgbClr val="ffffff"/>
                </a:solidFill>
                <a:uFillTx/>
                <a:latin typeface="Arial"/>
              </a:rPr>
              <a:t>определяется задачами развития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2500" spc="-1" strike="noStrike" u="sng">
                <a:solidFill>
                  <a:srgbClr val="ffffff"/>
                </a:solidFill>
                <a:uFillTx/>
                <a:latin typeface="Arial"/>
              </a:rPr>
              <a:t>задачами исследовательской деятельности детей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42472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ПРОЕКТ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– СЛОВО ИНОЯЗЫЧНОЕ, ПРОИСХОДИТ ОТ ЛАТИНСКОГО –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US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ЕГО БУКВАЛЬНЫЙ ПЕРЕВОД УЖЕ ОБЪЯСНЯЕТ МНОГОЕ , И ОЗНАЧАЕТ -  «БРОШЕННЫЙ ВПЕРЕД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0920" y="-360"/>
            <a:ext cx="8281800" cy="126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тод проектов – это форма организации образовательного пространства и метод развития творческого познавательного мыш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611280" y="2781360"/>
            <a:ext cx="77724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539640" y="2924280"/>
            <a:ext cx="777240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Заголовок 1"/>
          <p:cNvSpPr/>
          <p:nvPr/>
        </p:nvSpPr>
        <p:spPr>
          <a:xfrm>
            <a:off x="539640" y="1197000"/>
            <a:ext cx="777240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7"/>
          <p:cNvSpPr/>
          <p:nvPr/>
        </p:nvSpPr>
        <p:spPr>
          <a:xfrm>
            <a:off x="468360" y="3141720"/>
            <a:ext cx="84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риентирован на </a:t>
            </a: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самостоятельную деятельность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индивидуальную, парную, групповую, которую участники выполняют </a:t>
            </a: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в течение определенного отрезка време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от метод всегда предполагает </a:t>
            </a: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решен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акой – либо </a:t>
            </a: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проблем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получение </a:t>
            </a: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результ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от результат </a:t>
            </a: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можно увидеть, осмыслить, применить в реальной жиз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3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8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2160" y="404640"/>
            <a:ext cx="77724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ПРОЕКТ – ЭТО :</a:t>
            </a:r>
            <a:br>
              <a:rPr sz="4000"/>
            </a:br>
            <a:br>
              <a:rPr sz="4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 ПРОБЛЕМА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 ПРОЕКТИРОВАНИЕ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ПЛАНИРОВАНИЕ)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. ПОИСК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ФОРМАЦИИ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. ПРОДУКТ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. ПОРТФОЛИО  ПРОЕКТА –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ПКА, В КОТОРОЙ СОБРАНЫ ВСЕ РАБОЧИЕ МАТЕРИАЛЫ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6. ПРЕЗЕНТАЦИЯ</a:t>
            </a:r>
            <a:br>
              <a:rPr sz="2000"/>
            </a:br>
            <a:br>
              <a:rPr sz="2000"/>
            </a:br>
            <a:br>
              <a:rPr sz="4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ОБЕСПЕЧЕНИЕ ПСИХОЛОГИЧЕСКОГО БЛАГОПОЛУЧИЯ  И ЗДОРОВЬЯ ДЕТЕЙ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1280" y="5490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Задачи развития ребенк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Заголовок 1"/>
          <p:cNvSpPr/>
          <p:nvPr/>
        </p:nvSpPr>
        <p:spPr>
          <a:xfrm>
            <a:off x="611280" y="2781360"/>
            <a:ext cx="77724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 РАЗВИТИЕ ПОЗНАВАТЕЛЬНЫХ СПОСОБНОСТЕЙ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539640" y="3789360"/>
            <a:ext cx="77724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. РАЗВИТИЕ ТВОРЧЕСКОГО МЫШЛЕНИЯ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Заголовок 1"/>
          <p:cNvSpPr/>
          <p:nvPr/>
        </p:nvSpPr>
        <p:spPr>
          <a:xfrm>
            <a:off x="611280" y="4869000"/>
            <a:ext cx="77724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. РАЗВИТИЕ КОММУНИКАТИВНЫХ НАВЫКОВ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9000"/>
                            </p:stCondLst>
                            <p:childTnLst>
                              <p:par>
                                <p:cTn id="1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Задачи исследовательской деятельности</a:t>
            </a:r>
            <a:br>
              <a:rPr sz="2800"/>
            </a:br>
            <a:r>
              <a:rPr b="0" i="1" lang="ru-RU" sz="2800" spc="-1" strike="noStrike">
                <a:solidFill>
                  <a:srgbClr val="ffc000"/>
                </a:solidFill>
                <a:latin typeface="Arial"/>
              </a:rPr>
              <a:t>(специфичны для каждого возраст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ffff"/>
                </a:solidFill>
                <a:uFillTx/>
                <a:latin typeface="Arial"/>
              </a:rPr>
              <a:t>В младшем дошкольном возрасте – это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Содержимое 2"/>
          <p:cNvSpPr/>
          <p:nvPr/>
        </p:nvSpPr>
        <p:spPr>
          <a:xfrm>
            <a:off x="539640" y="249228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- Вхождение в проблемную игровую ситуацию (ведущая роль педагога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Содержимое 2"/>
          <p:cNvSpPr/>
          <p:nvPr/>
        </p:nvSpPr>
        <p:spPr>
          <a:xfrm>
            <a:off x="611280" y="350028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- Активизация желания искать пути разрешения проблемной ситуации (вместе с педагогом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Содержимое 2"/>
          <p:cNvSpPr/>
          <p:nvPr/>
        </p:nvSpPr>
        <p:spPr>
          <a:xfrm>
            <a:off x="684360" y="465300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Формирование начальных предпосылок исследовательской деятельности 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(практические опыты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Содержимое 2"/>
          <p:cNvSpPr/>
          <p:nvPr/>
        </p:nvSpPr>
        <p:spPr>
          <a:xfrm>
            <a:off x="611280" y="4724280"/>
            <a:ext cx="8229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800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Задачи исследовательской деятельности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268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ffff"/>
                </a:solidFill>
                <a:uFillTx/>
                <a:latin typeface="Arial"/>
              </a:rPr>
              <a:t>В старшем дошкольном возрасте – это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Содержимое 2"/>
          <p:cNvSpPr/>
          <p:nvPr/>
        </p:nvSpPr>
        <p:spPr>
          <a:xfrm>
            <a:off x="539640" y="177336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ирование предпосылок поисковой деятельности, интеллектуальной инициатив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Содержимое 2"/>
          <p:cNvSpPr/>
          <p:nvPr/>
        </p:nvSpPr>
        <p:spPr>
          <a:xfrm>
            <a:off x="611280" y="270828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тие умения определять возможные методы решения проблемы с помощью взрослого, а затем и самостоятель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Содержимое 2"/>
          <p:cNvSpPr/>
          <p:nvPr/>
        </p:nvSpPr>
        <p:spPr>
          <a:xfrm>
            <a:off x="684360" y="3789360"/>
            <a:ext cx="8229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ирование умения применять данные методы, способствующие решению поставленной задач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использованием различных вариан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Содержимое 2"/>
          <p:cNvSpPr/>
          <p:nvPr/>
        </p:nvSpPr>
        <p:spPr>
          <a:xfrm>
            <a:off x="611280" y="4724280"/>
            <a:ext cx="8229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Содержимое 2"/>
          <p:cNvSpPr/>
          <p:nvPr/>
        </p:nvSpPr>
        <p:spPr>
          <a:xfrm>
            <a:off x="684360" y="5013360"/>
            <a:ext cx="82296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тие желания пользоваться специальной терминологией, ведение конструктивной бесед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роцессе совместной исследовательской 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700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c000"/>
                </a:solidFill>
                <a:latin typeface="Arial"/>
              </a:rPr>
              <a:t>Основные требования к использованию метода проектов в детском саду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1. В основе любого проекта лежит проблема, для решения которой требуется исследовательский поиск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Содержимое 2"/>
          <p:cNvSpPr/>
          <p:nvPr/>
        </p:nvSpPr>
        <p:spPr>
          <a:xfrm>
            <a:off x="611280" y="2781360"/>
            <a:ext cx="82296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2. Проект – это игра «всерьез», результаты которой значимы для детей и взрослых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Содержимое 2"/>
          <p:cNvSpPr/>
          <p:nvPr/>
        </p:nvSpPr>
        <p:spPr>
          <a:xfrm>
            <a:off x="611280" y="3716280"/>
            <a:ext cx="822960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3. Обязательное составляющее проекта – детская самостоятельность (при поддержке педагога), сотворчество ребят и взрослых, развитие коммуникативных способностей детей, познавательных и творческих навыков, применение дошкольниками полученных знаний на практике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3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2T11:27:20Z</dcterms:created>
  <dc:creator>Zver</dc:creator>
  <dc:description/>
  <dc:language>en-US</dc:language>
  <cp:lastModifiedBy>Zver</cp:lastModifiedBy>
  <dcterms:modified xsi:type="dcterms:W3CDTF">2012-03-03T16:22:47Z</dcterms:modified>
  <cp:revision>27</cp:revision>
  <dc:subject/>
  <dc:title>Слайд 1</dc:title>
</cp:coreProperties>
</file>